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6A7C1-B1A4-4B92-9485-EC2EB859A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4DC91-EF7E-4F5C-99F0-2E55B3F3A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21A1A-7AF6-4649-AE1C-591C11F39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4B258-48E8-4091-8DF1-9FDB5E64F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A8F68-5675-40EE-80C3-A73E11C5D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832C4-9563-41FA-96B9-F5E908514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EF744-2FAF-476C-850E-673C5A5E4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F3447-DC87-4E74-ACA5-B65FDE9F2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CF8E6-DE62-4F5E-A26F-9F062B3B8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4A43C-C3CA-422D-B8F6-7B161A436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29336-E38D-4528-BC9C-1B4D7597A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1E262-9385-4B57-ABA6-EADED04E5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D371-BCA9-4788-A19E-3CA28A26C81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tuit.uz/" TargetMode="External"/><Relationship Id="rId2" Type="http://schemas.openxmlformats.org/officeDocument/2006/relationships/hyperlink" Target="http://tuit.uz/" TargetMode="External"/><Relationship Id="rId3" Type="http://schemas.openxmlformats.org/officeDocument/2006/relationships/hyperlink" Target="http://edu.uz/" TargetMode="External"/><Relationship Id="rId4" Type="http://schemas.openxmlformats.org/officeDocument/2006/relationships/hyperlink" Target="http://edu.uz/" TargetMode="External"/><Relationship Id="rId5" Type="http://schemas.openxmlformats.org/officeDocument/2006/relationships/hyperlink" Target="http://edu.uz/" TargetMode="External"/><Relationship Id="rId6" Type="http://schemas.openxmlformats.org/officeDocument/2006/relationships/hyperlink" Target="http://edu.uz/" TargetMode="External"/><Relationship Id="rId7" Type="http://schemas.openxmlformats.org/officeDocument/2006/relationships/hyperlink" Target="http://edu.uz/"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аннинг электрон ўқув-</a:t>
            </a:r>
            <a:r>
              <a:rPr b="1" lang="uz-Cyrl-UZ" sz="3200" spc="-1" strike="noStrike">
                <a:solidFill>
                  <a:srgbClr val="000000"/>
                </a:solidFill>
                <a:latin typeface="Arial"/>
              </a:rPr>
              <a:t>методик </a:t>
            </a:r>
            <a:r>
              <a:rPr b="1" lang="ru-RU" sz="3200" spc="-1" strike="noStrike">
                <a:solidFill>
                  <a:srgbClr val="000000"/>
                </a:solidFill>
                <a:latin typeface="Arial"/>
              </a:rPr>
              <a:t>мажмуаси  - педагогнинг касбий ахборот майдонини компоненти сифатида </a:t>
            </a:r>
            <a:endParaRPr b="0" lang="en-US" sz="3200" spc="-1" strike="noStrike">
              <a:solidFill>
                <a:srgbClr val="000000"/>
              </a:solidFill>
              <a:latin typeface="Arial"/>
            </a:endParaRPr>
          </a:p>
        </p:txBody>
      </p:sp>
      <p:pic>
        <p:nvPicPr>
          <p:cNvPr id="42" name="Содержимое 6" descr=""/>
          <p:cNvPicPr/>
          <p:nvPr/>
        </p:nvPicPr>
        <p:blipFill>
          <a:blip r:embed="rId1"/>
          <a:stretch/>
        </p:blipFill>
        <p:spPr>
          <a:xfrm>
            <a:off x="285840" y="4000680"/>
            <a:ext cx="3571920" cy="2433600"/>
          </a:xfrm>
          <a:prstGeom prst="rect">
            <a:avLst/>
          </a:prstGeom>
          <a:ln w="0">
            <a:noFill/>
          </a:ln>
        </p:spPr>
      </p:pic>
      <p:grpSp>
        <p:nvGrpSpPr>
          <p:cNvPr id="43" name="Group 3"/>
          <p:cNvGrpSpPr/>
          <p:nvPr/>
        </p:nvGrpSpPr>
        <p:grpSpPr>
          <a:xfrm>
            <a:off x="1428480" y="2000160"/>
            <a:ext cx="6659640" cy="2176560"/>
            <a:chOff x="1428480" y="2000160"/>
            <a:chExt cx="6659640" cy="2176560"/>
          </a:xfrm>
        </p:grpSpPr>
        <p:sp>
          <p:nvSpPr>
            <p:cNvPr id="44" name="Cloud"/>
            <p:cNvSpPr/>
            <p:nvPr/>
          </p:nvSpPr>
          <p:spPr>
            <a:xfrm>
              <a:off x="2984760" y="2169720"/>
              <a:ext cx="3360960" cy="1719000"/>
            </a:xfrm>
            <a:custGeom>
              <a:avLst/>
              <a:gdLst>
                <a:gd name="textAreaLeft" fmla="*/ 462600 w 3360960"/>
                <a:gd name="textAreaRight" fmla="*/ 2658240 w 3360960"/>
                <a:gd name="textAreaTop" fmla="*/ 259200 h 1719000"/>
                <a:gd name="textAreaBottom" fmla="*/ 1379880 h 17190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ddf2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5"/>
            <p:cNvGrpSpPr/>
            <p:nvPr/>
          </p:nvGrpSpPr>
          <p:grpSpPr>
            <a:xfrm>
              <a:off x="6345720" y="2000160"/>
              <a:ext cx="1742400" cy="729360"/>
              <a:chOff x="6345720" y="2000160"/>
              <a:chExt cx="1742400" cy="729360"/>
            </a:xfrm>
          </p:grpSpPr>
          <p:sp>
            <p:nvSpPr>
              <p:cNvPr id="46" name="Oval 6"/>
              <p:cNvSpPr/>
              <p:nvPr/>
            </p:nvSpPr>
            <p:spPr>
              <a:xfrm>
                <a:off x="6345720" y="2000160"/>
                <a:ext cx="1742400" cy="64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7"/>
              <p:cNvGrpSpPr/>
              <p:nvPr/>
            </p:nvGrpSpPr>
            <p:grpSpPr>
              <a:xfrm>
                <a:off x="6396120" y="2048760"/>
                <a:ext cx="1330920" cy="390960"/>
                <a:chOff x="6396120" y="2048760"/>
                <a:chExt cx="1330920" cy="390960"/>
              </a:xfrm>
            </p:grpSpPr>
            <p:grpSp>
              <p:nvGrpSpPr>
                <p:cNvPr id="48" name="Group 8"/>
                <p:cNvGrpSpPr/>
                <p:nvPr/>
              </p:nvGrpSpPr>
              <p:grpSpPr>
                <a:xfrm>
                  <a:off x="6396120" y="2199600"/>
                  <a:ext cx="422640" cy="240120"/>
                  <a:chOff x="6396120" y="2199600"/>
                  <a:chExt cx="422640" cy="240120"/>
                </a:xfrm>
              </p:grpSpPr>
              <p:sp>
                <p:nvSpPr>
                  <p:cNvPr id="49" name="Rectangle 9"/>
                  <p:cNvSpPr/>
                  <p:nvPr/>
                </p:nvSpPr>
                <p:spPr>
                  <a:xfrm flipH="1">
                    <a:off x="6723360" y="237528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flipH="1">
                    <a:off x="6698520" y="229248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 name="Freeform 11"/>
                  <p:cNvSpPr/>
                  <p:nvPr/>
                </p:nvSpPr>
                <p:spPr>
                  <a:xfrm flipH="1">
                    <a:off x="6668280" y="235548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2" name="Freeform 12"/>
                  <p:cNvSpPr/>
                  <p:nvPr/>
                </p:nvSpPr>
                <p:spPr>
                  <a:xfrm flipH="1">
                    <a:off x="6784200" y="227304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3" name="Freeform 13"/>
                  <p:cNvSpPr/>
                  <p:nvPr/>
                </p:nvSpPr>
                <p:spPr>
                  <a:xfrm flipH="1">
                    <a:off x="6662880" y="234360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 name="Freeform 14"/>
                  <p:cNvSpPr/>
                  <p:nvPr/>
                </p:nvSpPr>
                <p:spPr>
                  <a:xfrm flipH="1">
                    <a:off x="6635880" y="238860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 name="Freeform 15"/>
                  <p:cNvSpPr/>
                  <p:nvPr/>
                </p:nvSpPr>
                <p:spPr>
                  <a:xfrm flipH="1">
                    <a:off x="6719040" y="236376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6" name="Freeform 16"/>
                  <p:cNvSpPr/>
                  <p:nvPr/>
                </p:nvSpPr>
                <p:spPr>
                  <a:xfrm flipH="1">
                    <a:off x="6731640" y="236700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 name="Freeform 17"/>
                  <p:cNvSpPr/>
                  <p:nvPr/>
                </p:nvSpPr>
                <p:spPr>
                  <a:xfrm flipH="1">
                    <a:off x="6613560" y="229572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8" name="Freeform 18"/>
                  <p:cNvSpPr/>
                  <p:nvPr/>
                </p:nvSpPr>
                <p:spPr>
                  <a:xfrm flipH="1">
                    <a:off x="6663240" y="229968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9" name="Freeform 19"/>
                  <p:cNvSpPr/>
                  <p:nvPr/>
                </p:nvSpPr>
                <p:spPr>
                  <a:xfrm flipH="1">
                    <a:off x="6661800" y="224604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0" name="Freeform 20"/>
                  <p:cNvSpPr/>
                  <p:nvPr/>
                </p:nvSpPr>
                <p:spPr>
                  <a:xfrm flipH="1">
                    <a:off x="6663240" y="229968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1" name="Freeform 21"/>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2" name="Freeform 22"/>
                  <p:cNvSpPr/>
                  <p:nvPr/>
                </p:nvSpPr>
                <p:spPr>
                  <a:xfrm flipH="1">
                    <a:off x="6677640" y="224532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3" name="Freeform 23"/>
                  <p:cNvSpPr/>
                  <p:nvPr/>
                </p:nvSpPr>
                <p:spPr>
                  <a:xfrm flipH="1">
                    <a:off x="6604200" y="231948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4"/>
                  <p:cNvSpPr/>
                  <p:nvPr/>
                </p:nvSpPr>
                <p:spPr>
                  <a:xfrm flipH="1">
                    <a:off x="6655320" y="24051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5" name="Freeform 25"/>
                  <p:cNvSpPr/>
                  <p:nvPr/>
                </p:nvSpPr>
                <p:spPr>
                  <a:xfrm flipH="1">
                    <a:off x="6750720" y="23328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6" name="Freeform 26"/>
                  <p:cNvSpPr/>
                  <p:nvPr/>
                </p:nvSpPr>
                <p:spPr>
                  <a:xfrm flipH="1">
                    <a:off x="6604200" y="240300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7" name="Freeform 27"/>
                  <p:cNvSpPr/>
                  <p:nvPr/>
                </p:nvSpPr>
                <p:spPr>
                  <a:xfrm flipH="1">
                    <a:off x="6655320" y="24051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8" name="Freeform 28"/>
                  <p:cNvSpPr/>
                  <p:nvPr/>
                </p:nvSpPr>
                <p:spPr>
                  <a:xfrm flipH="1">
                    <a:off x="6603120" y="240696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 name="Freeform 29"/>
                  <p:cNvSpPr/>
                  <p:nvPr/>
                </p:nvSpPr>
                <p:spPr>
                  <a:xfrm flipH="1">
                    <a:off x="6603120" y="241884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0" name="Freeform 30"/>
                  <p:cNvSpPr/>
                  <p:nvPr/>
                </p:nvSpPr>
                <p:spPr>
                  <a:xfrm flipH="1">
                    <a:off x="6600240" y="231840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31"/>
                  <p:cNvSpPr/>
                  <p:nvPr/>
                </p:nvSpPr>
                <p:spPr>
                  <a:xfrm flipH="1">
                    <a:off x="6607080" y="232128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32"/>
                  <p:cNvSpPr/>
                  <p:nvPr/>
                </p:nvSpPr>
                <p:spPr>
                  <a:xfrm flipH="1">
                    <a:off x="6680880" y="24120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3" name="Freeform 33"/>
                  <p:cNvSpPr/>
                  <p:nvPr/>
                </p:nvSpPr>
                <p:spPr>
                  <a:xfrm flipH="1">
                    <a:off x="6750720" y="23328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4" name="Freeform 34"/>
                  <p:cNvSpPr/>
                  <p:nvPr/>
                </p:nvSpPr>
                <p:spPr>
                  <a:xfrm flipH="1">
                    <a:off x="6632280" y="240912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5" name="Freeform 35"/>
                  <p:cNvSpPr/>
                  <p:nvPr/>
                </p:nvSpPr>
                <p:spPr>
                  <a:xfrm flipH="1">
                    <a:off x="6680880" y="241200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6" name="Freeform 36"/>
                  <p:cNvSpPr/>
                  <p:nvPr/>
                </p:nvSpPr>
                <p:spPr>
                  <a:xfrm flipH="1">
                    <a:off x="6631560" y="241308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 name="Freeform 37"/>
                  <p:cNvSpPr/>
                  <p:nvPr/>
                </p:nvSpPr>
                <p:spPr>
                  <a:xfrm flipH="1">
                    <a:off x="6632280" y="242460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8" name="Freeform 38"/>
                  <p:cNvSpPr/>
                  <p:nvPr/>
                </p:nvSpPr>
                <p:spPr>
                  <a:xfrm flipH="1">
                    <a:off x="6605280" y="231948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39"/>
                  <p:cNvSpPr/>
                  <p:nvPr/>
                </p:nvSpPr>
                <p:spPr>
                  <a:xfrm flipH="1">
                    <a:off x="6623640" y="220104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0" name="Freeform 40"/>
                  <p:cNvSpPr/>
                  <p:nvPr/>
                </p:nvSpPr>
                <p:spPr>
                  <a:xfrm flipH="1">
                    <a:off x="6684120" y="22392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1" name="Freeform 41"/>
                  <p:cNvSpPr/>
                  <p:nvPr/>
                </p:nvSpPr>
                <p:spPr>
                  <a:xfrm flipH="1">
                    <a:off x="6665400" y="221004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2" name="Freeform 42"/>
                  <p:cNvSpPr/>
                  <p:nvPr/>
                </p:nvSpPr>
                <p:spPr>
                  <a:xfrm flipH="1">
                    <a:off x="6642360" y="223308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3" name="Freeform 43"/>
                  <p:cNvSpPr/>
                  <p:nvPr/>
                </p:nvSpPr>
                <p:spPr>
                  <a:xfrm flipH="1">
                    <a:off x="6629400" y="222228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4" name="Freeform 44"/>
                  <p:cNvSpPr/>
                  <p:nvPr/>
                </p:nvSpPr>
                <p:spPr>
                  <a:xfrm flipH="1">
                    <a:off x="6634440" y="222444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5" name="Freeform 45"/>
                  <p:cNvSpPr/>
                  <p:nvPr/>
                </p:nvSpPr>
                <p:spPr>
                  <a:xfrm flipH="1">
                    <a:off x="6615000" y="219960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6" name="Freeform 46"/>
                  <p:cNvSpPr/>
                  <p:nvPr/>
                </p:nvSpPr>
                <p:spPr>
                  <a:xfrm flipH="1">
                    <a:off x="6665400" y="221004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7" name="Freeform 47"/>
                  <p:cNvSpPr/>
                  <p:nvPr/>
                </p:nvSpPr>
                <p:spPr>
                  <a:xfrm flipH="1">
                    <a:off x="6670800" y="223740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48"/>
                  <p:cNvSpPr/>
                  <p:nvPr/>
                </p:nvSpPr>
                <p:spPr>
                  <a:xfrm flipH="1">
                    <a:off x="6684120" y="22392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9" name="Freeform 49"/>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0" name="Freeform 50"/>
                  <p:cNvSpPr/>
                  <p:nvPr/>
                </p:nvSpPr>
                <p:spPr>
                  <a:xfrm flipH="1">
                    <a:off x="6750720" y="23328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1" name="Freeform 51"/>
                  <p:cNvSpPr/>
                  <p:nvPr/>
                </p:nvSpPr>
                <p:spPr>
                  <a:xfrm flipH="1">
                    <a:off x="6695640" y="229572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2" name="Freeform 52"/>
                  <p:cNvSpPr/>
                  <p:nvPr/>
                </p:nvSpPr>
                <p:spPr>
                  <a:xfrm flipH="1">
                    <a:off x="6666840" y="222876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93" name="Freeform 53"/>
                  <p:cNvSpPr/>
                  <p:nvPr/>
                </p:nvSpPr>
                <p:spPr>
                  <a:xfrm flipH="1">
                    <a:off x="6731640" y="229680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4" name="Freeform 54"/>
                  <p:cNvSpPr/>
                  <p:nvPr/>
                </p:nvSpPr>
                <p:spPr>
                  <a:xfrm flipH="1">
                    <a:off x="6696360" y="230616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Freeform 55"/>
                  <p:cNvSpPr/>
                  <p:nvPr/>
                </p:nvSpPr>
                <p:spPr>
                  <a:xfrm flipH="1">
                    <a:off x="6711120" y="230148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6" name="Freeform 56"/>
                  <p:cNvSpPr/>
                  <p:nvPr/>
                </p:nvSpPr>
                <p:spPr>
                  <a:xfrm flipH="1">
                    <a:off x="6575400" y="229968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7" name="Freeform 57"/>
                  <p:cNvSpPr/>
                  <p:nvPr/>
                </p:nvSpPr>
                <p:spPr>
                  <a:xfrm flipH="1">
                    <a:off x="6625080" y="23050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8" name="Freeform 58"/>
                  <p:cNvSpPr/>
                  <p:nvPr/>
                </p:nvSpPr>
                <p:spPr>
                  <a:xfrm flipH="1">
                    <a:off x="6624360" y="224460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9" name="Freeform 59"/>
                  <p:cNvSpPr/>
                  <p:nvPr/>
                </p:nvSpPr>
                <p:spPr>
                  <a:xfrm flipH="1">
                    <a:off x="6625080" y="23050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0" name="Freeform 60"/>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1" name="Freeform 61"/>
                  <p:cNvSpPr/>
                  <p:nvPr/>
                </p:nvSpPr>
                <p:spPr>
                  <a:xfrm flipH="1">
                    <a:off x="6677280" y="224388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 name="Freeform 62"/>
                  <p:cNvSpPr/>
                  <p:nvPr/>
                </p:nvSpPr>
                <p:spPr>
                  <a:xfrm flipH="1">
                    <a:off x="6402960" y="242388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3" name="Rectangle 63"/>
                  <p:cNvSpPr/>
                  <p:nvPr/>
                </p:nvSpPr>
                <p:spPr>
                  <a:xfrm flipH="1">
                    <a:off x="6408720" y="232020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4"/>
                  <p:cNvSpPr/>
                  <p:nvPr/>
                </p:nvSpPr>
                <p:spPr>
                  <a:xfrm flipH="1">
                    <a:off x="6396120" y="231228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5"/>
                  <p:cNvSpPr/>
                  <p:nvPr/>
                </p:nvSpPr>
                <p:spPr>
                  <a:xfrm flipH="1">
                    <a:off x="6479640" y="235692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66"/>
                  <p:cNvSpPr/>
                  <p:nvPr/>
                </p:nvSpPr>
                <p:spPr>
                  <a:xfrm flipH="1">
                    <a:off x="6508080" y="234252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7" name="Rectangle 67"/>
                  <p:cNvSpPr/>
                  <p:nvPr/>
                </p:nvSpPr>
                <p:spPr>
                  <a:xfrm flipH="1">
                    <a:off x="6409080" y="229500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68"/>
                  <p:cNvSpPr/>
                  <p:nvPr/>
                </p:nvSpPr>
                <p:spPr>
                  <a:xfrm flipH="1">
                    <a:off x="6423840" y="224064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9" name="Freeform 69"/>
                  <p:cNvSpPr/>
                  <p:nvPr/>
                </p:nvSpPr>
                <p:spPr>
                  <a:xfrm flipH="1">
                    <a:off x="6527160" y="229500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 name="Freeform 70"/>
                  <p:cNvSpPr/>
                  <p:nvPr/>
                </p:nvSpPr>
                <p:spPr>
                  <a:xfrm flipH="1">
                    <a:off x="6450840" y="224064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 name="Freeform 71"/>
                  <p:cNvSpPr/>
                  <p:nvPr/>
                </p:nvSpPr>
                <p:spPr>
                  <a:xfrm flipH="1">
                    <a:off x="6629040" y="230904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2" name="Freeform 72"/>
                  <p:cNvSpPr/>
                  <p:nvPr/>
                </p:nvSpPr>
                <p:spPr>
                  <a:xfrm flipH="1">
                    <a:off x="6539040" y="230400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3" name="Freeform 73"/>
                  <p:cNvSpPr/>
                  <p:nvPr/>
                </p:nvSpPr>
                <p:spPr>
                  <a:xfrm flipH="1">
                    <a:off x="6438600" y="229104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14" name="Freeform 74"/>
                  <p:cNvSpPr/>
                  <p:nvPr/>
                </p:nvSpPr>
                <p:spPr>
                  <a:xfrm flipH="1">
                    <a:off x="6492960" y="224532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 name="Freeform 75"/>
                  <p:cNvSpPr/>
                  <p:nvPr/>
                </p:nvSpPr>
                <p:spPr>
                  <a:xfrm flipH="1">
                    <a:off x="6492600" y="224604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116" name="Group 76"/>
                <p:cNvGrpSpPr/>
                <p:nvPr/>
              </p:nvGrpSpPr>
              <p:grpSpPr>
                <a:xfrm>
                  <a:off x="7304400" y="2048760"/>
                  <a:ext cx="422640" cy="240120"/>
                  <a:chOff x="7304400" y="2048760"/>
                  <a:chExt cx="422640" cy="240120"/>
                </a:xfrm>
              </p:grpSpPr>
              <p:sp>
                <p:nvSpPr>
                  <p:cNvPr id="117" name="Rectangle 77"/>
                  <p:cNvSpPr/>
                  <p:nvPr/>
                </p:nvSpPr>
                <p:spPr>
                  <a:xfrm flipH="1">
                    <a:off x="7631640" y="222444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78"/>
                  <p:cNvSpPr/>
                  <p:nvPr/>
                </p:nvSpPr>
                <p:spPr>
                  <a:xfrm flipH="1">
                    <a:off x="7606800" y="214164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9" name="Freeform 79"/>
                  <p:cNvSpPr/>
                  <p:nvPr/>
                </p:nvSpPr>
                <p:spPr>
                  <a:xfrm flipH="1">
                    <a:off x="7576560" y="220464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0" name="Freeform 80"/>
                  <p:cNvSpPr/>
                  <p:nvPr/>
                </p:nvSpPr>
                <p:spPr>
                  <a:xfrm flipH="1">
                    <a:off x="7692480" y="212220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1" name="Freeform 81"/>
                  <p:cNvSpPr/>
                  <p:nvPr/>
                </p:nvSpPr>
                <p:spPr>
                  <a:xfrm flipH="1">
                    <a:off x="7571160" y="219276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22" name="Freeform 82"/>
                  <p:cNvSpPr/>
                  <p:nvPr/>
                </p:nvSpPr>
                <p:spPr>
                  <a:xfrm flipH="1">
                    <a:off x="7544160" y="223776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3" name="Freeform 83"/>
                  <p:cNvSpPr/>
                  <p:nvPr/>
                </p:nvSpPr>
                <p:spPr>
                  <a:xfrm flipH="1">
                    <a:off x="7627320" y="221292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4" name="Freeform 84"/>
                  <p:cNvSpPr/>
                  <p:nvPr/>
                </p:nvSpPr>
                <p:spPr>
                  <a:xfrm flipH="1">
                    <a:off x="7639920" y="221616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5" name="Freeform 85"/>
                  <p:cNvSpPr/>
                  <p:nvPr/>
                </p:nvSpPr>
                <p:spPr>
                  <a:xfrm flipH="1">
                    <a:off x="7521840" y="214488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6" name="Freeform 86"/>
                  <p:cNvSpPr/>
                  <p:nvPr/>
                </p:nvSpPr>
                <p:spPr>
                  <a:xfrm flipH="1">
                    <a:off x="7571520" y="214884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7" name="Freeform 87"/>
                  <p:cNvSpPr/>
                  <p:nvPr/>
                </p:nvSpPr>
                <p:spPr>
                  <a:xfrm flipH="1">
                    <a:off x="7570080" y="209520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28" name="Freeform 88"/>
                  <p:cNvSpPr/>
                  <p:nvPr/>
                </p:nvSpPr>
                <p:spPr>
                  <a:xfrm flipH="1">
                    <a:off x="7571520" y="214884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9" name="Freeform 89"/>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0" name="Freeform 90"/>
                  <p:cNvSpPr/>
                  <p:nvPr/>
                </p:nvSpPr>
                <p:spPr>
                  <a:xfrm flipH="1">
                    <a:off x="7585920" y="209448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1" name="Freeform 91"/>
                  <p:cNvSpPr/>
                  <p:nvPr/>
                </p:nvSpPr>
                <p:spPr>
                  <a:xfrm flipH="1">
                    <a:off x="7512480" y="216864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2"/>
                  <p:cNvSpPr/>
                  <p:nvPr/>
                </p:nvSpPr>
                <p:spPr>
                  <a:xfrm flipH="1">
                    <a:off x="7563600" y="2254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3" name="Freeform 93"/>
                  <p:cNvSpPr/>
                  <p:nvPr/>
                </p:nvSpPr>
                <p:spPr>
                  <a:xfrm flipH="1">
                    <a:off x="7659000" y="21819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4" name="Freeform 94"/>
                  <p:cNvSpPr/>
                  <p:nvPr/>
                </p:nvSpPr>
                <p:spPr>
                  <a:xfrm flipH="1">
                    <a:off x="7512480" y="225216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5" name="Freeform 95"/>
                  <p:cNvSpPr/>
                  <p:nvPr/>
                </p:nvSpPr>
                <p:spPr>
                  <a:xfrm flipH="1">
                    <a:off x="7563600" y="2254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6" name="Freeform 96"/>
                  <p:cNvSpPr/>
                  <p:nvPr/>
                </p:nvSpPr>
                <p:spPr>
                  <a:xfrm flipH="1">
                    <a:off x="7511400" y="225612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7" name="Freeform 97"/>
                  <p:cNvSpPr/>
                  <p:nvPr/>
                </p:nvSpPr>
                <p:spPr>
                  <a:xfrm flipH="1">
                    <a:off x="7511400" y="226800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8" name="Freeform 98"/>
                  <p:cNvSpPr/>
                  <p:nvPr/>
                </p:nvSpPr>
                <p:spPr>
                  <a:xfrm flipH="1">
                    <a:off x="7508520" y="216756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99"/>
                  <p:cNvSpPr/>
                  <p:nvPr/>
                </p:nvSpPr>
                <p:spPr>
                  <a:xfrm flipH="1">
                    <a:off x="7515360" y="217044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00"/>
                  <p:cNvSpPr/>
                  <p:nvPr/>
                </p:nvSpPr>
                <p:spPr>
                  <a:xfrm flipH="1">
                    <a:off x="7589160" y="226116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1" name="Freeform 101"/>
                  <p:cNvSpPr/>
                  <p:nvPr/>
                </p:nvSpPr>
                <p:spPr>
                  <a:xfrm flipH="1">
                    <a:off x="7659000" y="218196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2" name="Freeform 102"/>
                  <p:cNvSpPr/>
                  <p:nvPr/>
                </p:nvSpPr>
                <p:spPr>
                  <a:xfrm flipH="1">
                    <a:off x="7540560" y="225828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3" name="Freeform 103"/>
                  <p:cNvSpPr/>
                  <p:nvPr/>
                </p:nvSpPr>
                <p:spPr>
                  <a:xfrm flipH="1">
                    <a:off x="7589160" y="226116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Freeform 104"/>
                  <p:cNvSpPr/>
                  <p:nvPr/>
                </p:nvSpPr>
                <p:spPr>
                  <a:xfrm flipH="1">
                    <a:off x="7539840" y="226224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 name="Freeform 105"/>
                  <p:cNvSpPr/>
                  <p:nvPr/>
                </p:nvSpPr>
                <p:spPr>
                  <a:xfrm flipH="1">
                    <a:off x="7540560" y="227376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6" name="Freeform 106"/>
                  <p:cNvSpPr/>
                  <p:nvPr/>
                </p:nvSpPr>
                <p:spPr>
                  <a:xfrm flipH="1">
                    <a:off x="7513560" y="216864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07"/>
                  <p:cNvSpPr/>
                  <p:nvPr/>
                </p:nvSpPr>
                <p:spPr>
                  <a:xfrm flipH="1">
                    <a:off x="7531920" y="205020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Freeform 108"/>
                  <p:cNvSpPr/>
                  <p:nvPr/>
                </p:nvSpPr>
                <p:spPr>
                  <a:xfrm flipH="1">
                    <a:off x="7592400" y="20883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49" name="Freeform 109"/>
                  <p:cNvSpPr/>
                  <p:nvPr/>
                </p:nvSpPr>
                <p:spPr>
                  <a:xfrm flipH="1">
                    <a:off x="7573680" y="205920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0" name="Freeform 110"/>
                  <p:cNvSpPr/>
                  <p:nvPr/>
                </p:nvSpPr>
                <p:spPr>
                  <a:xfrm flipH="1">
                    <a:off x="7550640" y="208224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1" name="Freeform 111"/>
                  <p:cNvSpPr/>
                  <p:nvPr/>
                </p:nvSpPr>
                <p:spPr>
                  <a:xfrm flipH="1">
                    <a:off x="7537680" y="207144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52" name="Freeform 112"/>
                  <p:cNvSpPr/>
                  <p:nvPr/>
                </p:nvSpPr>
                <p:spPr>
                  <a:xfrm flipH="1">
                    <a:off x="7542720" y="207360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3" name="Freeform 113"/>
                  <p:cNvSpPr/>
                  <p:nvPr/>
                </p:nvSpPr>
                <p:spPr>
                  <a:xfrm flipH="1">
                    <a:off x="7523280" y="204876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4" name="Freeform 114"/>
                  <p:cNvSpPr/>
                  <p:nvPr/>
                </p:nvSpPr>
                <p:spPr>
                  <a:xfrm flipH="1">
                    <a:off x="7573680" y="205920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5" name="Freeform 115"/>
                  <p:cNvSpPr/>
                  <p:nvPr/>
                </p:nvSpPr>
                <p:spPr>
                  <a:xfrm flipH="1">
                    <a:off x="7579080" y="208656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16"/>
                  <p:cNvSpPr/>
                  <p:nvPr/>
                </p:nvSpPr>
                <p:spPr>
                  <a:xfrm flipH="1">
                    <a:off x="7592400" y="20883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7" name="Freeform 117"/>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8" name="Freeform 118"/>
                  <p:cNvSpPr/>
                  <p:nvPr/>
                </p:nvSpPr>
                <p:spPr>
                  <a:xfrm flipH="1">
                    <a:off x="7659000" y="21819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9" name="Freeform 119"/>
                  <p:cNvSpPr/>
                  <p:nvPr/>
                </p:nvSpPr>
                <p:spPr>
                  <a:xfrm flipH="1">
                    <a:off x="7603920" y="214488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0" name="Freeform 120"/>
                  <p:cNvSpPr/>
                  <p:nvPr/>
                </p:nvSpPr>
                <p:spPr>
                  <a:xfrm flipH="1">
                    <a:off x="7575120" y="207792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61" name="Freeform 121"/>
                  <p:cNvSpPr/>
                  <p:nvPr/>
                </p:nvSpPr>
                <p:spPr>
                  <a:xfrm flipH="1">
                    <a:off x="7639920" y="214596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2" name="Freeform 122"/>
                  <p:cNvSpPr/>
                  <p:nvPr/>
                </p:nvSpPr>
                <p:spPr>
                  <a:xfrm flipH="1">
                    <a:off x="7604640" y="215532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3" name="Freeform 123"/>
                  <p:cNvSpPr/>
                  <p:nvPr/>
                </p:nvSpPr>
                <p:spPr>
                  <a:xfrm flipH="1">
                    <a:off x="7619400" y="215064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4" name="Freeform 124"/>
                  <p:cNvSpPr/>
                  <p:nvPr/>
                </p:nvSpPr>
                <p:spPr>
                  <a:xfrm flipH="1">
                    <a:off x="7483680" y="214884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5" name="Freeform 125"/>
                  <p:cNvSpPr/>
                  <p:nvPr/>
                </p:nvSpPr>
                <p:spPr>
                  <a:xfrm flipH="1">
                    <a:off x="7533360" y="21542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6" name="Freeform 126"/>
                  <p:cNvSpPr/>
                  <p:nvPr/>
                </p:nvSpPr>
                <p:spPr>
                  <a:xfrm flipH="1">
                    <a:off x="7532640" y="209376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7" name="Freeform 127"/>
                  <p:cNvSpPr/>
                  <p:nvPr/>
                </p:nvSpPr>
                <p:spPr>
                  <a:xfrm flipH="1">
                    <a:off x="7533360" y="21542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8" name="Freeform 128"/>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9" name="Freeform 129"/>
                  <p:cNvSpPr/>
                  <p:nvPr/>
                </p:nvSpPr>
                <p:spPr>
                  <a:xfrm flipH="1">
                    <a:off x="7585560" y="209304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0" name="Freeform 130"/>
                  <p:cNvSpPr/>
                  <p:nvPr/>
                </p:nvSpPr>
                <p:spPr>
                  <a:xfrm flipH="1">
                    <a:off x="7311240" y="227304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1" name="Rectangle 131"/>
                  <p:cNvSpPr/>
                  <p:nvPr/>
                </p:nvSpPr>
                <p:spPr>
                  <a:xfrm flipH="1">
                    <a:off x="7317000" y="216936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32"/>
                  <p:cNvSpPr/>
                  <p:nvPr/>
                </p:nvSpPr>
                <p:spPr>
                  <a:xfrm flipH="1">
                    <a:off x="7304400" y="216144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3"/>
                  <p:cNvSpPr/>
                  <p:nvPr/>
                </p:nvSpPr>
                <p:spPr>
                  <a:xfrm flipH="1">
                    <a:off x="7387920" y="220608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34"/>
                  <p:cNvSpPr/>
                  <p:nvPr/>
                </p:nvSpPr>
                <p:spPr>
                  <a:xfrm flipH="1">
                    <a:off x="7416360" y="219168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5" name="Rectangle 135"/>
                  <p:cNvSpPr/>
                  <p:nvPr/>
                </p:nvSpPr>
                <p:spPr>
                  <a:xfrm flipH="1">
                    <a:off x="7317360" y="214416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6"/>
                  <p:cNvSpPr/>
                  <p:nvPr/>
                </p:nvSpPr>
                <p:spPr>
                  <a:xfrm flipH="1">
                    <a:off x="7332120" y="208980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7" name="Freeform 137"/>
                  <p:cNvSpPr/>
                  <p:nvPr/>
                </p:nvSpPr>
                <p:spPr>
                  <a:xfrm flipH="1">
                    <a:off x="7435440" y="214416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 name="Freeform 138"/>
                  <p:cNvSpPr/>
                  <p:nvPr/>
                </p:nvSpPr>
                <p:spPr>
                  <a:xfrm flipH="1">
                    <a:off x="7359120" y="208980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9" name="Freeform 139"/>
                  <p:cNvSpPr/>
                  <p:nvPr/>
                </p:nvSpPr>
                <p:spPr>
                  <a:xfrm flipH="1">
                    <a:off x="7537320" y="215820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Freeform 140"/>
                  <p:cNvSpPr/>
                  <p:nvPr/>
                </p:nvSpPr>
                <p:spPr>
                  <a:xfrm flipH="1">
                    <a:off x="7447320" y="215316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81" name="Freeform 141"/>
                  <p:cNvSpPr/>
                  <p:nvPr/>
                </p:nvSpPr>
                <p:spPr>
                  <a:xfrm flipH="1">
                    <a:off x="7346880" y="214020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82" name="Freeform 142"/>
                  <p:cNvSpPr/>
                  <p:nvPr/>
                </p:nvSpPr>
                <p:spPr>
                  <a:xfrm flipH="1">
                    <a:off x="7401240" y="209448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3" name="Freeform 143"/>
                  <p:cNvSpPr/>
                  <p:nvPr/>
                </p:nvSpPr>
                <p:spPr>
                  <a:xfrm flipH="1">
                    <a:off x="7400880" y="209520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184" name="Group 144"/>
                <p:cNvGrpSpPr/>
                <p:nvPr/>
              </p:nvGrpSpPr>
              <p:grpSpPr>
                <a:xfrm>
                  <a:off x="6833880" y="2130120"/>
                  <a:ext cx="422640" cy="240120"/>
                  <a:chOff x="6833880" y="2130120"/>
                  <a:chExt cx="422640" cy="240120"/>
                </a:xfrm>
              </p:grpSpPr>
              <p:sp>
                <p:nvSpPr>
                  <p:cNvPr id="185" name="Rectangle 145"/>
                  <p:cNvSpPr/>
                  <p:nvPr/>
                </p:nvSpPr>
                <p:spPr>
                  <a:xfrm flipH="1">
                    <a:off x="7161120" y="230580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46"/>
                  <p:cNvSpPr/>
                  <p:nvPr/>
                </p:nvSpPr>
                <p:spPr>
                  <a:xfrm flipH="1">
                    <a:off x="7136280" y="222300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7" name="Freeform 147"/>
                  <p:cNvSpPr/>
                  <p:nvPr/>
                </p:nvSpPr>
                <p:spPr>
                  <a:xfrm flipH="1">
                    <a:off x="7106040" y="228600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8" name="Freeform 148"/>
                  <p:cNvSpPr/>
                  <p:nvPr/>
                </p:nvSpPr>
                <p:spPr>
                  <a:xfrm flipH="1">
                    <a:off x="7221960" y="220356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9" name="Freeform 149"/>
                  <p:cNvSpPr/>
                  <p:nvPr/>
                </p:nvSpPr>
                <p:spPr>
                  <a:xfrm flipH="1">
                    <a:off x="7100640" y="227412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0" name="Freeform 150"/>
                  <p:cNvSpPr/>
                  <p:nvPr/>
                </p:nvSpPr>
                <p:spPr>
                  <a:xfrm flipH="1">
                    <a:off x="7073640" y="231912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 name="Freeform 151"/>
                  <p:cNvSpPr/>
                  <p:nvPr/>
                </p:nvSpPr>
                <p:spPr>
                  <a:xfrm flipH="1">
                    <a:off x="7156800" y="229428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2" name="Freeform 152"/>
                  <p:cNvSpPr/>
                  <p:nvPr/>
                </p:nvSpPr>
                <p:spPr>
                  <a:xfrm flipH="1">
                    <a:off x="7169400" y="229752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3" name="Freeform 153"/>
                  <p:cNvSpPr/>
                  <p:nvPr/>
                </p:nvSpPr>
                <p:spPr>
                  <a:xfrm flipH="1">
                    <a:off x="7051320" y="222624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4" name="Freeform 154"/>
                  <p:cNvSpPr/>
                  <p:nvPr/>
                </p:nvSpPr>
                <p:spPr>
                  <a:xfrm flipH="1">
                    <a:off x="7101000" y="223020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5" name="Freeform 155"/>
                  <p:cNvSpPr/>
                  <p:nvPr/>
                </p:nvSpPr>
                <p:spPr>
                  <a:xfrm flipH="1">
                    <a:off x="7099560" y="217656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96" name="Freeform 156"/>
                  <p:cNvSpPr/>
                  <p:nvPr/>
                </p:nvSpPr>
                <p:spPr>
                  <a:xfrm flipH="1">
                    <a:off x="7101000" y="22302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7" name="Freeform 157"/>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8" name="Freeform 158"/>
                  <p:cNvSpPr/>
                  <p:nvPr/>
                </p:nvSpPr>
                <p:spPr>
                  <a:xfrm flipH="1">
                    <a:off x="7115400" y="217584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9" name="Freeform 159"/>
                  <p:cNvSpPr/>
                  <p:nvPr/>
                </p:nvSpPr>
                <p:spPr>
                  <a:xfrm flipH="1">
                    <a:off x="7041960" y="225000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60"/>
                  <p:cNvSpPr/>
                  <p:nvPr/>
                </p:nvSpPr>
                <p:spPr>
                  <a:xfrm flipH="1">
                    <a:off x="7093080" y="2335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1" name="Freeform 161"/>
                  <p:cNvSpPr/>
                  <p:nvPr/>
                </p:nvSpPr>
                <p:spPr>
                  <a:xfrm flipH="1">
                    <a:off x="7188480" y="2263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2" name="Freeform 162"/>
                  <p:cNvSpPr/>
                  <p:nvPr/>
                </p:nvSpPr>
                <p:spPr>
                  <a:xfrm flipH="1">
                    <a:off x="7041960" y="233352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3" name="Freeform 163"/>
                  <p:cNvSpPr/>
                  <p:nvPr/>
                </p:nvSpPr>
                <p:spPr>
                  <a:xfrm flipH="1">
                    <a:off x="7093080" y="2335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4" name="Freeform 164"/>
                  <p:cNvSpPr/>
                  <p:nvPr/>
                </p:nvSpPr>
                <p:spPr>
                  <a:xfrm flipH="1">
                    <a:off x="7040880" y="233748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5" name="Freeform 165"/>
                  <p:cNvSpPr/>
                  <p:nvPr/>
                </p:nvSpPr>
                <p:spPr>
                  <a:xfrm flipH="1">
                    <a:off x="7040880" y="234936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6" name="Freeform 166"/>
                  <p:cNvSpPr/>
                  <p:nvPr/>
                </p:nvSpPr>
                <p:spPr>
                  <a:xfrm flipH="1">
                    <a:off x="7038000" y="224892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67"/>
                  <p:cNvSpPr/>
                  <p:nvPr/>
                </p:nvSpPr>
                <p:spPr>
                  <a:xfrm flipH="1">
                    <a:off x="7044840" y="225180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68"/>
                  <p:cNvSpPr/>
                  <p:nvPr/>
                </p:nvSpPr>
                <p:spPr>
                  <a:xfrm flipH="1">
                    <a:off x="7118640" y="234252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9" name="Freeform 169"/>
                  <p:cNvSpPr/>
                  <p:nvPr/>
                </p:nvSpPr>
                <p:spPr>
                  <a:xfrm flipH="1">
                    <a:off x="7188480" y="226332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0" name="Freeform 170"/>
                  <p:cNvSpPr/>
                  <p:nvPr/>
                </p:nvSpPr>
                <p:spPr>
                  <a:xfrm flipH="1">
                    <a:off x="7070040" y="233964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1" name="Freeform 171"/>
                  <p:cNvSpPr/>
                  <p:nvPr/>
                </p:nvSpPr>
                <p:spPr>
                  <a:xfrm flipH="1">
                    <a:off x="7118640" y="234252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2" name="Freeform 172"/>
                  <p:cNvSpPr/>
                  <p:nvPr/>
                </p:nvSpPr>
                <p:spPr>
                  <a:xfrm flipH="1">
                    <a:off x="7069320" y="234360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3" name="Freeform 173"/>
                  <p:cNvSpPr/>
                  <p:nvPr/>
                </p:nvSpPr>
                <p:spPr>
                  <a:xfrm flipH="1">
                    <a:off x="7070040" y="235512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14" name="Freeform 174"/>
                  <p:cNvSpPr/>
                  <p:nvPr/>
                </p:nvSpPr>
                <p:spPr>
                  <a:xfrm flipH="1">
                    <a:off x="7043040" y="225000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75"/>
                  <p:cNvSpPr/>
                  <p:nvPr/>
                </p:nvSpPr>
                <p:spPr>
                  <a:xfrm flipH="1">
                    <a:off x="7061400" y="213156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16" name="Freeform 176"/>
                  <p:cNvSpPr/>
                  <p:nvPr/>
                </p:nvSpPr>
                <p:spPr>
                  <a:xfrm flipH="1">
                    <a:off x="7121880" y="21697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7" name="Freeform 177"/>
                  <p:cNvSpPr/>
                  <p:nvPr/>
                </p:nvSpPr>
                <p:spPr>
                  <a:xfrm flipH="1">
                    <a:off x="7103160" y="214056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8" name="Freeform 178"/>
                  <p:cNvSpPr/>
                  <p:nvPr/>
                </p:nvSpPr>
                <p:spPr>
                  <a:xfrm flipH="1">
                    <a:off x="7080120" y="216360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9" name="Freeform 179"/>
                  <p:cNvSpPr/>
                  <p:nvPr/>
                </p:nvSpPr>
                <p:spPr>
                  <a:xfrm flipH="1">
                    <a:off x="7067160" y="215280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0" name="Freeform 180"/>
                  <p:cNvSpPr/>
                  <p:nvPr/>
                </p:nvSpPr>
                <p:spPr>
                  <a:xfrm flipH="1">
                    <a:off x="7072200" y="215496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1" name="Freeform 181"/>
                  <p:cNvSpPr/>
                  <p:nvPr/>
                </p:nvSpPr>
                <p:spPr>
                  <a:xfrm flipH="1">
                    <a:off x="7052760" y="213012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2" name="Freeform 182"/>
                  <p:cNvSpPr/>
                  <p:nvPr/>
                </p:nvSpPr>
                <p:spPr>
                  <a:xfrm flipH="1">
                    <a:off x="7103160" y="214056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3" name="Freeform 183"/>
                  <p:cNvSpPr/>
                  <p:nvPr/>
                </p:nvSpPr>
                <p:spPr>
                  <a:xfrm flipH="1">
                    <a:off x="7108560" y="216792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84"/>
                  <p:cNvSpPr/>
                  <p:nvPr/>
                </p:nvSpPr>
                <p:spPr>
                  <a:xfrm flipH="1">
                    <a:off x="7121880" y="21697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5" name="Freeform 185"/>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6" name="Freeform 186"/>
                  <p:cNvSpPr/>
                  <p:nvPr/>
                </p:nvSpPr>
                <p:spPr>
                  <a:xfrm flipH="1">
                    <a:off x="7188480" y="2263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7" name="Freeform 187"/>
                  <p:cNvSpPr/>
                  <p:nvPr/>
                </p:nvSpPr>
                <p:spPr>
                  <a:xfrm flipH="1">
                    <a:off x="7133400" y="222624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8" name="Freeform 188"/>
                  <p:cNvSpPr/>
                  <p:nvPr/>
                </p:nvSpPr>
                <p:spPr>
                  <a:xfrm flipH="1">
                    <a:off x="7104600" y="215928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29" name="Freeform 189"/>
                  <p:cNvSpPr/>
                  <p:nvPr/>
                </p:nvSpPr>
                <p:spPr>
                  <a:xfrm flipH="1">
                    <a:off x="7169400" y="222732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0" name="Freeform 190"/>
                  <p:cNvSpPr/>
                  <p:nvPr/>
                </p:nvSpPr>
                <p:spPr>
                  <a:xfrm flipH="1">
                    <a:off x="7134120" y="223668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1" name="Freeform 191"/>
                  <p:cNvSpPr/>
                  <p:nvPr/>
                </p:nvSpPr>
                <p:spPr>
                  <a:xfrm flipH="1">
                    <a:off x="7148880" y="223200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2" name="Freeform 192"/>
                  <p:cNvSpPr/>
                  <p:nvPr/>
                </p:nvSpPr>
                <p:spPr>
                  <a:xfrm flipH="1">
                    <a:off x="7013160" y="223020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33" name="Freeform 193"/>
                  <p:cNvSpPr/>
                  <p:nvPr/>
                </p:nvSpPr>
                <p:spPr>
                  <a:xfrm flipH="1">
                    <a:off x="7062840" y="22356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4" name="Freeform 194"/>
                  <p:cNvSpPr/>
                  <p:nvPr/>
                </p:nvSpPr>
                <p:spPr>
                  <a:xfrm flipH="1">
                    <a:off x="7062120" y="217512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Freeform 195"/>
                  <p:cNvSpPr/>
                  <p:nvPr/>
                </p:nvSpPr>
                <p:spPr>
                  <a:xfrm flipH="1">
                    <a:off x="7062840" y="22356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6" name="Freeform 196"/>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7" name="Freeform 197"/>
                  <p:cNvSpPr/>
                  <p:nvPr/>
                </p:nvSpPr>
                <p:spPr>
                  <a:xfrm flipH="1">
                    <a:off x="7115040" y="217440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38" name="Freeform 198"/>
                  <p:cNvSpPr/>
                  <p:nvPr/>
                </p:nvSpPr>
                <p:spPr>
                  <a:xfrm flipH="1">
                    <a:off x="6840720" y="235440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39" name="Rectangle 199"/>
                  <p:cNvSpPr/>
                  <p:nvPr/>
                </p:nvSpPr>
                <p:spPr>
                  <a:xfrm flipH="1">
                    <a:off x="6846480" y="225072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00"/>
                  <p:cNvSpPr/>
                  <p:nvPr/>
                </p:nvSpPr>
                <p:spPr>
                  <a:xfrm flipH="1">
                    <a:off x="6833880" y="224280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201"/>
                  <p:cNvSpPr/>
                  <p:nvPr/>
                </p:nvSpPr>
                <p:spPr>
                  <a:xfrm flipH="1">
                    <a:off x="6917400" y="228744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02"/>
                  <p:cNvSpPr/>
                  <p:nvPr/>
                </p:nvSpPr>
                <p:spPr>
                  <a:xfrm flipH="1">
                    <a:off x="6945840" y="227304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3" name="Rectangle 203"/>
                  <p:cNvSpPr/>
                  <p:nvPr/>
                </p:nvSpPr>
                <p:spPr>
                  <a:xfrm flipH="1">
                    <a:off x="6846840" y="222552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04"/>
                  <p:cNvSpPr/>
                  <p:nvPr/>
                </p:nvSpPr>
                <p:spPr>
                  <a:xfrm flipH="1">
                    <a:off x="6861600" y="217116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5" name="Freeform 205"/>
                  <p:cNvSpPr/>
                  <p:nvPr/>
                </p:nvSpPr>
                <p:spPr>
                  <a:xfrm flipH="1">
                    <a:off x="6964920" y="222552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6" name="Freeform 206"/>
                  <p:cNvSpPr/>
                  <p:nvPr/>
                </p:nvSpPr>
                <p:spPr>
                  <a:xfrm flipH="1">
                    <a:off x="6888600" y="217116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7" name="Freeform 207"/>
                  <p:cNvSpPr/>
                  <p:nvPr/>
                </p:nvSpPr>
                <p:spPr>
                  <a:xfrm flipH="1">
                    <a:off x="7066800" y="223956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8" name="Freeform 208"/>
                  <p:cNvSpPr/>
                  <p:nvPr/>
                </p:nvSpPr>
                <p:spPr>
                  <a:xfrm flipH="1">
                    <a:off x="6976800" y="223452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49" name="Freeform 209"/>
                  <p:cNvSpPr/>
                  <p:nvPr/>
                </p:nvSpPr>
                <p:spPr>
                  <a:xfrm flipH="1">
                    <a:off x="6876360" y="222156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50" name="Freeform 210"/>
                  <p:cNvSpPr/>
                  <p:nvPr/>
                </p:nvSpPr>
                <p:spPr>
                  <a:xfrm flipH="1">
                    <a:off x="6930720" y="217584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1" name="Freeform 211"/>
                  <p:cNvSpPr/>
                  <p:nvPr/>
                </p:nvSpPr>
                <p:spPr>
                  <a:xfrm flipH="1">
                    <a:off x="6930360" y="217656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sp>
            <p:nvSpPr>
              <p:cNvPr id="252" name="Text Box 212"/>
              <p:cNvSpPr/>
              <p:nvPr/>
            </p:nvSpPr>
            <p:spPr>
              <a:xfrm>
                <a:off x="6656760" y="2441160"/>
                <a:ext cx="1245960" cy="28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213"/>
            <p:cNvGrpSpPr/>
            <p:nvPr/>
          </p:nvGrpSpPr>
          <p:grpSpPr>
            <a:xfrm>
              <a:off x="1428480" y="2135880"/>
              <a:ext cx="1493640" cy="661680"/>
              <a:chOff x="1428480" y="2135880"/>
              <a:chExt cx="1493640" cy="661680"/>
            </a:xfrm>
          </p:grpSpPr>
          <p:sp>
            <p:nvSpPr>
              <p:cNvPr id="254" name="Oval 214"/>
              <p:cNvSpPr/>
              <p:nvPr/>
            </p:nvSpPr>
            <p:spPr>
              <a:xfrm flipH="1">
                <a:off x="1428120" y="213588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255" name="Group 215"/>
              <p:cNvGrpSpPr/>
              <p:nvPr/>
            </p:nvGrpSpPr>
            <p:grpSpPr>
              <a:xfrm>
                <a:off x="1784160" y="2167560"/>
                <a:ext cx="588240" cy="334440"/>
                <a:chOff x="1784160" y="2167560"/>
                <a:chExt cx="588240" cy="334440"/>
              </a:xfrm>
            </p:grpSpPr>
            <p:sp>
              <p:nvSpPr>
                <p:cNvPr id="256" name="Rectangle 216"/>
                <p:cNvSpPr/>
                <p:nvPr/>
              </p:nvSpPr>
              <p:spPr>
                <a:xfrm>
                  <a:off x="1909080" y="2412000"/>
                  <a:ext cx="7560" cy="21240"/>
                </a:xfrm>
                <a:prstGeom prst="rect">
                  <a:avLst/>
                </a:prstGeom>
                <a:solidFill>
                  <a:srgbClr val="b2c1d1"/>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217"/>
                <p:cNvSpPr/>
                <p:nvPr/>
              </p:nvSpPr>
              <p:spPr>
                <a:xfrm>
                  <a:off x="1784160" y="2297160"/>
                  <a:ext cx="167040" cy="99000"/>
                </a:xfrm>
                <a:custGeom>
                  <a:avLst/>
                  <a:gdLst>
                    <a:gd name="textAreaLeft" fmla="*/ 0 w 167040"/>
                    <a:gd name="textAreaRight" fmla="*/ 167400 w 167040"/>
                    <a:gd name="textAreaTop" fmla="*/ 0 h 99000"/>
                    <a:gd name="textAreaBottom" fmla="*/ 99360 h 9900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218"/>
                <p:cNvSpPr/>
                <p:nvPr/>
              </p:nvSpPr>
              <p:spPr>
                <a:xfrm>
                  <a:off x="1819440" y="2385000"/>
                  <a:ext cx="174600" cy="2520"/>
                </a:xfrm>
                <a:custGeom>
                  <a:avLst/>
                  <a:gdLst>
                    <a:gd name="textAreaLeft" fmla="*/ 0 w 174600"/>
                    <a:gd name="textAreaRight" fmla="*/ 174960 w 174600"/>
                    <a:gd name="textAreaTop" fmla="*/ 0 h 2520"/>
                    <a:gd name="textAreaBottom" fmla="*/ 2880 h 252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9" name="Freeform 219"/>
                <p:cNvSpPr/>
                <p:nvPr/>
              </p:nvSpPr>
              <p:spPr>
                <a:xfrm>
                  <a:off x="1809360" y="2269800"/>
                  <a:ext cx="23040" cy="60840"/>
                </a:xfrm>
                <a:custGeom>
                  <a:avLst/>
                  <a:gdLst>
                    <a:gd name="textAreaLeft" fmla="*/ 0 w 23040"/>
                    <a:gd name="textAreaRight" fmla="*/ 23400 w 23040"/>
                    <a:gd name="textAreaTop" fmla="*/ 0 h 60840"/>
                    <a:gd name="textAreaBottom" fmla="*/ 61200 h 6084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0" name="Freeform 220"/>
                <p:cNvSpPr/>
                <p:nvPr/>
              </p:nvSpPr>
              <p:spPr>
                <a:xfrm>
                  <a:off x="1812600" y="2368080"/>
                  <a:ext cx="187920" cy="16920"/>
                </a:xfrm>
                <a:custGeom>
                  <a:avLst/>
                  <a:gdLst>
                    <a:gd name="textAreaLeft" fmla="*/ 0 w 187920"/>
                    <a:gd name="textAreaRight" fmla="*/ 188280 w 187920"/>
                    <a:gd name="textAreaTop" fmla="*/ 0 h 16920"/>
                    <a:gd name="textAreaBottom" fmla="*/ 17280 h 1692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1" name="Freeform 221"/>
                <p:cNvSpPr/>
                <p:nvPr/>
              </p:nvSpPr>
              <p:spPr>
                <a:xfrm>
                  <a:off x="1786320" y="2430720"/>
                  <a:ext cx="252000" cy="52200"/>
                </a:xfrm>
                <a:custGeom>
                  <a:avLst/>
                  <a:gdLst>
                    <a:gd name="textAreaLeft" fmla="*/ 0 w 252000"/>
                    <a:gd name="textAreaRight" fmla="*/ 252360 w 252000"/>
                    <a:gd name="textAreaTop" fmla="*/ 0 h 52200"/>
                    <a:gd name="textAreaBottom" fmla="*/ 52560 h 52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62" name="Freeform 222"/>
                <p:cNvSpPr/>
                <p:nvPr/>
              </p:nvSpPr>
              <p:spPr>
                <a:xfrm>
                  <a:off x="1901160" y="2396520"/>
                  <a:ext cx="21960" cy="20520"/>
                </a:xfrm>
                <a:custGeom>
                  <a:avLst/>
                  <a:gdLst>
                    <a:gd name="textAreaLeft" fmla="*/ 0 w 21960"/>
                    <a:gd name="textAreaRight" fmla="*/ 21960 w 21960"/>
                    <a:gd name="textAreaTop" fmla="*/ 0 h 20520"/>
                    <a:gd name="textAreaBottom" fmla="*/ 20880 h 205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63" name="Freeform 223"/>
                <p:cNvSpPr/>
                <p:nvPr/>
              </p:nvSpPr>
              <p:spPr>
                <a:xfrm>
                  <a:off x="1859400" y="240084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4" name="Freeform 224"/>
                <p:cNvSpPr/>
                <p:nvPr/>
              </p:nvSpPr>
              <p:spPr>
                <a:xfrm>
                  <a:off x="1987560" y="2301480"/>
                  <a:ext cx="81720" cy="12960"/>
                </a:xfrm>
                <a:custGeom>
                  <a:avLst/>
                  <a:gdLst>
                    <a:gd name="textAreaLeft" fmla="*/ 0 w 81720"/>
                    <a:gd name="textAreaRight" fmla="*/ 82080 w 81720"/>
                    <a:gd name="textAreaTop" fmla="*/ 0 h 12960"/>
                    <a:gd name="textAreaBottom" fmla="*/ 13320 h 129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5" name="Freeform 225"/>
                <p:cNvSpPr/>
                <p:nvPr/>
              </p:nvSpPr>
              <p:spPr>
                <a:xfrm>
                  <a:off x="1989720" y="23068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6" name="Freeform 226"/>
                <p:cNvSpPr/>
                <p:nvPr/>
              </p:nvSpPr>
              <p:spPr>
                <a:xfrm>
                  <a:off x="1860120" y="2232360"/>
                  <a:ext cx="142560" cy="79920"/>
                </a:xfrm>
                <a:custGeom>
                  <a:avLst/>
                  <a:gdLst>
                    <a:gd name="textAreaLeft" fmla="*/ 0 w 142560"/>
                    <a:gd name="textAreaRight" fmla="*/ 142920 w 142560"/>
                    <a:gd name="textAreaTop" fmla="*/ 0 h 79920"/>
                    <a:gd name="textAreaBottom" fmla="*/ 80280 h 7992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7" name="Freeform 227"/>
                <p:cNvSpPr/>
                <p:nvPr/>
              </p:nvSpPr>
              <p:spPr>
                <a:xfrm>
                  <a:off x="1990800" y="23068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8" name="Freeform 228"/>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9" name="Freeform 229"/>
                <p:cNvSpPr/>
                <p:nvPr/>
              </p:nvSpPr>
              <p:spPr>
                <a:xfrm>
                  <a:off x="1873440" y="2231280"/>
                  <a:ext cx="107280" cy="52200"/>
                </a:xfrm>
                <a:custGeom>
                  <a:avLst/>
                  <a:gdLst>
                    <a:gd name="textAreaLeft" fmla="*/ 0 w 107280"/>
                    <a:gd name="textAreaRight" fmla="*/ 107640 w 107280"/>
                    <a:gd name="textAreaTop" fmla="*/ 0 h 52200"/>
                    <a:gd name="textAreaBottom" fmla="*/ 52560 h 52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70" name="Freeform 230"/>
                <p:cNvSpPr/>
                <p:nvPr/>
              </p:nvSpPr>
              <p:spPr>
                <a:xfrm>
                  <a:off x="1850400" y="2334600"/>
                  <a:ext cx="232200" cy="133920"/>
                </a:xfrm>
                <a:custGeom>
                  <a:avLst/>
                  <a:gdLst>
                    <a:gd name="textAreaLeft" fmla="*/ 0 w 232200"/>
                    <a:gd name="textAreaRight" fmla="*/ 232560 w 232200"/>
                    <a:gd name="textAreaTop" fmla="*/ 0 h 133920"/>
                    <a:gd name="textAreaBottom" fmla="*/ 134280 h 1339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31"/>
                <p:cNvSpPr/>
                <p:nvPr/>
              </p:nvSpPr>
              <p:spPr>
                <a:xfrm>
                  <a:off x="2000880" y="24537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2" name="Freeform 232"/>
                <p:cNvSpPr/>
                <p:nvPr/>
              </p:nvSpPr>
              <p:spPr>
                <a:xfrm>
                  <a:off x="1868040" y="23533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3" name="Freeform 233"/>
                <p:cNvSpPr/>
                <p:nvPr/>
              </p:nvSpPr>
              <p:spPr>
                <a:xfrm>
                  <a:off x="1987560" y="2450880"/>
                  <a:ext cx="95040" cy="24840"/>
                </a:xfrm>
                <a:custGeom>
                  <a:avLst/>
                  <a:gdLst>
                    <a:gd name="textAreaLeft" fmla="*/ 0 w 95040"/>
                    <a:gd name="textAreaRight" fmla="*/ 95400 w 95040"/>
                    <a:gd name="textAreaTop" fmla="*/ 0 h 24840"/>
                    <a:gd name="textAreaBottom" fmla="*/ 25200 h 2484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4" name="Freeform 234"/>
                <p:cNvSpPr/>
                <p:nvPr/>
              </p:nvSpPr>
              <p:spPr>
                <a:xfrm>
                  <a:off x="2000880" y="24537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5" name="Freeform 235"/>
                <p:cNvSpPr/>
                <p:nvPr/>
              </p:nvSpPr>
              <p:spPr>
                <a:xfrm>
                  <a:off x="1985400" y="2456280"/>
                  <a:ext cx="99360" cy="20520"/>
                </a:xfrm>
                <a:custGeom>
                  <a:avLst/>
                  <a:gdLst>
                    <a:gd name="textAreaLeft" fmla="*/ 0 w 99360"/>
                    <a:gd name="textAreaRight" fmla="*/ 99720 w 99360"/>
                    <a:gd name="textAreaTop" fmla="*/ 0 h 20520"/>
                    <a:gd name="textAreaBottom" fmla="*/ 20880 h 205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76" name="Freeform 236"/>
                <p:cNvSpPr/>
                <p:nvPr/>
              </p:nvSpPr>
              <p:spPr>
                <a:xfrm>
                  <a:off x="1985400" y="2472480"/>
                  <a:ext cx="99360" cy="5400"/>
                </a:xfrm>
                <a:custGeom>
                  <a:avLst/>
                  <a:gdLst>
                    <a:gd name="textAreaLeft" fmla="*/ 0 w 99360"/>
                    <a:gd name="textAreaRight" fmla="*/ 99720 w 99360"/>
                    <a:gd name="textAreaTop" fmla="*/ 0 h 5400"/>
                    <a:gd name="textAreaBottom" fmla="*/ 5760 h 54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7" name="Freeform 237"/>
                <p:cNvSpPr/>
                <p:nvPr/>
              </p:nvSpPr>
              <p:spPr>
                <a:xfrm>
                  <a:off x="1844640" y="2333160"/>
                  <a:ext cx="243360" cy="134280"/>
                </a:xfrm>
                <a:custGeom>
                  <a:avLst/>
                  <a:gdLst>
                    <a:gd name="textAreaLeft" fmla="*/ 0 w 243360"/>
                    <a:gd name="textAreaRight" fmla="*/ 243720 w 243360"/>
                    <a:gd name="textAreaTop" fmla="*/ 0 h 134280"/>
                    <a:gd name="textAreaBottom" fmla="*/ 134640 h 1342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38"/>
                <p:cNvSpPr/>
                <p:nvPr/>
              </p:nvSpPr>
              <p:spPr>
                <a:xfrm>
                  <a:off x="1850400" y="2337120"/>
                  <a:ext cx="227880" cy="141120"/>
                </a:xfrm>
                <a:custGeom>
                  <a:avLst/>
                  <a:gdLst>
                    <a:gd name="textAreaLeft" fmla="*/ 0 w 227880"/>
                    <a:gd name="textAreaRight" fmla="*/ 228240 w 227880"/>
                    <a:gd name="textAreaTop" fmla="*/ 0 h 141120"/>
                    <a:gd name="textAreaBottom" fmla="*/ 141480 h 14112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39"/>
                <p:cNvSpPr/>
                <p:nvPr/>
              </p:nvSpPr>
              <p:spPr>
                <a:xfrm>
                  <a:off x="1966320" y="24634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0" name="Freeform 240"/>
                <p:cNvSpPr/>
                <p:nvPr/>
              </p:nvSpPr>
              <p:spPr>
                <a:xfrm>
                  <a:off x="1869120" y="235332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1" name="Freeform 241"/>
                <p:cNvSpPr/>
                <p:nvPr/>
              </p:nvSpPr>
              <p:spPr>
                <a:xfrm>
                  <a:off x="1948680" y="2459520"/>
                  <a:ext cx="95040" cy="28080"/>
                </a:xfrm>
                <a:custGeom>
                  <a:avLst/>
                  <a:gdLst>
                    <a:gd name="textAreaLeft" fmla="*/ 0 w 95040"/>
                    <a:gd name="textAreaRight" fmla="*/ 95400 w 95040"/>
                    <a:gd name="textAreaTop" fmla="*/ 0 h 28080"/>
                    <a:gd name="textAreaBottom" fmla="*/ 28440 h 2808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2" name="Freeform 242"/>
                <p:cNvSpPr/>
                <p:nvPr/>
              </p:nvSpPr>
              <p:spPr>
                <a:xfrm>
                  <a:off x="1965240" y="24634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3" name="Freeform 243"/>
                <p:cNvSpPr/>
                <p:nvPr/>
              </p:nvSpPr>
              <p:spPr>
                <a:xfrm>
                  <a:off x="1945440" y="2464920"/>
                  <a:ext cx="99360" cy="23760"/>
                </a:xfrm>
                <a:custGeom>
                  <a:avLst/>
                  <a:gdLst>
                    <a:gd name="textAreaLeft" fmla="*/ 0 w 99360"/>
                    <a:gd name="textAreaRight" fmla="*/ 99720 w 99360"/>
                    <a:gd name="textAreaTop" fmla="*/ 0 h 23760"/>
                    <a:gd name="textAreaBottom" fmla="*/ 24120 h 2376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4" name="Freeform 244"/>
                <p:cNvSpPr/>
                <p:nvPr/>
              </p:nvSpPr>
              <p:spPr>
                <a:xfrm>
                  <a:off x="1945440" y="2480760"/>
                  <a:ext cx="98280" cy="9000"/>
                </a:xfrm>
                <a:custGeom>
                  <a:avLst/>
                  <a:gdLst>
                    <a:gd name="textAreaLeft" fmla="*/ 0 w 98280"/>
                    <a:gd name="textAreaRight" fmla="*/ 98640 w 98280"/>
                    <a:gd name="textAreaTop" fmla="*/ 0 h 9000"/>
                    <a:gd name="textAreaBottom" fmla="*/ 9360 h 900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5" name="Freeform 245"/>
                <p:cNvSpPr/>
                <p:nvPr/>
              </p:nvSpPr>
              <p:spPr>
                <a:xfrm>
                  <a:off x="1846080" y="2334600"/>
                  <a:ext cx="235440" cy="140040"/>
                </a:xfrm>
                <a:custGeom>
                  <a:avLst/>
                  <a:gdLst>
                    <a:gd name="textAreaLeft" fmla="*/ 0 w 235440"/>
                    <a:gd name="textAreaRight" fmla="*/ 235800 w 235440"/>
                    <a:gd name="textAreaTop" fmla="*/ 0 h 140040"/>
                    <a:gd name="textAreaBottom" fmla="*/ 140400 h 1400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46"/>
                <p:cNvSpPr/>
                <p:nvPr/>
              </p:nvSpPr>
              <p:spPr>
                <a:xfrm>
                  <a:off x="1947600" y="2169720"/>
                  <a:ext cx="108360" cy="64080"/>
                </a:xfrm>
                <a:custGeom>
                  <a:avLst/>
                  <a:gdLst>
                    <a:gd name="textAreaLeft" fmla="*/ 0 w 108360"/>
                    <a:gd name="textAreaRight" fmla="*/ 108720 w 108360"/>
                    <a:gd name="textAreaTop" fmla="*/ 0 h 64080"/>
                    <a:gd name="textAreaBottom" fmla="*/ 64440 h 64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87" name="Freeform 247"/>
                <p:cNvSpPr/>
                <p:nvPr/>
              </p:nvSpPr>
              <p:spPr>
                <a:xfrm>
                  <a:off x="1960920" y="22230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8" name="Freeform 248"/>
                <p:cNvSpPr/>
                <p:nvPr/>
              </p:nvSpPr>
              <p:spPr>
                <a:xfrm>
                  <a:off x="1987560" y="2182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9" name="Freeform 249"/>
                <p:cNvSpPr/>
                <p:nvPr/>
              </p:nvSpPr>
              <p:spPr>
                <a:xfrm>
                  <a:off x="2019600" y="22143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0" name="Freeform 250"/>
                <p:cNvSpPr/>
                <p:nvPr/>
              </p:nvSpPr>
              <p:spPr>
                <a:xfrm>
                  <a:off x="2030760" y="2198880"/>
                  <a:ext cx="16560" cy="3240"/>
                </a:xfrm>
                <a:custGeom>
                  <a:avLst/>
                  <a:gdLst>
                    <a:gd name="textAreaLeft" fmla="*/ 0 w 16560"/>
                    <a:gd name="textAreaRight" fmla="*/ 16920 w 16560"/>
                    <a:gd name="textAreaTop" fmla="*/ 0 h 3240"/>
                    <a:gd name="textAreaBottom" fmla="*/ 3600 h 324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1" name="Freeform 251"/>
                <p:cNvSpPr/>
                <p:nvPr/>
              </p:nvSpPr>
              <p:spPr>
                <a:xfrm>
                  <a:off x="2029680" y="2202480"/>
                  <a:ext cx="10800" cy="3600"/>
                </a:xfrm>
                <a:custGeom>
                  <a:avLst/>
                  <a:gdLst>
                    <a:gd name="textAreaLeft" fmla="*/ 0 w 10800"/>
                    <a:gd name="textAreaRight" fmla="*/ 11160 w 10800"/>
                    <a:gd name="textAreaTop" fmla="*/ 0 h 3600"/>
                    <a:gd name="textAreaBottom" fmla="*/ 3960 h 360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92" name="Freeform 252"/>
                <p:cNvSpPr/>
                <p:nvPr/>
              </p:nvSpPr>
              <p:spPr>
                <a:xfrm>
                  <a:off x="1960920" y="2167560"/>
                  <a:ext cx="107280" cy="39240"/>
                </a:xfrm>
                <a:custGeom>
                  <a:avLst/>
                  <a:gdLst>
                    <a:gd name="textAreaLeft" fmla="*/ 0 w 107280"/>
                    <a:gd name="textAreaRight" fmla="*/ 107640 w 107280"/>
                    <a:gd name="textAreaTop" fmla="*/ 0 h 39240"/>
                    <a:gd name="textAreaBottom" fmla="*/ 39600 h 3924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3" name="Freeform 253"/>
                <p:cNvSpPr/>
                <p:nvPr/>
              </p:nvSpPr>
              <p:spPr>
                <a:xfrm>
                  <a:off x="1987560" y="2182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4" name="Freeform 254"/>
                <p:cNvSpPr/>
                <p:nvPr/>
              </p:nvSpPr>
              <p:spPr>
                <a:xfrm>
                  <a:off x="1822680" y="2220120"/>
                  <a:ext cx="167040" cy="152280"/>
                </a:xfrm>
                <a:custGeom>
                  <a:avLst/>
                  <a:gdLst>
                    <a:gd name="textAreaLeft" fmla="*/ 0 w 167040"/>
                    <a:gd name="textAreaRight" fmla="*/ 167400 w 167040"/>
                    <a:gd name="textAreaTop" fmla="*/ 0 h 152280"/>
                    <a:gd name="textAreaBottom" fmla="*/ 152640 h 15228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255"/>
                <p:cNvSpPr/>
                <p:nvPr/>
              </p:nvSpPr>
              <p:spPr>
                <a:xfrm>
                  <a:off x="1960920" y="22230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6" name="Freeform 256"/>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7" name="Freeform 257"/>
                <p:cNvSpPr/>
                <p:nvPr/>
              </p:nvSpPr>
              <p:spPr>
                <a:xfrm>
                  <a:off x="1868040" y="23533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8" name="Freeform 258"/>
                <p:cNvSpPr/>
                <p:nvPr/>
              </p:nvSpPr>
              <p:spPr>
                <a:xfrm>
                  <a:off x="1818000" y="2301480"/>
                  <a:ext cx="137160" cy="75240"/>
                </a:xfrm>
                <a:custGeom>
                  <a:avLst/>
                  <a:gdLst>
                    <a:gd name="textAreaLeft" fmla="*/ 0 w 137160"/>
                    <a:gd name="textAreaRight" fmla="*/ 137520 w 137160"/>
                    <a:gd name="textAreaTop" fmla="*/ 0 h 75240"/>
                    <a:gd name="textAreaBottom" fmla="*/ 75600 h 7524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99" name="Freeform 259"/>
                <p:cNvSpPr/>
                <p:nvPr/>
              </p:nvSpPr>
              <p:spPr>
                <a:xfrm>
                  <a:off x="1863360" y="2208240"/>
                  <a:ext cx="132480" cy="109440"/>
                </a:xfrm>
                <a:custGeom>
                  <a:avLst/>
                  <a:gdLst>
                    <a:gd name="textAreaLeft" fmla="*/ 0 w 132480"/>
                    <a:gd name="textAreaRight" fmla="*/ 132840 w 132480"/>
                    <a:gd name="textAreaTop" fmla="*/ 0 h 109440"/>
                    <a:gd name="textAreaBottom" fmla="*/ 109800 h 10944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260"/>
                <p:cNvSpPr/>
                <p:nvPr/>
              </p:nvSpPr>
              <p:spPr>
                <a:xfrm>
                  <a:off x="1870200" y="2302920"/>
                  <a:ext cx="35280" cy="8280"/>
                </a:xfrm>
                <a:custGeom>
                  <a:avLst/>
                  <a:gdLst>
                    <a:gd name="textAreaLeft" fmla="*/ 0 w 35280"/>
                    <a:gd name="textAreaRight" fmla="*/ 35640 w 35280"/>
                    <a:gd name="textAreaTop" fmla="*/ 0 h 8280"/>
                    <a:gd name="textAreaBottom" fmla="*/ 8640 h 828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01" name="Freeform 261"/>
                <p:cNvSpPr/>
                <p:nvPr/>
              </p:nvSpPr>
              <p:spPr>
                <a:xfrm>
                  <a:off x="1938960" y="231624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2" name="Freeform 262"/>
                <p:cNvSpPr/>
                <p:nvPr/>
              </p:nvSpPr>
              <p:spPr>
                <a:xfrm>
                  <a:off x="1909800" y="2309760"/>
                  <a:ext cx="24120" cy="7560"/>
                </a:xfrm>
                <a:custGeom>
                  <a:avLst/>
                  <a:gdLst>
                    <a:gd name="textAreaLeft" fmla="*/ 0 w 24120"/>
                    <a:gd name="textAreaRight" fmla="*/ 24480 w 24120"/>
                    <a:gd name="textAreaTop" fmla="*/ 0 h 7560"/>
                    <a:gd name="textAreaBottom" fmla="*/ 7920 h 756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3" name="Freeform 263"/>
                <p:cNvSpPr/>
                <p:nvPr/>
              </p:nvSpPr>
              <p:spPr>
                <a:xfrm>
                  <a:off x="2040840" y="2306880"/>
                  <a:ext cx="81720" cy="14040"/>
                </a:xfrm>
                <a:custGeom>
                  <a:avLst/>
                  <a:gdLst>
                    <a:gd name="textAreaLeft" fmla="*/ 0 w 81720"/>
                    <a:gd name="textAreaRight" fmla="*/ 82080 w 81720"/>
                    <a:gd name="textAreaTop" fmla="*/ 0 h 14040"/>
                    <a:gd name="textAreaBottom" fmla="*/ 14400 h 1404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4" name="Freeform 264"/>
                <p:cNvSpPr/>
                <p:nvPr/>
              </p:nvSpPr>
              <p:spPr>
                <a:xfrm>
                  <a:off x="2043000" y="23144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5" name="Freeform 265"/>
                <p:cNvSpPr/>
                <p:nvPr/>
              </p:nvSpPr>
              <p:spPr>
                <a:xfrm>
                  <a:off x="1905840" y="2230200"/>
                  <a:ext cx="149040" cy="90360"/>
                </a:xfrm>
                <a:custGeom>
                  <a:avLst/>
                  <a:gdLst>
                    <a:gd name="textAreaLeft" fmla="*/ 0 w 149040"/>
                    <a:gd name="textAreaRight" fmla="*/ 149400 w 149040"/>
                    <a:gd name="textAreaTop" fmla="*/ 0 h 90360"/>
                    <a:gd name="textAreaBottom" fmla="*/ 90720 h 9036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6" name="Freeform 266"/>
                <p:cNvSpPr/>
                <p:nvPr/>
              </p:nvSpPr>
              <p:spPr>
                <a:xfrm>
                  <a:off x="2043000" y="23144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7" name="Freeform 267"/>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8" name="Freeform 268"/>
                <p:cNvSpPr/>
                <p:nvPr/>
              </p:nvSpPr>
              <p:spPr>
                <a:xfrm>
                  <a:off x="1909080" y="2229120"/>
                  <a:ext cx="72000" cy="54720"/>
                </a:xfrm>
                <a:custGeom>
                  <a:avLst/>
                  <a:gdLst>
                    <a:gd name="textAreaLeft" fmla="*/ 0 w 72000"/>
                    <a:gd name="textAreaRight" fmla="*/ 72360 w 72000"/>
                    <a:gd name="textAreaTop" fmla="*/ 0 h 54720"/>
                    <a:gd name="textAreaBottom" fmla="*/ 55080 h 5472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9" name="Freeform 269"/>
                <p:cNvSpPr/>
                <p:nvPr/>
              </p:nvSpPr>
              <p:spPr>
                <a:xfrm>
                  <a:off x="2047320" y="2479680"/>
                  <a:ext cx="315360" cy="22320"/>
                </a:xfrm>
                <a:custGeom>
                  <a:avLst/>
                  <a:gdLst>
                    <a:gd name="textAreaLeft" fmla="*/ 0 w 315360"/>
                    <a:gd name="textAreaRight" fmla="*/ 315720 w 315360"/>
                    <a:gd name="textAreaTop" fmla="*/ 0 h 22320"/>
                    <a:gd name="textAreaBottom" fmla="*/ 22680 h 2232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10" name="Rectangle 270"/>
                <p:cNvSpPr/>
                <p:nvPr/>
              </p:nvSpPr>
              <p:spPr>
                <a:xfrm>
                  <a:off x="2056320" y="2335320"/>
                  <a:ext cx="298440" cy="51120"/>
                </a:xfrm>
                <a:prstGeom prst="rect">
                  <a:avLst/>
                </a:prstGeom>
                <a:solidFill>
                  <a:srgbClr val="b2c1d1"/>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71"/>
                <p:cNvSpPr/>
                <p:nvPr/>
              </p:nvSpPr>
              <p:spPr>
                <a:xfrm>
                  <a:off x="2020680" y="2324160"/>
                  <a:ext cx="351720" cy="10800"/>
                </a:xfrm>
                <a:prstGeom prst="rect">
                  <a:avLst/>
                </a:prstGeom>
                <a:solidFill>
                  <a:srgbClr val="7f99b2"/>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72"/>
                <p:cNvSpPr/>
                <p:nvPr/>
              </p:nvSpPr>
              <p:spPr>
                <a:xfrm>
                  <a:off x="2152440" y="2386440"/>
                  <a:ext cx="104040" cy="108360"/>
                </a:xfrm>
                <a:prstGeom prst="rect">
                  <a:avLst/>
                </a:prstGeom>
                <a:solidFill>
                  <a:srgbClr val="7f99b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73"/>
                <p:cNvSpPr/>
                <p:nvPr/>
              </p:nvSpPr>
              <p:spPr>
                <a:xfrm>
                  <a:off x="2195640" y="2367000"/>
                  <a:ext cx="20880" cy="10080"/>
                </a:xfrm>
                <a:custGeom>
                  <a:avLst/>
                  <a:gdLst>
                    <a:gd name="textAreaLeft" fmla="*/ 0 w 20880"/>
                    <a:gd name="textAreaRight" fmla="*/ 21240 w 20880"/>
                    <a:gd name="textAreaTop" fmla="*/ 0 h 10080"/>
                    <a:gd name="textAreaBottom" fmla="*/ 10440 h 100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14" name="Rectangle 274"/>
                <p:cNvSpPr/>
                <p:nvPr/>
              </p:nvSpPr>
              <p:spPr>
                <a:xfrm>
                  <a:off x="2189880" y="2300400"/>
                  <a:ext cx="164520" cy="23760"/>
                </a:xfrm>
                <a:prstGeom prst="rect">
                  <a:avLst/>
                </a:prstGeom>
                <a:solidFill>
                  <a:srgbClr val="d6c6c9"/>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75"/>
                <p:cNvSpPr/>
                <p:nvPr/>
              </p:nvSpPr>
              <p:spPr>
                <a:xfrm>
                  <a:off x="2166840" y="2224440"/>
                  <a:ext cx="167040" cy="75600"/>
                </a:xfrm>
                <a:custGeom>
                  <a:avLst/>
                  <a:gdLst>
                    <a:gd name="textAreaLeft" fmla="*/ 0 w 167040"/>
                    <a:gd name="textAreaRight" fmla="*/ 167400 w 167040"/>
                    <a:gd name="textAreaTop" fmla="*/ 0 h 75600"/>
                    <a:gd name="textAreaBottom" fmla="*/ 75960 h 7560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6" name="Freeform 276"/>
                <p:cNvSpPr/>
                <p:nvPr/>
              </p:nvSpPr>
              <p:spPr>
                <a:xfrm>
                  <a:off x="2130120" y="2300400"/>
                  <a:ext cx="59400" cy="23760"/>
                </a:xfrm>
                <a:custGeom>
                  <a:avLst/>
                  <a:gdLst>
                    <a:gd name="textAreaLeft" fmla="*/ 0 w 59400"/>
                    <a:gd name="textAreaRight" fmla="*/ 59760 w 59400"/>
                    <a:gd name="textAreaTop" fmla="*/ 0 h 23760"/>
                    <a:gd name="textAreaBottom" fmla="*/ 24120 h 2376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7" name="Freeform 277"/>
                <p:cNvSpPr/>
                <p:nvPr/>
              </p:nvSpPr>
              <p:spPr>
                <a:xfrm>
                  <a:off x="2243160" y="2224440"/>
                  <a:ext cx="52920" cy="66240"/>
                </a:xfrm>
                <a:custGeom>
                  <a:avLst/>
                  <a:gdLst>
                    <a:gd name="textAreaLeft" fmla="*/ 0 w 52920"/>
                    <a:gd name="textAreaRight" fmla="*/ 53280 w 52920"/>
                    <a:gd name="textAreaTop" fmla="*/ 0 h 66240"/>
                    <a:gd name="textAreaBottom" fmla="*/ 66600 h 6624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8" name="Freeform 278"/>
                <p:cNvSpPr/>
                <p:nvPr/>
              </p:nvSpPr>
              <p:spPr>
                <a:xfrm>
                  <a:off x="2024280" y="2319840"/>
                  <a:ext cx="24120" cy="4320"/>
                </a:xfrm>
                <a:custGeom>
                  <a:avLst/>
                  <a:gdLst>
                    <a:gd name="textAreaLeft" fmla="*/ 0 w 24120"/>
                    <a:gd name="textAreaRight" fmla="*/ 24480 w 24120"/>
                    <a:gd name="textAreaTop" fmla="*/ 0 h 4320"/>
                    <a:gd name="textAreaBottom" fmla="*/ 4680 h 432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9" name="Freeform 279"/>
                <p:cNvSpPr/>
                <p:nvPr/>
              </p:nvSpPr>
              <p:spPr>
                <a:xfrm>
                  <a:off x="2048400" y="2313000"/>
                  <a:ext cx="124920" cy="11160"/>
                </a:xfrm>
                <a:custGeom>
                  <a:avLst/>
                  <a:gdLst>
                    <a:gd name="textAreaLeft" fmla="*/ 0 w 124920"/>
                    <a:gd name="textAreaRight" fmla="*/ 125280 w 124920"/>
                    <a:gd name="textAreaTop" fmla="*/ 0 h 11160"/>
                    <a:gd name="textAreaBottom" fmla="*/ 11520 h 111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0" name="Freeform 280"/>
                <p:cNvSpPr/>
                <p:nvPr/>
              </p:nvSpPr>
              <p:spPr>
                <a:xfrm>
                  <a:off x="2178000" y="2295000"/>
                  <a:ext cx="135000" cy="5400"/>
                </a:xfrm>
                <a:custGeom>
                  <a:avLst/>
                  <a:gdLst>
                    <a:gd name="textAreaLeft" fmla="*/ 0 w 135000"/>
                    <a:gd name="textAreaRight" fmla="*/ 135360 w 135000"/>
                    <a:gd name="textAreaTop" fmla="*/ 0 h 5400"/>
                    <a:gd name="textAreaBottom" fmla="*/ 5760 h 54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21" name="Freeform 281"/>
                <p:cNvSpPr/>
                <p:nvPr/>
              </p:nvSpPr>
              <p:spPr>
                <a:xfrm>
                  <a:off x="2176560" y="2231280"/>
                  <a:ext cx="60840" cy="56880"/>
                </a:xfrm>
                <a:custGeom>
                  <a:avLst/>
                  <a:gdLst>
                    <a:gd name="textAreaLeft" fmla="*/ 0 w 60840"/>
                    <a:gd name="textAreaRight" fmla="*/ 61200 w 60840"/>
                    <a:gd name="textAreaTop" fmla="*/ 0 h 56880"/>
                    <a:gd name="textAreaBottom" fmla="*/ 57240 h 5688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2" name="Freeform 282"/>
                <p:cNvSpPr/>
                <p:nvPr/>
              </p:nvSpPr>
              <p:spPr>
                <a:xfrm>
                  <a:off x="2179800" y="2232360"/>
                  <a:ext cx="57600" cy="55440"/>
                </a:xfrm>
                <a:custGeom>
                  <a:avLst/>
                  <a:gdLst>
                    <a:gd name="textAreaLeft" fmla="*/ 0 w 57600"/>
                    <a:gd name="textAreaRight" fmla="*/ 57960 w 57600"/>
                    <a:gd name="textAreaTop" fmla="*/ 0 h 55440"/>
                    <a:gd name="textAreaBottom" fmla="*/ 55800 h 5544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323" name="Text Box 283"/>
              <p:cNvSpPr/>
              <p:nvPr/>
            </p:nvSpPr>
            <p:spPr>
              <a:xfrm>
                <a:off x="1788120" y="2508480"/>
                <a:ext cx="163080" cy="2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Text Box 284"/>
            <p:cNvSpPr/>
            <p:nvPr/>
          </p:nvSpPr>
          <p:spPr>
            <a:xfrm>
              <a:off x="4229640" y="2304720"/>
              <a:ext cx="1360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Group 285"/>
            <p:cNvGrpSpPr/>
            <p:nvPr/>
          </p:nvGrpSpPr>
          <p:grpSpPr>
            <a:xfrm>
              <a:off x="3855960" y="2576880"/>
              <a:ext cx="1680480" cy="942120"/>
              <a:chOff x="3855960" y="2576880"/>
              <a:chExt cx="1680480" cy="942120"/>
            </a:xfrm>
          </p:grpSpPr>
          <p:sp>
            <p:nvSpPr>
              <p:cNvPr id="326" name="Oval 286"/>
              <p:cNvSpPr/>
              <p:nvPr/>
            </p:nvSpPr>
            <p:spPr>
              <a:xfrm>
                <a:off x="3855960" y="2576880"/>
                <a:ext cx="1680480" cy="91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327" name="Group 287"/>
              <p:cNvGrpSpPr/>
              <p:nvPr/>
            </p:nvGrpSpPr>
            <p:grpSpPr>
              <a:xfrm>
                <a:off x="4115160" y="2997360"/>
                <a:ext cx="363960" cy="64800"/>
                <a:chOff x="4115160" y="2997360"/>
                <a:chExt cx="363960" cy="64800"/>
              </a:xfrm>
            </p:grpSpPr>
            <p:sp>
              <p:nvSpPr>
                <p:cNvPr id="328" name="Freeform 288"/>
                <p:cNvSpPr/>
                <p:nvPr/>
              </p:nvSpPr>
              <p:spPr>
                <a:xfrm>
                  <a:off x="4115160" y="2998080"/>
                  <a:ext cx="311400" cy="64080"/>
                </a:xfrm>
                <a:custGeom>
                  <a:avLst/>
                  <a:gdLst>
                    <a:gd name="textAreaLeft" fmla="*/ 0 w 311400"/>
                    <a:gd name="textAreaRight" fmla="*/ 311760 w 311400"/>
                    <a:gd name="textAreaTop" fmla="*/ 0 h 64080"/>
                    <a:gd name="textAreaBottom" fmla="*/ 64440 h 64080"/>
                  </a:gdLst>
                  <a:ahLst/>
                  <a:rect l="textAreaLeft" t="textAreaTop" r="textAreaRight" b="textAreaBottom"/>
                  <a:pathLst>
                    <a:path w="1202" h="547">
                      <a:moveTo>
                        <a:pt x="125" y="289"/>
                      </a:moveTo>
                      <a:lnTo>
                        <a:pt x="107" y="313"/>
                      </a:lnTo>
                      <a:lnTo>
                        <a:pt x="49" y="356"/>
                      </a:lnTo>
                      <a:lnTo>
                        <a:pt x="15" y="381"/>
                      </a:lnTo>
                      <a:lnTo>
                        <a:pt x="0" y="397"/>
                      </a:lnTo>
                      <a:lnTo>
                        <a:pt x="0" y="413"/>
                      </a:lnTo>
                      <a:lnTo>
                        <a:pt x="15" y="431"/>
                      </a:lnTo>
                      <a:lnTo>
                        <a:pt x="33" y="445"/>
                      </a:lnTo>
                      <a:lnTo>
                        <a:pt x="71" y="453"/>
                      </a:lnTo>
                      <a:lnTo>
                        <a:pt x="113" y="460"/>
                      </a:lnTo>
                      <a:lnTo>
                        <a:pt x="758" y="539"/>
                      </a:lnTo>
                      <a:lnTo>
                        <a:pt x="823" y="546"/>
                      </a:lnTo>
                      <a:lnTo>
                        <a:pt x="878" y="547"/>
                      </a:lnTo>
                      <a:lnTo>
                        <a:pt x="914" y="543"/>
                      </a:lnTo>
                      <a:lnTo>
                        <a:pt x="941" y="536"/>
                      </a:lnTo>
                      <a:lnTo>
                        <a:pt x="961" y="524"/>
                      </a:lnTo>
                      <a:lnTo>
                        <a:pt x="983" y="510"/>
                      </a:lnTo>
                      <a:lnTo>
                        <a:pt x="1000" y="495"/>
                      </a:lnTo>
                      <a:lnTo>
                        <a:pt x="1202" y="0"/>
                      </a:lnTo>
                      <a:lnTo>
                        <a:pt x="125"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29" name="Freeform 289"/>
                <p:cNvSpPr/>
                <p:nvPr/>
              </p:nvSpPr>
              <p:spPr>
                <a:xfrm>
                  <a:off x="433296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7" h="516">
                      <a:moveTo>
                        <a:pt x="0" y="339"/>
                      </a:moveTo>
                      <a:lnTo>
                        <a:pt x="3" y="376"/>
                      </a:lnTo>
                      <a:lnTo>
                        <a:pt x="7" y="395"/>
                      </a:lnTo>
                      <a:lnTo>
                        <a:pt x="15" y="419"/>
                      </a:lnTo>
                      <a:lnTo>
                        <a:pt x="22" y="443"/>
                      </a:lnTo>
                      <a:lnTo>
                        <a:pt x="37" y="468"/>
                      </a:lnTo>
                      <a:lnTo>
                        <a:pt x="55" y="485"/>
                      </a:lnTo>
                      <a:lnTo>
                        <a:pt x="74" y="500"/>
                      </a:lnTo>
                      <a:lnTo>
                        <a:pt x="95" y="510"/>
                      </a:lnTo>
                      <a:lnTo>
                        <a:pt x="118" y="516"/>
                      </a:lnTo>
                      <a:lnTo>
                        <a:pt x="145" y="516"/>
                      </a:lnTo>
                      <a:lnTo>
                        <a:pt x="168" y="495"/>
                      </a:lnTo>
                      <a:lnTo>
                        <a:pt x="566" y="73"/>
                      </a:lnTo>
                      <a:lnTo>
                        <a:pt x="567" y="63"/>
                      </a:lnTo>
                      <a:lnTo>
                        <a:pt x="565" y="56"/>
                      </a:lnTo>
                      <a:lnTo>
                        <a:pt x="562" y="54"/>
                      </a:lnTo>
                      <a:lnTo>
                        <a:pt x="557" y="48"/>
                      </a:lnTo>
                      <a:lnTo>
                        <a:pt x="548" y="44"/>
                      </a:lnTo>
                      <a:lnTo>
                        <a:pt x="539" y="41"/>
                      </a:lnTo>
                      <a:lnTo>
                        <a:pt x="384"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30" name="Freeform 290"/>
              <p:cNvSpPr/>
              <p:nvPr/>
            </p:nvSpPr>
            <p:spPr>
              <a:xfrm>
                <a:off x="4149000" y="2998080"/>
                <a:ext cx="282240" cy="40680"/>
              </a:xfrm>
              <a:custGeom>
                <a:avLst/>
                <a:gdLst>
                  <a:gd name="textAreaLeft" fmla="*/ 0 w 282240"/>
                  <a:gd name="textAreaRight" fmla="*/ 282600 w 282240"/>
                  <a:gd name="textAreaTop" fmla="*/ 0 h 40680"/>
                  <a:gd name="textAreaBottom" fmla="*/ 41040 h 40680"/>
                </a:gdLst>
                <a:ahLst/>
                <a:rect l="textAreaLeft" t="textAreaTop" r="textAreaRight" b="textAreaBottom"/>
                <a:pathLst>
                  <a:path w="1090" h="347">
                    <a:moveTo>
                      <a:pt x="1090" y="0"/>
                    </a:moveTo>
                    <a:lnTo>
                      <a:pt x="724" y="318"/>
                    </a:lnTo>
                    <a:lnTo>
                      <a:pt x="712" y="332"/>
                    </a:lnTo>
                    <a:lnTo>
                      <a:pt x="696" y="342"/>
                    </a:lnTo>
                    <a:lnTo>
                      <a:pt x="671" y="347"/>
                    </a:lnTo>
                    <a:lnTo>
                      <a:pt x="630" y="344"/>
                    </a:lnTo>
                    <a:lnTo>
                      <a:pt x="0" y="276"/>
                    </a:lnTo>
                    <a:lnTo>
                      <a:pt x="7" y="223"/>
                    </a:lnTo>
                    <a:lnTo>
                      <a:pt x="1090"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331" name="Group 291"/>
              <p:cNvGrpSpPr/>
              <p:nvPr/>
            </p:nvGrpSpPr>
            <p:grpSpPr>
              <a:xfrm>
                <a:off x="4145040" y="2784600"/>
                <a:ext cx="284760" cy="252360"/>
                <a:chOff x="4145040" y="2784600"/>
                <a:chExt cx="284760" cy="252360"/>
              </a:xfrm>
            </p:grpSpPr>
            <p:sp>
              <p:nvSpPr>
                <p:cNvPr id="332" name="Freeform 292"/>
                <p:cNvSpPr/>
                <p:nvPr/>
              </p:nvSpPr>
              <p:spPr>
                <a:xfrm>
                  <a:off x="4146120" y="2786400"/>
                  <a:ext cx="283680" cy="250560"/>
                </a:xfrm>
                <a:custGeom>
                  <a:avLst/>
                  <a:gdLst>
                    <a:gd name="textAreaLeft" fmla="*/ 0 w 283680"/>
                    <a:gd name="textAreaRight" fmla="*/ 284040 w 283680"/>
                    <a:gd name="textAreaTop" fmla="*/ 0 h 250560"/>
                    <a:gd name="textAreaBottom" fmla="*/ 250920 h 250560"/>
                  </a:gdLst>
                  <a:ahLst/>
                  <a:rect l="textAreaLeft" t="textAreaTop" r="textAreaRight" b="textAreaBottom"/>
                  <a:pathLst>
                    <a:path w="1091" h="2133">
                      <a:moveTo>
                        <a:pt x="1091" y="2"/>
                      </a:moveTo>
                      <a:lnTo>
                        <a:pt x="1091" y="1788"/>
                      </a:lnTo>
                      <a:lnTo>
                        <a:pt x="725" y="2106"/>
                      </a:lnTo>
                      <a:lnTo>
                        <a:pt x="715" y="2117"/>
                      </a:lnTo>
                      <a:lnTo>
                        <a:pt x="699" y="2126"/>
                      </a:lnTo>
                      <a:lnTo>
                        <a:pt x="677" y="2133"/>
                      </a:lnTo>
                      <a:lnTo>
                        <a:pt x="638" y="2130"/>
                      </a:lnTo>
                      <a:lnTo>
                        <a:pt x="38" y="2068"/>
                      </a:lnTo>
                      <a:lnTo>
                        <a:pt x="17" y="2063"/>
                      </a:lnTo>
                      <a:lnTo>
                        <a:pt x="5" y="2052"/>
                      </a:lnTo>
                      <a:lnTo>
                        <a:pt x="1" y="2039"/>
                      </a:lnTo>
                      <a:lnTo>
                        <a:pt x="0" y="2011"/>
                      </a:lnTo>
                      <a:lnTo>
                        <a:pt x="2" y="76"/>
                      </a:lnTo>
                      <a:lnTo>
                        <a:pt x="659" y="0"/>
                      </a:lnTo>
                      <a:lnTo>
                        <a:pt x="1091"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93"/>
                <p:cNvSpPr/>
                <p:nvPr/>
              </p:nvSpPr>
              <p:spPr>
                <a:xfrm>
                  <a:off x="4145040" y="2784600"/>
                  <a:ext cx="281160" cy="15480"/>
                </a:xfrm>
                <a:custGeom>
                  <a:avLst/>
                  <a:gdLst>
                    <a:gd name="textAreaLeft" fmla="*/ 0 w 281160"/>
                    <a:gd name="textAreaRight" fmla="*/ 281520 w 281160"/>
                    <a:gd name="textAreaTop" fmla="*/ 0 h 15480"/>
                    <a:gd name="textAreaBottom" fmla="*/ 15840 h 15480"/>
                  </a:gdLst>
                  <a:ahLst/>
                  <a:rect l="textAreaLeft" t="textAreaTop" r="textAreaRight" b="textAreaBottom"/>
                  <a:pathLst>
                    <a:path w="1083" h="133">
                      <a:moveTo>
                        <a:pt x="7" y="86"/>
                      </a:moveTo>
                      <a:lnTo>
                        <a:pt x="621" y="0"/>
                      </a:lnTo>
                      <a:lnTo>
                        <a:pt x="1083" y="16"/>
                      </a:lnTo>
                      <a:lnTo>
                        <a:pt x="660" y="133"/>
                      </a:lnTo>
                      <a:lnTo>
                        <a:pt x="0" y="104"/>
                      </a:lnTo>
                      <a:lnTo>
                        <a:pt x="0" y="97"/>
                      </a:lnTo>
                      <a:lnTo>
                        <a:pt x="1"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34" name="Group 294"/>
              <p:cNvGrpSpPr/>
              <p:nvPr/>
            </p:nvGrpSpPr>
            <p:grpSpPr>
              <a:xfrm>
                <a:off x="4142520" y="2794680"/>
                <a:ext cx="195840" cy="234720"/>
                <a:chOff x="4142520" y="2794680"/>
                <a:chExt cx="195840" cy="234720"/>
              </a:xfrm>
            </p:grpSpPr>
            <p:sp>
              <p:nvSpPr>
                <p:cNvPr id="335" name="Freeform 295"/>
                <p:cNvSpPr/>
                <p:nvPr/>
              </p:nvSpPr>
              <p:spPr>
                <a:xfrm>
                  <a:off x="4142520" y="2794680"/>
                  <a:ext cx="181440" cy="233640"/>
                </a:xfrm>
                <a:custGeom>
                  <a:avLst/>
                  <a:gdLst>
                    <a:gd name="textAreaLeft" fmla="*/ 0 w 181440"/>
                    <a:gd name="textAreaRight" fmla="*/ 181800 w 181440"/>
                    <a:gd name="textAreaTop" fmla="*/ 0 h 233640"/>
                    <a:gd name="textAreaBottom" fmla="*/ 234000 h 233640"/>
                  </a:gdLst>
                  <a:ahLst/>
                  <a:rect l="textAreaLeft" t="textAreaTop" r="textAreaRight" b="textAreaBottom"/>
                  <a:pathLst>
                    <a:path w="700" h="1987">
                      <a:moveTo>
                        <a:pt x="16" y="1921"/>
                      </a:moveTo>
                      <a:lnTo>
                        <a:pt x="26" y="1944"/>
                      </a:lnTo>
                      <a:lnTo>
                        <a:pt x="42" y="1948"/>
                      </a:lnTo>
                      <a:lnTo>
                        <a:pt x="61" y="1948"/>
                      </a:lnTo>
                      <a:lnTo>
                        <a:pt x="81" y="1948"/>
                      </a:lnTo>
                      <a:lnTo>
                        <a:pt x="700" y="1987"/>
                      </a:lnTo>
                      <a:lnTo>
                        <a:pt x="700" y="76"/>
                      </a:lnTo>
                      <a:lnTo>
                        <a:pt x="695" y="54"/>
                      </a:lnTo>
                      <a:lnTo>
                        <a:pt x="682" y="43"/>
                      </a:lnTo>
                      <a:lnTo>
                        <a:pt x="664" y="36"/>
                      </a:lnTo>
                      <a:lnTo>
                        <a:pt x="645" y="36"/>
                      </a:lnTo>
                      <a:lnTo>
                        <a:pt x="625" y="36"/>
                      </a:lnTo>
                      <a:lnTo>
                        <a:pt x="145" y="5"/>
                      </a:lnTo>
                      <a:lnTo>
                        <a:pt x="81" y="0"/>
                      </a:lnTo>
                      <a:lnTo>
                        <a:pt x="59" y="0"/>
                      </a:lnTo>
                      <a:lnTo>
                        <a:pt x="41" y="2"/>
                      </a:lnTo>
                      <a:lnTo>
                        <a:pt x="21" y="10"/>
                      </a:lnTo>
                      <a:lnTo>
                        <a:pt x="14" y="18"/>
                      </a:lnTo>
                      <a:lnTo>
                        <a:pt x="5" y="41"/>
                      </a:lnTo>
                      <a:lnTo>
                        <a:pt x="1" y="76"/>
                      </a:lnTo>
                      <a:lnTo>
                        <a:pt x="0" y="1092"/>
                      </a:lnTo>
                      <a:lnTo>
                        <a:pt x="0" y="1104"/>
                      </a:lnTo>
                      <a:lnTo>
                        <a:pt x="12" y="1107"/>
                      </a:lnTo>
                      <a:lnTo>
                        <a:pt x="16" y="1106"/>
                      </a:lnTo>
                      <a:lnTo>
                        <a:pt x="16"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296"/>
                <p:cNvSpPr/>
                <p:nvPr/>
              </p:nvSpPr>
              <p:spPr>
                <a:xfrm flipH="1">
                  <a:off x="4336920" y="2798640"/>
                  <a:ext cx="144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297"/>
                <p:cNvSpPr/>
                <p:nvPr/>
              </p:nvSpPr>
              <p:spPr>
                <a:xfrm>
                  <a:off x="4321080" y="2797200"/>
                  <a:ext cx="14400" cy="231840"/>
                </a:xfrm>
                <a:custGeom>
                  <a:avLst/>
                  <a:gdLst>
                    <a:gd name="textAreaLeft" fmla="*/ 0 w 14400"/>
                    <a:gd name="textAreaRight" fmla="*/ 14760 w 1440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98"/>
                <p:cNvSpPr/>
                <p:nvPr/>
              </p:nvSpPr>
              <p:spPr>
                <a:xfrm>
                  <a:off x="4143600" y="2907000"/>
                  <a:ext cx="1789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9" name="Line 299"/>
                <p:cNvSpPr/>
                <p:nvPr/>
              </p:nvSpPr>
              <p:spPr>
                <a:xfrm>
                  <a:off x="4143600" y="2921760"/>
                  <a:ext cx="17892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340" name="Group 300"/>
                <p:cNvGrpSpPr/>
                <p:nvPr/>
              </p:nvGrpSpPr>
              <p:grpSpPr>
                <a:xfrm>
                  <a:off x="4155120" y="2926080"/>
                  <a:ext cx="167040" cy="103320"/>
                  <a:chOff x="4155120" y="2926080"/>
                  <a:chExt cx="167040" cy="103320"/>
                </a:xfrm>
              </p:grpSpPr>
              <p:sp>
                <p:nvSpPr>
                  <p:cNvPr id="341" name="Line 301"/>
                  <p:cNvSpPr/>
                  <p:nvPr/>
                </p:nvSpPr>
                <p:spPr>
                  <a:xfrm>
                    <a:off x="4155120" y="3021840"/>
                    <a:ext cx="16704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42" name="Line 302"/>
                  <p:cNvSpPr/>
                  <p:nvPr/>
                </p:nvSpPr>
                <p:spPr>
                  <a:xfrm flipV="1">
                    <a:off x="430272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303"/>
                  <p:cNvSpPr/>
                  <p:nvPr/>
                </p:nvSpPr>
                <p:spPr>
                  <a:xfrm>
                    <a:off x="415872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304"/>
                  <p:cNvSpPr/>
                  <p:nvPr/>
                </p:nvSpPr>
                <p:spPr>
                  <a:xfrm>
                    <a:off x="416520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305"/>
                  <p:cNvSpPr/>
                  <p:nvPr/>
                </p:nvSpPr>
                <p:spPr>
                  <a:xfrm>
                    <a:off x="417060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306"/>
                  <p:cNvSpPr/>
                  <p:nvPr/>
                </p:nvSpPr>
                <p:spPr>
                  <a:xfrm>
                    <a:off x="417708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307"/>
                  <p:cNvSpPr/>
                  <p:nvPr/>
                </p:nvSpPr>
                <p:spPr>
                  <a:xfrm>
                    <a:off x="418212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308"/>
                  <p:cNvSpPr/>
                  <p:nvPr/>
                </p:nvSpPr>
                <p:spPr>
                  <a:xfrm>
                    <a:off x="420552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309"/>
                  <p:cNvSpPr/>
                  <p:nvPr/>
                </p:nvSpPr>
                <p:spPr>
                  <a:xfrm>
                    <a:off x="418860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310"/>
                  <p:cNvSpPr/>
                  <p:nvPr/>
                </p:nvSpPr>
                <p:spPr>
                  <a:xfrm>
                    <a:off x="419364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311"/>
                  <p:cNvSpPr/>
                  <p:nvPr/>
                </p:nvSpPr>
                <p:spPr>
                  <a:xfrm>
                    <a:off x="420012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12"/>
                  <p:cNvSpPr/>
                  <p:nvPr/>
                </p:nvSpPr>
                <p:spPr>
                  <a:xfrm>
                    <a:off x="421200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313"/>
                  <p:cNvSpPr/>
                  <p:nvPr/>
                </p:nvSpPr>
                <p:spPr>
                  <a:xfrm>
                    <a:off x="421704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314"/>
                  <p:cNvSpPr/>
                  <p:nvPr/>
                </p:nvSpPr>
                <p:spPr>
                  <a:xfrm>
                    <a:off x="422208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315"/>
                  <p:cNvSpPr/>
                  <p:nvPr/>
                </p:nvSpPr>
                <p:spPr>
                  <a:xfrm>
                    <a:off x="423000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316"/>
                  <p:cNvSpPr/>
                  <p:nvPr/>
                </p:nvSpPr>
                <p:spPr>
                  <a:xfrm>
                    <a:off x="423504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317"/>
                  <p:cNvSpPr/>
                  <p:nvPr/>
                </p:nvSpPr>
                <p:spPr>
                  <a:xfrm>
                    <a:off x="424152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8"/>
                  <p:cNvSpPr/>
                  <p:nvPr/>
                </p:nvSpPr>
                <p:spPr>
                  <a:xfrm>
                    <a:off x="424800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319"/>
                  <p:cNvSpPr/>
                  <p:nvPr/>
                </p:nvSpPr>
                <p:spPr>
                  <a:xfrm>
                    <a:off x="42534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320"/>
                  <p:cNvSpPr/>
                  <p:nvPr/>
                </p:nvSpPr>
                <p:spPr>
                  <a:xfrm flipV="1">
                    <a:off x="4259880" y="292932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321"/>
                  <p:cNvSpPr/>
                  <p:nvPr/>
                </p:nvSpPr>
                <p:spPr>
                  <a:xfrm>
                    <a:off x="426636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322"/>
                  <p:cNvSpPr/>
                  <p:nvPr/>
                </p:nvSpPr>
                <p:spPr>
                  <a:xfrm>
                    <a:off x="427140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23"/>
                  <p:cNvSpPr/>
                  <p:nvPr/>
                </p:nvSpPr>
                <p:spPr>
                  <a:xfrm>
                    <a:off x="42778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324"/>
                  <p:cNvSpPr/>
                  <p:nvPr/>
                </p:nvSpPr>
                <p:spPr>
                  <a:xfrm>
                    <a:off x="42832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325"/>
                  <p:cNvSpPr/>
                  <p:nvPr/>
                </p:nvSpPr>
                <p:spPr>
                  <a:xfrm flipV="1">
                    <a:off x="4289760" y="293076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26"/>
                  <p:cNvSpPr/>
                  <p:nvPr/>
                </p:nvSpPr>
                <p:spPr>
                  <a:xfrm>
                    <a:off x="429624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Line 327"/>
                <p:cNvSpPr/>
                <p:nvPr/>
              </p:nvSpPr>
              <p:spPr>
                <a:xfrm>
                  <a:off x="4142520" y="2816280"/>
                  <a:ext cx="18000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68" name="Line 328"/>
                <p:cNvSpPr/>
                <p:nvPr/>
              </p:nvSpPr>
              <p:spPr>
                <a:xfrm>
                  <a:off x="4143600" y="2925000"/>
                  <a:ext cx="17748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369" name="Group 329"/>
                <p:cNvGrpSpPr/>
                <p:nvPr/>
              </p:nvGrpSpPr>
              <p:grpSpPr>
                <a:xfrm>
                  <a:off x="4160520" y="2802960"/>
                  <a:ext cx="145800" cy="14040"/>
                  <a:chOff x="4160520" y="2802960"/>
                  <a:chExt cx="145800" cy="14040"/>
                </a:xfrm>
              </p:grpSpPr>
              <p:sp>
                <p:nvSpPr>
                  <p:cNvPr id="370" name="Oval 330"/>
                  <p:cNvSpPr/>
                  <p:nvPr/>
                </p:nvSpPr>
                <p:spPr>
                  <a:xfrm>
                    <a:off x="4160520" y="2802960"/>
                    <a:ext cx="1656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331"/>
                  <p:cNvSpPr/>
                  <p:nvPr/>
                </p:nvSpPr>
                <p:spPr>
                  <a:xfrm>
                    <a:off x="4193640" y="2803680"/>
                    <a:ext cx="1692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332"/>
                  <p:cNvSpPr/>
                  <p:nvPr/>
                </p:nvSpPr>
                <p:spPr>
                  <a:xfrm>
                    <a:off x="422748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333"/>
                  <p:cNvSpPr/>
                  <p:nvPr/>
                </p:nvSpPr>
                <p:spPr>
                  <a:xfrm>
                    <a:off x="4289760" y="2805120"/>
                    <a:ext cx="16560" cy="11880"/>
                  </a:xfrm>
                  <a:custGeom>
                    <a:avLst/>
                    <a:gdLst>
                      <a:gd name="textAreaLeft" fmla="*/ 0 w 16560"/>
                      <a:gd name="textAreaRight" fmla="*/ 16920 w 16560"/>
                      <a:gd name="textAreaTop" fmla="*/ 0 h 11880"/>
                      <a:gd name="textAreaBottom" fmla="*/ 12240 h 11880"/>
                    </a:gdLst>
                    <a:ahLst/>
                    <a:rect l="textAreaLeft" t="textAreaTop" r="textAreaRight" b="textAreaBottom"/>
                    <a:pathLst>
                      <a:path w="64" h="98">
                        <a:moveTo>
                          <a:pt x="0" y="0"/>
                        </a:moveTo>
                        <a:lnTo>
                          <a:pt x="64" y="3"/>
                        </a:lnTo>
                        <a:lnTo>
                          <a:pt x="64"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374" name="Group 334"/>
                <p:cNvGrpSpPr/>
                <p:nvPr/>
              </p:nvGrpSpPr>
              <p:grpSpPr>
                <a:xfrm>
                  <a:off x="4142520" y="2831760"/>
                  <a:ext cx="182520" cy="65160"/>
                  <a:chOff x="4142520" y="2831760"/>
                  <a:chExt cx="182520" cy="65160"/>
                </a:xfrm>
              </p:grpSpPr>
              <p:sp>
                <p:nvSpPr>
                  <p:cNvPr id="375" name="Line 335"/>
                  <p:cNvSpPr/>
                  <p:nvPr/>
                </p:nvSpPr>
                <p:spPr>
                  <a:xfrm>
                    <a:off x="4143600" y="2831760"/>
                    <a:ext cx="18144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6" name="Line 336"/>
                  <p:cNvSpPr/>
                  <p:nvPr/>
                </p:nvSpPr>
                <p:spPr>
                  <a:xfrm>
                    <a:off x="4143600" y="2847240"/>
                    <a:ext cx="1789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7" name="Line 337"/>
                  <p:cNvSpPr/>
                  <p:nvPr/>
                </p:nvSpPr>
                <p:spPr>
                  <a:xfrm>
                    <a:off x="4143600" y="2876040"/>
                    <a:ext cx="17748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8" name="Line 338"/>
                  <p:cNvSpPr/>
                  <p:nvPr/>
                </p:nvSpPr>
                <p:spPr>
                  <a:xfrm>
                    <a:off x="4142520" y="2891160"/>
                    <a:ext cx="1814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79" name="Line 339"/>
                  <p:cNvSpPr/>
                  <p:nvPr/>
                </p:nvSpPr>
                <p:spPr>
                  <a:xfrm>
                    <a:off x="4143600" y="2861280"/>
                    <a:ext cx="178920" cy="5760"/>
                  </a:xfrm>
                  <a:prstGeom prst="line">
                    <a:avLst/>
                  </a:prstGeom>
                  <a:ln w="3240">
                    <a:solidFill>
                      <a:srgbClr val="60606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80" name="Freeform 340"/>
                  <p:cNvSpPr/>
                  <p:nvPr/>
                </p:nvSpPr>
                <p:spPr>
                  <a:xfrm>
                    <a:off x="4158000" y="2832480"/>
                    <a:ext cx="147600" cy="19440"/>
                  </a:xfrm>
                  <a:custGeom>
                    <a:avLst/>
                    <a:gdLst>
                      <a:gd name="textAreaLeft" fmla="*/ 0 w 147600"/>
                      <a:gd name="textAreaRight" fmla="*/ 147960 w 147600"/>
                      <a:gd name="textAreaTop" fmla="*/ 0 h 19440"/>
                      <a:gd name="textAreaBottom" fmla="*/ 19800 h 19440"/>
                    </a:gdLst>
                    <a:ahLst/>
                    <a:rect l="textAreaLeft" t="textAreaTop" r="textAreaRight" b="textAreaBottom"/>
                    <a:pathLst>
                      <a:path w="570" h="168">
                        <a:moveTo>
                          <a:pt x="0" y="0"/>
                        </a:moveTo>
                        <a:lnTo>
                          <a:pt x="0" y="130"/>
                        </a:lnTo>
                        <a:lnTo>
                          <a:pt x="570" y="168"/>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1" name="Freeform 341"/>
                  <p:cNvSpPr/>
                  <p:nvPr/>
                </p:nvSpPr>
                <p:spPr>
                  <a:xfrm>
                    <a:off x="4158000" y="2847240"/>
                    <a:ext cx="147600" cy="19800"/>
                  </a:xfrm>
                  <a:custGeom>
                    <a:avLst/>
                    <a:gdLst>
                      <a:gd name="textAreaLeft" fmla="*/ 0 w 147600"/>
                      <a:gd name="textAreaRight" fmla="*/ 147960 w 147600"/>
                      <a:gd name="textAreaTop" fmla="*/ 0 h 19800"/>
                      <a:gd name="textAreaBottom" fmla="*/ 20160 h 19800"/>
                    </a:gdLst>
                    <a:ahLst/>
                    <a:rect l="textAreaLeft" t="textAreaTop" r="textAreaRight" b="textAreaBottom"/>
                    <a:pathLst>
                      <a:path w="570" h="169">
                        <a:moveTo>
                          <a:pt x="0" y="0"/>
                        </a:moveTo>
                        <a:lnTo>
                          <a:pt x="0" y="130"/>
                        </a:lnTo>
                        <a:lnTo>
                          <a:pt x="570" y="169"/>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82" name="Freeform 342"/>
                  <p:cNvSpPr/>
                  <p:nvPr/>
                </p:nvSpPr>
                <p:spPr>
                  <a:xfrm>
                    <a:off x="4158000" y="2862000"/>
                    <a:ext cx="147600" cy="18720"/>
                  </a:xfrm>
                  <a:custGeom>
                    <a:avLst/>
                    <a:gdLst>
                      <a:gd name="textAreaLeft" fmla="*/ 0 w 147600"/>
                      <a:gd name="textAreaRight" fmla="*/ 147960 w 147600"/>
                      <a:gd name="textAreaTop" fmla="*/ 0 h 18720"/>
                      <a:gd name="textAreaBottom" fmla="*/ 19080 h 18720"/>
                    </a:gdLst>
                    <a:ahLst/>
                    <a:rect l="textAreaLeft" t="textAreaTop" r="textAreaRight" b="textAreaBottom"/>
                    <a:pathLst>
                      <a:path w="570" h="167">
                        <a:moveTo>
                          <a:pt x="0" y="0"/>
                        </a:moveTo>
                        <a:lnTo>
                          <a:pt x="0" y="130"/>
                        </a:lnTo>
                        <a:lnTo>
                          <a:pt x="570" y="167"/>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3" name="Freeform 343"/>
                  <p:cNvSpPr/>
                  <p:nvPr/>
                </p:nvSpPr>
                <p:spPr>
                  <a:xfrm>
                    <a:off x="4158000" y="2876760"/>
                    <a:ext cx="147600" cy="20160"/>
                  </a:xfrm>
                  <a:custGeom>
                    <a:avLst/>
                    <a:gdLst>
                      <a:gd name="textAreaLeft" fmla="*/ 0 w 147600"/>
                      <a:gd name="textAreaRight" fmla="*/ 147960 w 147600"/>
                      <a:gd name="textAreaTop" fmla="*/ 0 h 20160"/>
                      <a:gd name="textAreaBottom" fmla="*/ 20520 h 20160"/>
                    </a:gdLst>
                    <a:ahLst/>
                    <a:rect l="textAreaLeft" t="textAreaTop" r="textAreaRight" b="textAreaBottom"/>
                    <a:pathLst>
                      <a:path w="571" h="174">
                        <a:moveTo>
                          <a:pt x="0" y="0"/>
                        </a:moveTo>
                        <a:lnTo>
                          <a:pt x="0" y="128"/>
                        </a:lnTo>
                        <a:lnTo>
                          <a:pt x="571" y="174"/>
                        </a:lnTo>
                        <a:lnTo>
                          <a:pt x="571"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384" name="Group 344"/>
                  <p:cNvGrpSpPr/>
                  <p:nvPr/>
                </p:nvGrpSpPr>
                <p:grpSpPr>
                  <a:xfrm>
                    <a:off x="4170960" y="2836440"/>
                    <a:ext cx="116640" cy="25560"/>
                    <a:chOff x="4170960" y="2836440"/>
                    <a:chExt cx="116640" cy="25560"/>
                  </a:xfrm>
                </p:grpSpPr>
                <p:sp>
                  <p:nvSpPr>
                    <p:cNvPr id="385" name="Oval 345"/>
                    <p:cNvSpPr/>
                    <p:nvPr/>
                  </p:nvSpPr>
                  <p:spPr>
                    <a:xfrm>
                      <a:off x="4262760" y="2839320"/>
                      <a:ext cx="252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46"/>
                    <p:cNvSpPr/>
                    <p:nvPr/>
                  </p:nvSpPr>
                  <p:spPr>
                    <a:xfrm>
                      <a:off x="4183560" y="2850480"/>
                      <a:ext cx="90720" cy="8280"/>
                    </a:xfrm>
                    <a:custGeom>
                      <a:avLst/>
                      <a:gdLst>
                        <a:gd name="textAreaLeft" fmla="*/ 0 w 90720"/>
                        <a:gd name="textAreaRight" fmla="*/ 91080 w 90720"/>
                        <a:gd name="textAreaTop" fmla="*/ 0 h 8280"/>
                        <a:gd name="textAreaBottom" fmla="*/ 8640 h 8280"/>
                      </a:gdLst>
                      <a:ahLst/>
                      <a:rect l="textAreaLeft" t="textAreaTop" r="textAreaRight" b="textAreaBottom"/>
                      <a:pathLst>
                        <a:path w="350" h="74">
                          <a:moveTo>
                            <a:pt x="0" y="74"/>
                          </a:moveTo>
                          <a:lnTo>
                            <a:pt x="0" y="0"/>
                          </a:lnTo>
                          <a:lnTo>
                            <a:pt x="350"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87" name="Freeform 347"/>
                    <p:cNvSpPr/>
                    <p:nvPr/>
                  </p:nvSpPr>
                  <p:spPr>
                    <a:xfrm>
                      <a:off x="4187520" y="2854800"/>
                      <a:ext cx="84240" cy="3960"/>
                    </a:xfrm>
                    <a:custGeom>
                      <a:avLst/>
                      <a:gdLst>
                        <a:gd name="textAreaLeft" fmla="*/ 0 w 84240"/>
                        <a:gd name="textAreaRight" fmla="*/ 84600 w 84240"/>
                        <a:gd name="textAreaTop" fmla="*/ 0 h 3960"/>
                        <a:gd name="textAreaBottom" fmla="*/ 4320 h 3960"/>
                      </a:gdLst>
                      <a:ahLst/>
                      <a:rect l="textAreaLeft" t="textAreaTop" r="textAreaRight" b="textAreaBottom"/>
                      <a:pathLst>
                        <a:path w="324" h="38">
                          <a:moveTo>
                            <a:pt x="0" y="0"/>
                          </a:moveTo>
                          <a:lnTo>
                            <a:pt x="0" y="14"/>
                          </a:lnTo>
                          <a:lnTo>
                            <a:pt x="324" y="38"/>
                          </a:lnTo>
                          <a:lnTo>
                            <a:pt x="324"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88" name="Freeform 348"/>
                    <p:cNvSpPr/>
                    <p:nvPr/>
                  </p:nvSpPr>
                  <p:spPr>
                    <a:xfrm>
                      <a:off x="4243320" y="2859480"/>
                      <a:ext cx="27000" cy="2520"/>
                    </a:xfrm>
                    <a:custGeom>
                      <a:avLst/>
                      <a:gdLst>
                        <a:gd name="textAreaLeft" fmla="*/ 0 w 27000"/>
                        <a:gd name="textAreaRight" fmla="*/ 27360 w 27000"/>
                        <a:gd name="textAreaTop" fmla="*/ 0 h 2520"/>
                        <a:gd name="textAreaBottom" fmla="*/ 2880 h 2520"/>
                      </a:gdLst>
                      <a:ahLst/>
                      <a:rect l="textAreaLeft" t="textAreaTop" r="textAreaRight" b="textAreaBottom"/>
                      <a:pathLst>
                        <a:path w="105" h="25">
                          <a:moveTo>
                            <a:pt x="0" y="0"/>
                          </a:moveTo>
                          <a:lnTo>
                            <a:pt x="105" y="7"/>
                          </a:lnTo>
                          <a:lnTo>
                            <a:pt x="105"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89" name="Freeform 349"/>
                    <p:cNvSpPr/>
                    <p:nvPr/>
                  </p:nvSpPr>
                  <p:spPr>
                    <a:xfrm>
                      <a:off x="4191480" y="2836440"/>
                      <a:ext cx="64800" cy="11160"/>
                    </a:xfrm>
                    <a:custGeom>
                      <a:avLst/>
                      <a:gdLst>
                        <a:gd name="textAreaLeft" fmla="*/ 0 w 64800"/>
                        <a:gd name="textAreaRight" fmla="*/ 65160 w 64800"/>
                        <a:gd name="textAreaTop" fmla="*/ 0 h 11160"/>
                        <a:gd name="textAreaBottom" fmla="*/ 11520 h 11160"/>
                      </a:gdLst>
                      <a:ahLst/>
                      <a:rect l="textAreaLeft" t="textAreaTop" r="textAreaRight" b="textAreaBottom"/>
                      <a:pathLst>
                        <a:path w="249" h="93">
                          <a:moveTo>
                            <a:pt x="0" y="2"/>
                          </a:moveTo>
                          <a:lnTo>
                            <a:pt x="0" y="75"/>
                          </a:lnTo>
                          <a:lnTo>
                            <a:pt x="248" y="93"/>
                          </a:lnTo>
                          <a:lnTo>
                            <a:pt x="249" y="7"/>
                          </a:lnTo>
                          <a:lnTo>
                            <a:pt x="137" y="0"/>
                          </a:lnTo>
                          <a:lnTo>
                            <a:pt x="123"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0" name="Freeform 350"/>
                    <p:cNvSpPr/>
                    <p:nvPr/>
                  </p:nvSpPr>
                  <p:spPr>
                    <a:xfrm>
                      <a:off x="4170960" y="2839320"/>
                      <a:ext cx="116640" cy="4680"/>
                    </a:xfrm>
                    <a:custGeom>
                      <a:avLst/>
                      <a:gdLst>
                        <a:gd name="textAreaLeft" fmla="*/ 0 w 116640"/>
                        <a:gd name="textAreaRight" fmla="*/ 117000 w 116640"/>
                        <a:gd name="textAreaTop" fmla="*/ 0 h 4680"/>
                        <a:gd name="textAreaBottom" fmla="*/ 5040 h 4680"/>
                      </a:gdLst>
                      <a:ahLst/>
                      <a:rect l="textAreaLeft" t="textAreaTop" r="textAreaRight" b="textAreaBottom"/>
                      <a:pathLst>
                        <a:path w="449" h="43">
                          <a:moveTo>
                            <a:pt x="15" y="0"/>
                          </a:moveTo>
                          <a:lnTo>
                            <a:pt x="7" y="0"/>
                          </a:lnTo>
                          <a:lnTo>
                            <a:pt x="0" y="0"/>
                          </a:lnTo>
                          <a:lnTo>
                            <a:pt x="0" y="8"/>
                          </a:lnTo>
                          <a:lnTo>
                            <a:pt x="0" y="12"/>
                          </a:lnTo>
                          <a:lnTo>
                            <a:pt x="7" y="15"/>
                          </a:lnTo>
                          <a:lnTo>
                            <a:pt x="15" y="15"/>
                          </a:lnTo>
                          <a:lnTo>
                            <a:pt x="440" y="43"/>
                          </a:lnTo>
                          <a:lnTo>
                            <a:pt x="448" y="43"/>
                          </a:lnTo>
                          <a:lnTo>
                            <a:pt x="449" y="32"/>
                          </a:lnTo>
                          <a:lnTo>
                            <a:pt x="443" y="29"/>
                          </a:lnTo>
                          <a:lnTo>
                            <a:pt x="425"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391" name="Group 351"/>
              <p:cNvGrpSpPr/>
              <p:nvPr/>
            </p:nvGrpSpPr>
            <p:grpSpPr>
              <a:xfrm>
                <a:off x="4507920" y="2997360"/>
                <a:ext cx="362520" cy="64800"/>
                <a:chOff x="4507920" y="2997360"/>
                <a:chExt cx="362520" cy="64800"/>
              </a:xfrm>
            </p:grpSpPr>
            <p:sp>
              <p:nvSpPr>
                <p:cNvPr id="392" name="Freeform 352"/>
                <p:cNvSpPr/>
                <p:nvPr/>
              </p:nvSpPr>
              <p:spPr>
                <a:xfrm>
                  <a:off x="4507920" y="2998080"/>
                  <a:ext cx="309600" cy="64080"/>
                </a:xfrm>
                <a:custGeom>
                  <a:avLst/>
                  <a:gdLst>
                    <a:gd name="textAreaLeft" fmla="*/ 0 w 309600"/>
                    <a:gd name="textAreaRight" fmla="*/ 309960 w 309600"/>
                    <a:gd name="textAreaTop" fmla="*/ 0 h 64080"/>
                    <a:gd name="textAreaBottom" fmla="*/ 64440 h 64080"/>
                  </a:gdLst>
                  <a:ahLst/>
                  <a:rect l="textAreaLeft" t="textAreaTop" r="textAreaRight" b="textAreaBottom"/>
                  <a:pathLst>
                    <a:path w="1198" h="547">
                      <a:moveTo>
                        <a:pt x="124" y="289"/>
                      </a:moveTo>
                      <a:lnTo>
                        <a:pt x="107" y="313"/>
                      </a:lnTo>
                      <a:lnTo>
                        <a:pt x="49" y="356"/>
                      </a:lnTo>
                      <a:lnTo>
                        <a:pt x="15" y="381"/>
                      </a:lnTo>
                      <a:lnTo>
                        <a:pt x="0" y="397"/>
                      </a:lnTo>
                      <a:lnTo>
                        <a:pt x="0" y="413"/>
                      </a:lnTo>
                      <a:lnTo>
                        <a:pt x="15" y="431"/>
                      </a:lnTo>
                      <a:lnTo>
                        <a:pt x="33" y="445"/>
                      </a:lnTo>
                      <a:lnTo>
                        <a:pt x="71" y="453"/>
                      </a:lnTo>
                      <a:lnTo>
                        <a:pt x="113" y="460"/>
                      </a:lnTo>
                      <a:lnTo>
                        <a:pt x="755" y="539"/>
                      </a:lnTo>
                      <a:lnTo>
                        <a:pt x="820" y="546"/>
                      </a:lnTo>
                      <a:lnTo>
                        <a:pt x="875" y="547"/>
                      </a:lnTo>
                      <a:lnTo>
                        <a:pt x="911" y="543"/>
                      </a:lnTo>
                      <a:lnTo>
                        <a:pt x="937" y="536"/>
                      </a:lnTo>
                      <a:lnTo>
                        <a:pt x="958" y="524"/>
                      </a:lnTo>
                      <a:lnTo>
                        <a:pt x="980" y="510"/>
                      </a:lnTo>
                      <a:lnTo>
                        <a:pt x="996" y="495"/>
                      </a:lnTo>
                      <a:lnTo>
                        <a:pt x="1198" y="0"/>
                      </a:lnTo>
                      <a:lnTo>
                        <a:pt x="124"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Freeform 353"/>
                <p:cNvSpPr/>
                <p:nvPr/>
              </p:nvSpPr>
              <p:spPr>
                <a:xfrm>
                  <a:off x="472428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5" h="516">
                      <a:moveTo>
                        <a:pt x="0" y="339"/>
                      </a:moveTo>
                      <a:lnTo>
                        <a:pt x="3" y="376"/>
                      </a:lnTo>
                      <a:lnTo>
                        <a:pt x="7" y="395"/>
                      </a:lnTo>
                      <a:lnTo>
                        <a:pt x="15" y="419"/>
                      </a:lnTo>
                      <a:lnTo>
                        <a:pt x="22" y="443"/>
                      </a:lnTo>
                      <a:lnTo>
                        <a:pt x="37" y="468"/>
                      </a:lnTo>
                      <a:lnTo>
                        <a:pt x="55" y="485"/>
                      </a:lnTo>
                      <a:lnTo>
                        <a:pt x="74" y="500"/>
                      </a:lnTo>
                      <a:lnTo>
                        <a:pt x="94" y="510"/>
                      </a:lnTo>
                      <a:lnTo>
                        <a:pt x="118" y="516"/>
                      </a:lnTo>
                      <a:lnTo>
                        <a:pt x="144" y="516"/>
                      </a:lnTo>
                      <a:lnTo>
                        <a:pt x="167" y="495"/>
                      </a:lnTo>
                      <a:lnTo>
                        <a:pt x="564" y="73"/>
                      </a:lnTo>
                      <a:lnTo>
                        <a:pt x="565" y="63"/>
                      </a:lnTo>
                      <a:lnTo>
                        <a:pt x="563" y="56"/>
                      </a:lnTo>
                      <a:lnTo>
                        <a:pt x="560" y="54"/>
                      </a:lnTo>
                      <a:lnTo>
                        <a:pt x="555" y="48"/>
                      </a:lnTo>
                      <a:lnTo>
                        <a:pt x="547" y="44"/>
                      </a:lnTo>
                      <a:lnTo>
                        <a:pt x="537" y="41"/>
                      </a:lnTo>
                      <a:lnTo>
                        <a:pt x="383"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94" name="Freeform 354"/>
              <p:cNvSpPr/>
              <p:nvPr/>
            </p:nvSpPr>
            <p:spPr>
              <a:xfrm>
                <a:off x="4541760" y="2998080"/>
                <a:ext cx="281160" cy="40680"/>
              </a:xfrm>
              <a:custGeom>
                <a:avLst/>
                <a:gdLst>
                  <a:gd name="textAreaLeft" fmla="*/ 0 w 281160"/>
                  <a:gd name="textAreaRight" fmla="*/ 281520 w 281160"/>
                  <a:gd name="textAreaTop" fmla="*/ 0 h 40680"/>
                  <a:gd name="textAreaBottom" fmla="*/ 41040 h 40680"/>
                </a:gdLst>
                <a:ahLst/>
                <a:rect l="textAreaLeft" t="textAreaTop" r="textAreaRight" b="textAreaBottom"/>
                <a:pathLst>
                  <a:path w="1085" h="347">
                    <a:moveTo>
                      <a:pt x="1085" y="0"/>
                    </a:moveTo>
                    <a:lnTo>
                      <a:pt x="721" y="318"/>
                    </a:lnTo>
                    <a:lnTo>
                      <a:pt x="709" y="332"/>
                    </a:lnTo>
                    <a:lnTo>
                      <a:pt x="693" y="342"/>
                    </a:lnTo>
                    <a:lnTo>
                      <a:pt x="668" y="347"/>
                    </a:lnTo>
                    <a:lnTo>
                      <a:pt x="627" y="344"/>
                    </a:lnTo>
                    <a:lnTo>
                      <a:pt x="0" y="276"/>
                    </a:lnTo>
                    <a:lnTo>
                      <a:pt x="7" y="223"/>
                    </a:lnTo>
                    <a:lnTo>
                      <a:pt x="1085"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395" name="Group 355"/>
              <p:cNvGrpSpPr/>
              <p:nvPr/>
            </p:nvGrpSpPr>
            <p:grpSpPr>
              <a:xfrm>
                <a:off x="4538160" y="2784600"/>
                <a:ext cx="283680" cy="252360"/>
                <a:chOff x="4538160" y="2784600"/>
                <a:chExt cx="283680" cy="252360"/>
              </a:xfrm>
            </p:grpSpPr>
            <p:sp>
              <p:nvSpPr>
                <p:cNvPr id="396" name="Freeform 356"/>
                <p:cNvSpPr/>
                <p:nvPr/>
              </p:nvSpPr>
              <p:spPr>
                <a:xfrm>
                  <a:off x="4539240" y="2786400"/>
                  <a:ext cx="282600" cy="250560"/>
                </a:xfrm>
                <a:custGeom>
                  <a:avLst/>
                  <a:gdLst>
                    <a:gd name="textAreaLeft" fmla="*/ 0 w 282600"/>
                    <a:gd name="textAreaRight" fmla="*/ 282960 w 282600"/>
                    <a:gd name="textAreaTop" fmla="*/ 0 h 250560"/>
                    <a:gd name="textAreaBottom" fmla="*/ 250920 h 250560"/>
                  </a:gdLst>
                  <a:ahLst/>
                  <a:rect l="textAreaLeft" t="textAreaTop" r="textAreaRight" b="textAreaBottom"/>
                  <a:pathLst>
                    <a:path w="1088" h="2133">
                      <a:moveTo>
                        <a:pt x="1088" y="2"/>
                      </a:moveTo>
                      <a:lnTo>
                        <a:pt x="1088" y="1788"/>
                      </a:lnTo>
                      <a:lnTo>
                        <a:pt x="723" y="2106"/>
                      </a:lnTo>
                      <a:lnTo>
                        <a:pt x="713" y="2117"/>
                      </a:lnTo>
                      <a:lnTo>
                        <a:pt x="697" y="2126"/>
                      </a:lnTo>
                      <a:lnTo>
                        <a:pt x="675" y="2133"/>
                      </a:lnTo>
                      <a:lnTo>
                        <a:pt x="637" y="2130"/>
                      </a:lnTo>
                      <a:lnTo>
                        <a:pt x="38" y="2068"/>
                      </a:lnTo>
                      <a:lnTo>
                        <a:pt x="17" y="2063"/>
                      </a:lnTo>
                      <a:lnTo>
                        <a:pt x="6" y="2052"/>
                      </a:lnTo>
                      <a:lnTo>
                        <a:pt x="1" y="2039"/>
                      </a:lnTo>
                      <a:lnTo>
                        <a:pt x="0" y="2011"/>
                      </a:lnTo>
                      <a:lnTo>
                        <a:pt x="2" y="76"/>
                      </a:lnTo>
                      <a:lnTo>
                        <a:pt x="657" y="0"/>
                      </a:lnTo>
                      <a:lnTo>
                        <a:pt x="1088"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357"/>
                <p:cNvSpPr/>
                <p:nvPr/>
              </p:nvSpPr>
              <p:spPr>
                <a:xfrm>
                  <a:off x="4538160" y="2784600"/>
                  <a:ext cx="279720" cy="15480"/>
                </a:xfrm>
                <a:custGeom>
                  <a:avLst/>
                  <a:gdLst>
                    <a:gd name="textAreaLeft" fmla="*/ 0 w 279720"/>
                    <a:gd name="textAreaRight" fmla="*/ 280080 w 279720"/>
                    <a:gd name="textAreaTop" fmla="*/ 0 h 15480"/>
                    <a:gd name="textAreaBottom" fmla="*/ 15840 h 15480"/>
                  </a:gdLst>
                  <a:ahLst/>
                  <a:rect l="textAreaLeft" t="textAreaTop" r="textAreaRight" b="textAreaBottom"/>
                  <a:pathLst>
                    <a:path w="1080" h="133">
                      <a:moveTo>
                        <a:pt x="7" y="86"/>
                      </a:moveTo>
                      <a:lnTo>
                        <a:pt x="620" y="0"/>
                      </a:lnTo>
                      <a:lnTo>
                        <a:pt x="1080" y="16"/>
                      </a:lnTo>
                      <a:lnTo>
                        <a:pt x="658" y="133"/>
                      </a:lnTo>
                      <a:lnTo>
                        <a:pt x="0" y="104"/>
                      </a:lnTo>
                      <a:lnTo>
                        <a:pt x="0" y="97"/>
                      </a:lnTo>
                      <a:lnTo>
                        <a:pt x="2"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98" name="Group 358"/>
              <p:cNvGrpSpPr/>
              <p:nvPr/>
            </p:nvGrpSpPr>
            <p:grpSpPr>
              <a:xfrm>
                <a:off x="4535280" y="2794680"/>
                <a:ext cx="193320" cy="234720"/>
                <a:chOff x="4535280" y="2794680"/>
                <a:chExt cx="193320" cy="234720"/>
              </a:xfrm>
            </p:grpSpPr>
            <p:sp>
              <p:nvSpPr>
                <p:cNvPr id="399" name="Freeform 359"/>
                <p:cNvSpPr/>
                <p:nvPr/>
              </p:nvSpPr>
              <p:spPr>
                <a:xfrm>
                  <a:off x="4535280" y="2794680"/>
                  <a:ext cx="180000" cy="233640"/>
                </a:xfrm>
                <a:custGeom>
                  <a:avLst/>
                  <a:gdLst>
                    <a:gd name="textAreaLeft" fmla="*/ 0 w 180000"/>
                    <a:gd name="textAreaRight" fmla="*/ 180360 w 180000"/>
                    <a:gd name="textAreaTop" fmla="*/ 0 h 233640"/>
                    <a:gd name="textAreaBottom" fmla="*/ 234000 h 233640"/>
                  </a:gdLst>
                  <a:ahLst/>
                  <a:rect l="textAreaLeft" t="textAreaTop" r="textAreaRight" b="textAreaBottom"/>
                  <a:pathLst>
                    <a:path w="697" h="1987">
                      <a:moveTo>
                        <a:pt x="16" y="1921"/>
                      </a:moveTo>
                      <a:lnTo>
                        <a:pt x="25" y="1944"/>
                      </a:lnTo>
                      <a:lnTo>
                        <a:pt x="41" y="1948"/>
                      </a:lnTo>
                      <a:lnTo>
                        <a:pt x="61" y="1948"/>
                      </a:lnTo>
                      <a:lnTo>
                        <a:pt x="81" y="1948"/>
                      </a:lnTo>
                      <a:lnTo>
                        <a:pt x="697" y="1987"/>
                      </a:lnTo>
                      <a:lnTo>
                        <a:pt x="697" y="76"/>
                      </a:lnTo>
                      <a:lnTo>
                        <a:pt x="692" y="54"/>
                      </a:lnTo>
                      <a:lnTo>
                        <a:pt x="679" y="43"/>
                      </a:lnTo>
                      <a:lnTo>
                        <a:pt x="662" y="36"/>
                      </a:lnTo>
                      <a:lnTo>
                        <a:pt x="642" y="36"/>
                      </a:lnTo>
                      <a:lnTo>
                        <a:pt x="623" y="36"/>
                      </a:lnTo>
                      <a:lnTo>
                        <a:pt x="144" y="5"/>
                      </a:lnTo>
                      <a:lnTo>
                        <a:pt x="81" y="0"/>
                      </a:lnTo>
                      <a:lnTo>
                        <a:pt x="59" y="0"/>
                      </a:lnTo>
                      <a:lnTo>
                        <a:pt x="40" y="2"/>
                      </a:lnTo>
                      <a:lnTo>
                        <a:pt x="21" y="10"/>
                      </a:lnTo>
                      <a:lnTo>
                        <a:pt x="14" y="18"/>
                      </a:lnTo>
                      <a:lnTo>
                        <a:pt x="4" y="41"/>
                      </a:lnTo>
                      <a:lnTo>
                        <a:pt x="1" y="76"/>
                      </a:lnTo>
                      <a:lnTo>
                        <a:pt x="0" y="1092"/>
                      </a:lnTo>
                      <a:lnTo>
                        <a:pt x="0" y="1104"/>
                      </a:lnTo>
                      <a:lnTo>
                        <a:pt x="11" y="1107"/>
                      </a:lnTo>
                      <a:lnTo>
                        <a:pt x="16" y="1106"/>
                      </a:lnTo>
                      <a:lnTo>
                        <a:pt x="16"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360"/>
                <p:cNvSpPr/>
                <p:nvPr/>
              </p:nvSpPr>
              <p:spPr>
                <a:xfrm flipH="1">
                  <a:off x="4727520" y="2798640"/>
                  <a:ext cx="108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361"/>
                <p:cNvSpPr/>
                <p:nvPr/>
              </p:nvSpPr>
              <p:spPr>
                <a:xfrm>
                  <a:off x="4712400" y="2797200"/>
                  <a:ext cx="15480" cy="231840"/>
                </a:xfrm>
                <a:custGeom>
                  <a:avLst/>
                  <a:gdLst>
                    <a:gd name="textAreaLeft" fmla="*/ 0 w 15480"/>
                    <a:gd name="textAreaRight" fmla="*/ 15840 w 1548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62"/>
                <p:cNvSpPr/>
                <p:nvPr/>
              </p:nvSpPr>
              <p:spPr>
                <a:xfrm>
                  <a:off x="4536360" y="2907000"/>
                  <a:ext cx="17748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3" name="Line 363"/>
                <p:cNvSpPr/>
                <p:nvPr/>
              </p:nvSpPr>
              <p:spPr>
                <a:xfrm>
                  <a:off x="4535280" y="2921040"/>
                  <a:ext cx="17856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404" name="Group 364"/>
                <p:cNvGrpSpPr/>
                <p:nvPr/>
              </p:nvGrpSpPr>
              <p:grpSpPr>
                <a:xfrm>
                  <a:off x="4547880" y="2926080"/>
                  <a:ext cx="165600" cy="103320"/>
                  <a:chOff x="4547880" y="2926080"/>
                  <a:chExt cx="165600" cy="103320"/>
                </a:xfrm>
              </p:grpSpPr>
              <p:sp>
                <p:nvSpPr>
                  <p:cNvPr id="405" name="Line 365"/>
                  <p:cNvSpPr/>
                  <p:nvPr/>
                </p:nvSpPr>
                <p:spPr>
                  <a:xfrm>
                    <a:off x="4547880" y="3021840"/>
                    <a:ext cx="16560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06" name="Line 366"/>
                  <p:cNvSpPr/>
                  <p:nvPr/>
                </p:nvSpPr>
                <p:spPr>
                  <a:xfrm flipV="1">
                    <a:off x="469512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367"/>
                  <p:cNvSpPr/>
                  <p:nvPr/>
                </p:nvSpPr>
                <p:spPr>
                  <a:xfrm>
                    <a:off x="455148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368"/>
                  <p:cNvSpPr/>
                  <p:nvPr/>
                </p:nvSpPr>
                <p:spPr>
                  <a:xfrm>
                    <a:off x="455796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69"/>
                  <p:cNvSpPr/>
                  <p:nvPr/>
                </p:nvSpPr>
                <p:spPr>
                  <a:xfrm>
                    <a:off x="456336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70"/>
                  <p:cNvSpPr/>
                  <p:nvPr/>
                </p:nvSpPr>
                <p:spPr>
                  <a:xfrm>
                    <a:off x="4569840" y="29264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71"/>
                  <p:cNvSpPr/>
                  <p:nvPr/>
                </p:nvSpPr>
                <p:spPr>
                  <a:xfrm>
                    <a:off x="457488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72"/>
                  <p:cNvSpPr/>
                  <p:nvPr/>
                </p:nvSpPr>
                <p:spPr>
                  <a:xfrm>
                    <a:off x="459828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73"/>
                  <p:cNvSpPr/>
                  <p:nvPr/>
                </p:nvSpPr>
                <p:spPr>
                  <a:xfrm>
                    <a:off x="458136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74"/>
                  <p:cNvSpPr/>
                  <p:nvPr/>
                </p:nvSpPr>
                <p:spPr>
                  <a:xfrm>
                    <a:off x="458640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75"/>
                  <p:cNvSpPr/>
                  <p:nvPr/>
                </p:nvSpPr>
                <p:spPr>
                  <a:xfrm>
                    <a:off x="459180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6"/>
                  <p:cNvSpPr/>
                  <p:nvPr/>
                </p:nvSpPr>
                <p:spPr>
                  <a:xfrm>
                    <a:off x="460332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77"/>
                  <p:cNvSpPr/>
                  <p:nvPr/>
                </p:nvSpPr>
                <p:spPr>
                  <a:xfrm>
                    <a:off x="460980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78"/>
                  <p:cNvSpPr/>
                  <p:nvPr/>
                </p:nvSpPr>
                <p:spPr>
                  <a:xfrm>
                    <a:off x="461484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79"/>
                  <p:cNvSpPr/>
                  <p:nvPr/>
                </p:nvSpPr>
                <p:spPr>
                  <a:xfrm>
                    <a:off x="462132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380"/>
                  <p:cNvSpPr/>
                  <p:nvPr/>
                </p:nvSpPr>
                <p:spPr>
                  <a:xfrm>
                    <a:off x="462816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381"/>
                  <p:cNvSpPr/>
                  <p:nvPr/>
                </p:nvSpPr>
                <p:spPr>
                  <a:xfrm>
                    <a:off x="4634640" y="29293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382"/>
                  <p:cNvSpPr/>
                  <p:nvPr/>
                </p:nvSpPr>
                <p:spPr>
                  <a:xfrm>
                    <a:off x="463932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383"/>
                  <p:cNvSpPr/>
                  <p:nvPr/>
                </p:nvSpPr>
                <p:spPr>
                  <a:xfrm>
                    <a:off x="46458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384"/>
                  <p:cNvSpPr/>
                  <p:nvPr/>
                </p:nvSpPr>
                <p:spPr>
                  <a:xfrm flipV="1">
                    <a:off x="4651200" y="292932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385"/>
                  <p:cNvSpPr/>
                  <p:nvPr/>
                </p:nvSpPr>
                <p:spPr>
                  <a:xfrm>
                    <a:off x="4657680" y="29300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386"/>
                  <p:cNvSpPr/>
                  <p:nvPr/>
                </p:nvSpPr>
                <p:spPr>
                  <a:xfrm>
                    <a:off x="466416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87"/>
                  <p:cNvSpPr/>
                  <p:nvPr/>
                </p:nvSpPr>
                <p:spPr>
                  <a:xfrm>
                    <a:off x="466956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88"/>
                  <p:cNvSpPr/>
                  <p:nvPr/>
                </p:nvSpPr>
                <p:spPr>
                  <a:xfrm>
                    <a:off x="46756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389"/>
                  <p:cNvSpPr/>
                  <p:nvPr/>
                </p:nvSpPr>
                <p:spPr>
                  <a:xfrm flipV="1">
                    <a:off x="4680720" y="293076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390"/>
                  <p:cNvSpPr/>
                  <p:nvPr/>
                </p:nvSpPr>
                <p:spPr>
                  <a:xfrm>
                    <a:off x="468864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1" name="Line 391"/>
                <p:cNvSpPr/>
                <p:nvPr/>
              </p:nvSpPr>
              <p:spPr>
                <a:xfrm>
                  <a:off x="4535280" y="2816280"/>
                  <a:ext cx="17856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32" name="Line 392"/>
                <p:cNvSpPr/>
                <p:nvPr/>
              </p:nvSpPr>
              <p:spPr>
                <a:xfrm>
                  <a:off x="4535280" y="2925000"/>
                  <a:ext cx="17856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433" name="Group 393"/>
                <p:cNvGrpSpPr/>
                <p:nvPr/>
              </p:nvGrpSpPr>
              <p:grpSpPr>
                <a:xfrm>
                  <a:off x="4553280" y="2802960"/>
                  <a:ext cx="144360" cy="14040"/>
                  <a:chOff x="4553280" y="2802960"/>
                  <a:chExt cx="144360" cy="14040"/>
                </a:xfrm>
              </p:grpSpPr>
              <p:sp>
                <p:nvSpPr>
                  <p:cNvPr id="434" name="Oval 394"/>
                  <p:cNvSpPr/>
                  <p:nvPr/>
                </p:nvSpPr>
                <p:spPr>
                  <a:xfrm>
                    <a:off x="4553280" y="2802960"/>
                    <a:ext cx="1548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395"/>
                  <p:cNvSpPr/>
                  <p:nvPr/>
                </p:nvSpPr>
                <p:spPr>
                  <a:xfrm>
                    <a:off x="4586400" y="2803680"/>
                    <a:ext cx="1548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396"/>
                  <p:cNvSpPr/>
                  <p:nvPr/>
                </p:nvSpPr>
                <p:spPr>
                  <a:xfrm>
                    <a:off x="462024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397"/>
                  <p:cNvSpPr/>
                  <p:nvPr/>
                </p:nvSpPr>
                <p:spPr>
                  <a:xfrm>
                    <a:off x="4680720" y="280512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65" h="98">
                        <a:moveTo>
                          <a:pt x="0" y="0"/>
                        </a:moveTo>
                        <a:lnTo>
                          <a:pt x="65" y="3"/>
                        </a:lnTo>
                        <a:lnTo>
                          <a:pt x="65"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438" name="Group 398"/>
                <p:cNvGrpSpPr/>
                <p:nvPr/>
              </p:nvGrpSpPr>
              <p:grpSpPr>
                <a:xfrm>
                  <a:off x="4535280" y="2831760"/>
                  <a:ext cx="180720" cy="65160"/>
                  <a:chOff x="4535280" y="2831760"/>
                  <a:chExt cx="180720" cy="65160"/>
                </a:xfrm>
              </p:grpSpPr>
              <p:sp>
                <p:nvSpPr>
                  <p:cNvPr id="439" name="Line 399"/>
                  <p:cNvSpPr/>
                  <p:nvPr/>
                </p:nvSpPr>
                <p:spPr>
                  <a:xfrm>
                    <a:off x="4536360" y="2831760"/>
                    <a:ext cx="17964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0" name="Line 400"/>
                  <p:cNvSpPr/>
                  <p:nvPr/>
                </p:nvSpPr>
                <p:spPr>
                  <a:xfrm>
                    <a:off x="4535280" y="28472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1" name="Line 401"/>
                  <p:cNvSpPr/>
                  <p:nvPr/>
                </p:nvSpPr>
                <p:spPr>
                  <a:xfrm>
                    <a:off x="4535280" y="28760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2" name="Line 402"/>
                  <p:cNvSpPr/>
                  <p:nvPr/>
                </p:nvSpPr>
                <p:spPr>
                  <a:xfrm>
                    <a:off x="4535280" y="2891160"/>
                    <a:ext cx="1796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3" name="Line 403"/>
                  <p:cNvSpPr/>
                  <p:nvPr/>
                </p:nvSpPr>
                <p:spPr>
                  <a:xfrm>
                    <a:off x="4535280" y="2860560"/>
                    <a:ext cx="1796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4" name="Freeform 404"/>
                  <p:cNvSpPr/>
                  <p:nvPr/>
                </p:nvSpPr>
                <p:spPr>
                  <a:xfrm>
                    <a:off x="4550760" y="2832480"/>
                    <a:ext cx="146160" cy="19440"/>
                  </a:xfrm>
                  <a:custGeom>
                    <a:avLst/>
                    <a:gdLst>
                      <a:gd name="textAreaLeft" fmla="*/ 0 w 146160"/>
                      <a:gd name="textAreaRight" fmla="*/ 146520 w 146160"/>
                      <a:gd name="textAreaTop" fmla="*/ 0 h 19440"/>
                      <a:gd name="textAreaBottom" fmla="*/ 19800 h 19440"/>
                    </a:gdLst>
                    <a:ahLst/>
                    <a:rect l="textAreaLeft" t="textAreaTop" r="textAreaRight" b="textAreaBottom"/>
                    <a:pathLst>
                      <a:path w="567" h="168">
                        <a:moveTo>
                          <a:pt x="0" y="0"/>
                        </a:moveTo>
                        <a:lnTo>
                          <a:pt x="0" y="130"/>
                        </a:lnTo>
                        <a:lnTo>
                          <a:pt x="567" y="168"/>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45" name="Freeform 405"/>
                  <p:cNvSpPr/>
                  <p:nvPr/>
                </p:nvSpPr>
                <p:spPr>
                  <a:xfrm>
                    <a:off x="4550760" y="2847240"/>
                    <a:ext cx="146160" cy="19800"/>
                  </a:xfrm>
                  <a:custGeom>
                    <a:avLst/>
                    <a:gdLst>
                      <a:gd name="textAreaLeft" fmla="*/ 0 w 146160"/>
                      <a:gd name="textAreaRight" fmla="*/ 146520 w 146160"/>
                      <a:gd name="textAreaTop" fmla="*/ 0 h 19800"/>
                      <a:gd name="textAreaBottom" fmla="*/ 20160 h 19800"/>
                    </a:gdLst>
                    <a:ahLst/>
                    <a:rect l="textAreaLeft" t="textAreaTop" r="textAreaRight" b="textAreaBottom"/>
                    <a:pathLst>
                      <a:path w="567" h="169">
                        <a:moveTo>
                          <a:pt x="0" y="0"/>
                        </a:moveTo>
                        <a:lnTo>
                          <a:pt x="0" y="130"/>
                        </a:lnTo>
                        <a:lnTo>
                          <a:pt x="567" y="169"/>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46" name="Freeform 406"/>
                  <p:cNvSpPr/>
                  <p:nvPr/>
                </p:nvSpPr>
                <p:spPr>
                  <a:xfrm>
                    <a:off x="4550760" y="2862000"/>
                    <a:ext cx="146160" cy="18720"/>
                  </a:xfrm>
                  <a:custGeom>
                    <a:avLst/>
                    <a:gdLst>
                      <a:gd name="textAreaLeft" fmla="*/ 0 w 146160"/>
                      <a:gd name="textAreaRight" fmla="*/ 146520 w 146160"/>
                      <a:gd name="textAreaTop" fmla="*/ 0 h 18720"/>
                      <a:gd name="textAreaBottom" fmla="*/ 19080 h 18720"/>
                    </a:gdLst>
                    <a:ahLst/>
                    <a:rect l="textAreaLeft" t="textAreaTop" r="textAreaRight" b="textAreaBottom"/>
                    <a:pathLst>
                      <a:path w="567" h="167">
                        <a:moveTo>
                          <a:pt x="0" y="0"/>
                        </a:moveTo>
                        <a:lnTo>
                          <a:pt x="0" y="130"/>
                        </a:lnTo>
                        <a:lnTo>
                          <a:pt x="567" y="167"/>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7" name="Freeform 407"/>
                  <p:cNvSpPr/>
                  <p:nvPr/>
                </p:nvSpPr>
                <p:spPr>
                  <a:xfrm>
                    <a:off x="4550760" y="2876760"/>
                    <a:ext cx="146160" cy="20160"/>
                  </a:xfrm>
                  <a:custGeom>
                    <a:avLst/>
                    <a:gdLst>
                      <a:gd name="textAreaLeft" fmla="*/ 0 w 146160"/>
                      <a:gd name="textAreaRight" fmla="*/ 146520 w 146160"/>
                      <a:gd name="textAreaTop" fmla="*/ 0 h 20160"/>
                      <a:gd name="textAreaBottom" fmla="*/ 20520 h 20160"/>
                    </a:gdLst>
                    <a:ahLst/>
                    <a:rect l="textAreaLeft" t="textAreaTop" r="textAreaRight" b="textAreaBottom"/>
                    <a:pathLst>
                      <a:path w="568" h="174">
                        <a:moveTo>
                          <a:pt x="0" y="0"/>
                        </a:moveTo>
                        <a:lnTo>
                          <a:pt x="0" y="128"/>
                        </a:lnTo>
                        <a:lnTo>
                          <a:pt x="568" y="174"/>
                        </a:lnTo>
                        <a:lnTo>
                          <a:pt x="568"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448" name="Group 408"/>
                  <p:cNvGrpSpPr/>
                  <p:nvPr/>
                </p:nvGrpSpPr>
                <p:grpSpPr>
                  <a:xfrm>
                    <a:off x="4563720" y="2836440"/>
                    <a:ext cx="116280" cy="25560"/>
                    <a:chOff x="4563720" y="2836440"/>
                    <a:chExt cx="116280" cy="25560"/>
                  </a:xfrm>
                </p:grpSpPr>
                <p:sp>
                  <p:nvSpPr>
                    <p:cNvPr id="449" name="Oval 409"/>
                    <p:cNvSpPr/>
                    <p:nvPr/>
                  </p:nvSpPr>
                  <p:spPr>
                    <a:xfrm>
                      <a:off x="4655160" y="2839320"/>
                      <a:ext cx="252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410"/>
                    <p:cNvSpPr/>
                    <p:nvPr/>
                  </p:nvSpPr>
                  <p:spPr>
                    <a:xfrm>
                      <a:off x="4576320" y="2850480"/>
                      <a:ext cx="90360" cy="8280"/>
                    </a:xfrm>
                    <a:custGeom>
                      <a:avLst/>
                      <a:gdLst>
                        <a:gd name="textAreaLeft" fmla="*/ 0 w 90360"/>
                        <a:gd name="textAreaRight" fmla="*/ 90720 w 90360"/>
                        <a:gd name="textAreaTop" fmla="*/ 0 h 8280"/>
                        <a:gd name="textAreaBottom" fmla="*/ 8640 h 8280"/>
                      </a:gdLst>
                      <a:ahLst/>
                      <a:rect l="textAreaLeft" t="textAreaTop" r="textAreaRight" b="textAreaBottom"/>
                      <a:pathLst>
                        <a:path w="349" h="74">
                          <a:moveTo>
                            <a:pt x="0" y="74"/>
                          </a:moveTo>
                          <a:lnTo>
                            <a:pt x="0" y="0"/>
                          </a:lnTo>
                          <a:lnTo>
                            <a:pt x="349"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51" name="Freeform 411"/>
                    <p:cNvSpPr/>
                    <p:nvPr/>
                  </p:nvSpPr>
                  <p:spPr>
                    <a:xfrm>
                      <a:off x="4580280" y="2854800"/>
                      <a:ext cx="82800" cy="3960"/>
                    </a:xfrm>
                    <a:custGeom>
                      <a:avLst/>
                      <a:gdLst>
                        <a:gd name="textAreaLeft" fmla="*/ 0 w 82800"/>
                        <a:gd name="textAreaRight" fmla="*/ 83160 w 82800"/>
                        <a:gd name="textAreaTop" fmla="*/ 0 h 3960"/>
                        <a:gd name="textAreaBottom" fmla="*/ 4320 h 3960"/>
                      </a:gdLst>
                      <a:ahLst/>
                      <a:rect l="textAreaLeft" t="textAreaTop" r="textAreaRight" b="textAreaBottom"/>
                      <a:pathLst>
                        <a:path w="323" h="38">
                          <a:moveTo>
                            <a:pt x="0" y="0"/>
                          </a:moveTo>
                          <a:lnTo>
                            <a:pt x="0" y="14"/>
                          </a:lnTo>
                          <a:lnTo>
                            <a:pt x="323" y="38"/>
                          </a:lnTo>
                          <a:lnTo>
                            <a:pt x="323"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2" name="Freeform 412"/>
                    <p:cNvSpPr/>
                    <p:nvPr/>
                  </p:nvSpPr>
                  <p:spPr>
                    <a:xfrm>
                      <a:off x="4636080" y="2859480"/>
                      <a:ext cx="27000" cy="2520"/>
                    </a:xfrm>
                    <a:custGeom>
                      <a:avLst/>
                      <a:gdLst>
                        <a:gd name="textAreaLeft" fmla="*/ 0 w 27000"/>
                        <a:gd name="textAreaRight" fmla="*/ 27360 w 27000"/>
                        <a:gd name="textAreaTop" fmla="*/ 0 h 2520"/>
                        <a:gd name="textAreaBottom" fmla="*/ 2880 h 2520"/>
                      </a:gdLst>
                      <a:ahLst/>
                      <a:rect l="textAreaLeft" t="textAreaTop" r="textAreaRight" b="textAreaBottom"/>
                      <a:pathLst>
                        <a:path w="104" h="25">
                          <a:moveTo>
                            <a:pt x="0" y="0"/>
                          </a:moveTo>
                          <a:lnTo>
                            <a:pt x="104" y="7"/>
                          </a:lnTo>
                          <a:lnTo>
                            <a:pt x="104"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3" name="Freeform 413"/>
                    <p:cNvSpPr/>
                    <p:nvPr/>
                  </p:nvSpPr>
                  <p:spPr>
                    <a:xfrm>
                      <a:off x="4584240" y="2836440"/>
                      <a:ext cx="64440" cy="11160"/>
                    </a:xfrm>
                    <a:custGeom>
                      <a:avLst/>
                      <a:gdLst>
                        <a:gd name="textAreaLeft" fmla="*/ 0 w 64440"/>
                        <a:gd name="textAreaRight" fmla="*/ 64800 w 64440"/>
                        <a:gd name="textAreaTop" fmla="*/ 0 h 11160"/>
                        <a:gd name="textAreaBottom" fmla="*/ 11520 h 11160"/>
                      </a:gdLst>
                      <a:ahLst/>
                      <a:rect l="textAreaLeft" t="textAreaTop" r="textAreaRight" b="textAreaBottom"/>
                      <a:pathLst>
                        <a:path w="248" h="93">
                          <a:moveTo>
                            <a:pt x="0" y="2"/>
                          </a:moveTo>
                          <a:lnTo>
                            <a:pt x="0" y="75"/>
                          </a:lnTo>
                          <a:lnTo>
                            <a:pt x="247" y="93"/>
                          </a:lnTo>
                          <a:lnTo>
                            <a:pt x="248" y="7"/>
                          </a:lnTo>
                          <a:lnTo>
                            <a:pt x="136" y="0"/>
                          </a:lnTo>
                          <a:lnTo>
                            <a:pt x="123"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4" name="Freeform 414"/>
                    <p:cNvSpPr/>
                    <p:nvPr/>
                  </p:nvSpPr>
                  <p:spPr>
                    <a:xfrm>
                      <a:off x="4563720" y="2839320"/>
                      <a:ext cx="116280" cy="4680"/>
                    </a:xfrm>
                    <a:custGeom>
                      <a:avLst/>
                      <a:gdLst>
                        <a:gd name="textAreaLeft" fmla="*/ 0 w 116280"/>
                        <a:gd name="textAreaRight" fmla="*/ 116640 w 116280"/>
                        <a:gd name="textAreaTop" fmla="*/ 0 h 4680"/>
                        <a:gd name="textAreaBottom" fmla="*/ 5040 h 4680"/>
                      </a:gdLst>
                      <a:ahLst/>
                      <a:rect l="textAreaLeft" t="textAreaTop" r="textAreaRight" b="textAreaBottom"/>
                      <a:pathLst>
                        <a:path w="447" h="43">
                          <a:moveTo>
                            <a:pt x="15" y="0"/>
                          </a:moveTo>
                          <a:lnTo>
                            <a:pt x="7" y="0"/>
                          </a:lnTo>
                          <a:lnTo>
                            <a:pt x="0" y="0"/>
                          </a:lnTo>
                          <a:lnTo>
                            <a:pt x="0" y="8"/>
                          </a:lnTo>
                          <a:lnTo>
                            <a:pt x="0" y="12"/>
                          </a:lnTo>
                          <a:lnTo>
                            <a:pt x="7" y="15"/>
                          </a:lnTo>
                          <a:lnTo>
                            <a:pt x="15" y="15"/>
                          </a:lnTo>
                          <a:lnTo>
                            <a:pt x="438" y="43"/>
                          </a:lnTo>
                          <a:lnTo>
                            <a:pt x="446" y="43"/>
                          </a:lnTo>
                          <a:lnTo>
                            <a:pt x="447" y="32"/>
                          </a:lnTo>
                          <a:lnTo>
                            <a:pt x="440" y="29"/>
                          </a:lnTo>
                          <a:lnTo>
                            <a:pt x="423"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455" name="Group 415"/>
              <p:cNvGrpSpPr/>
              <p:nvPr/>
            </p:nvGrpSpPr>
            <p:grpSpPr>
              <a:xfrm>
                <a:off x="4901040" y="2997360"/>
                <a:ext cx="361080" cy="64800"/>
                <a:chOff x="4901040" y="2997360"/>
                <a:chExt cx="361080" cy="64800"/>
              </a:xfrm>
            </p:grpSpPr>
            <p:sp>
              <p:nvSpPr>
                <p:cNvPr id="456" name="Freeform 416"/>
                <p:cNvSpPr/>
                <p:nvPr/>
              </p:nvSpPr>
              <p:spPr>
                <a:xfrm>
                  <a:off x="4901040" y="2998080"/>
                  <a:ext cx="308160" cy="64080"/>
                </a:xfrm>
                <a:custGeom>
                  <a:avLst/>
                  <a:gdLst>
                    <a:gd name="textAreaLeft" fmla="*/ 0 w 308160"/>
                    <a:gd name="textAreaRight" fmla="*/ 308520 w 308160"/>
                    <a:gd name="textAreaTop" fmla="*/ 0 h 64080"/>
                    <a:gd name="textAreaBottom" fmla="*/ 64440 h 64080"/>
                  </a:gdLst>
                  <a:ahLst/>
                  <a:rect l="textAreaLeft" t="textAreaTop" r="textAreaRight" b="textAreaBottom"/>
                  <a:pathLst>
                    <a:path w="1194" h="547">
                      <a:moveTo>
                        <a:pt x="124" y="289"/>
                      </a:moveTo>
                      <a:lnTo>
                        <a:pt x="107" y="313"/>
                      </a:lnTo>
                      <a:lnTo>
                        <a:pt x="49" y="356"/>
                      </a:lnTo>
                      <a:lnTo>
                        <a:pt x="15" y="381"/>
                      </a:lnTo>
                      <a:lnTo>
                        <a:pt x="0" y="397"/>
                      </a:lnTo>
                      <a:lnTo>
                        <a:pt x="0" y="413"/>
                      </a:lnTo>
                      <a:lnTo>
                        <a:pt x="15" y="431"/>
                      </a:lnTo>
                      <a:lnTo>
                        <a:pt x="33" y="445"/>
                      </a:lnTo>
                      <a:lnTo>
                        <a:pt x="71" y="453"/>
                      </a:lnTo>
                      <a:lnTo>
                        <a:pt x="112" y="460"/>
                      </a:lnTo>
                      <a:lnTo>
                        <a:pt x="752" y="539"/>
                      </a:lnTo>
                      <a:lnTo>
                        <a:pt x="817" y="546"/>
                      </a:lnTo>
                      <a:lnTo>
                        <a:pt x="872" y="547"/>
                      </a:lnTo>
                      <a:lnTo>
                        <a:pt x="907" y="543"/>
                      </a:lnTo>
                      <a:lnTo>
                        <a:pt x="934" y="536"/>
                      </a:lnTo>
                      <a:lnTo>
                        <a:pt x="955" y="524"/>
                      </a:lnTo>
                      <a:lnTo>
                        <a:pt x="976" y="510"/>
                      </a:lnTo>
                      <a:lnTo>
                        <a:pt x="993" y="495"/>
                      </a:lnTo>
                      <a:lnTo>
                        <a:pt x="1194" y="0"/>
                      </a:lnTo>
                      <a:lnTo>
                        <a:pt x="124"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57" name="Freeform 417"/>
                <p:cNvSpPr/>
                <p:nvPr/>
              </p:nvSpPr>
              <p:spPr>
                <a:xfrm>
                  <a:off x="511596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3" h="516">
                      <a:moveTo>
                        <a:pt x="0" y="339"/>
                      </a:moveTo>
                      <a:lnTo>
                        <a:pt x="3" y="376"/>
                      </a:lnTo>
                      <a:lnTo>
                        <a:pt x="7" y="395"/>
                      </a:lnTo>
                      <a:lnTo>
                        <a:pt x="15" y="419"/>
                      </a:lnTo>
                      <a:lnTo>
                        <a:pt x="22" y="443"/>
                      </a:lnTo>
                      <a:lnTo>
                        <a:pt x="37" y="468"/>
                      </a:lnTo>
                      <a:lnTo>
                        <a:pt x="55" y="485"/>
                      </a:lnTo>
                      <a:lnTo>
                        <a:pt x="73" y="500"/>
                      </a:lnTo>
                      <a:lnTo>
                        <a:pt x="94" y="510"/>
                      </a:lnTo>
                      <a:lnTo>
                        <a:pt x="117" y="516"/>
                      </a:lnTo>
                      <a:lnTo>
                        <a:pt x="144" y="516"/>
                      </a:lnTo>
                      <a:lnTo>
                        <a:pt x="167" y="495"/>
                      </a:lnTo>
                      <a:lnTo>
                        <a:pt x="562" y="73"/>
                      </a:lnTo>
                      <a:lnTo>
                        <a:pt x="563" y="63"/>
                      </a:lnTo>
                      <a:lnTo>
                        <a:pt x="561" y="56"/>
                      </a:lnTo>
                      <a:lnTo>
                        <a:pt x="558" y="54"/>
                      </a:lnTo>
                      <a:lnTo>
                        <a:pt x="553" y="48"/>
                      </a:lnTo>
                      <a:lnTo>
                        <a:pt x="545" y="44"/>
                      </a:lnTo>
                      <a:lnTo>
                        <a:pt x="535" y="41"/>
                      </a:lnTo>
                      <a:lnTo>
                        <a:pt x="381"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458" name="Freeform 418"/>
              <p:cNvSpPr/>
              <p:nvPr/>
            </p:nvSpPr>
            <p:spPr>
              <a:xfrm>
                <a:off x="4934520" y="2998080"/>
                <a:ext cx="280080" cy="40680"/>
              </a:xfrm>
              <a:custGeom>
                <a:avLst/>
                <a:gdLst>
                  <a:gd name="textAreaLeft" fmla="*/ 0 w 280080"/>
                  <a:gd name="textAreaRight" fmla="*/ 280440 w 280080"/>
                  <a:gd name="textAreaTop" fmla="*/ 0 h 40680"/>
                  <a:gd name="textAreaBottom" fmla="*/ 41040 h 40680"/>
                </a:gdLst>
                <a:ahLst/>
                <a:rect l="textAreaLeft" t="textAreaTop" r="textAreaRight" b="textAreaBottom"/>
                <a:pathLst>
                  <a:path w="1081" h="347">
                    <a:moveTo>
                      <a:pt x="1081" y="0"/>
                    </a:moveTo>
                    <a:lnTo>
                      <a:pt x="718" y="318"/>
                    </a:lnTo>
                    <a:lnTo>
                      <a:pt x="706" y="332"/>
                    </a:lnTo>
                    <a:lnTo>
                      <a:pt x="690" y="342"/>
                    </a:lnTo>
                    <a:lnTo>
                      <a:pt x="665" y="347"/>
                    </a:lnTo>
                    <a:lnTo>
                      <a:pt x="625" y="344"/>
                    </a:lnTo>
                    <a:lnTo>
                      <a:pt x="0" y="276"/>
                    </a:lnTo>
                    <a:lnTo>
                      <a:pt x="6" y="223"/>
                    </a:lnTo>
                    <a:lnTo>
                      <a:pt x="1081"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459" name="Group 419"/>
              <p:cNvGrpSpPr/>
              <p:nvPr/>
            </p:nvGrpSpPr>
            <p:grpSpPr>
              <a:xfrm>
                <a:off x="4930920" y="2784600"/>
                <a:ext cx="281880" cy="252360"/>
                <a:chOff x="4930920" y="2784600"/>
                <a:chExt cx="281880" cy="252360"/>
              </a:xfrm>
            </p:grpSpPr>
            <p:sp>
              <p:nvSpPr>
                <p:cNvPr id="460" name="Freeform 420"/>
                <p:cNvSpPr/>
                <p:nvPr/>
              </p:nvSpPr>
              <p:spPr>
                <a:xfrm>
                  <a:off x="4932000" y="2786400"/>
                  <a:ext cx="280800" cy="250560"/>
                </a:xfrm>
                <a:custGeom>
                  <a:avLst/>
                  <a:gdLst>
                    <a:gd name="textAreaLeft" fmla="*/ 0 w 280800"/>
                    <a:gd name="textAreaRight" fmla="*/ 281160 w 280800"/>
                    <a:gd name="textAreaTop" fmla="*/ 0 h 250560"/>
                    <a:gd name="textAreaBottom" fmla="*/ 250920 h 250560"/>
                  </a:gdLst>
                  <a:ahLst/>
                  <a:rect l="textAreaLeft" t="textAreaTop" r="textAreaRight" b="textAreaBottom"/>
                  <a:pathLst>
                    <a:path w="1083" h="2133">
                      <a:moveTo>
                        <a:pt x="1083" y="2"/>
                      </a:moveTo>
                      <a:lnTo>
                        <a:pt x="1083" y="1788"/>
                      </a:lnTo>
                      <a:lnTo>
                        <a:pt x="720" y="2106"/>
                      </a:lnTo>
                      <a:lnTo>
                        <a:pt x="710" y="2117"/>
                      </a:lnTo>
                      <a:lnTo>
                        <a:pt x="694" y="2126"/>
                      </a:lnTo>
                      <a:lnTo>
                        <a:pt x="672" y="2133"/>
                      </a:lnTo>
                      <a:lnTo>
                        <a:pt x="634" y="2130"/>
                      </a:lnTo>
                      <a:lnTo>
                        <a:pt x="38" y="2068"/>
                      </a:lnTo>
                      <a:lnTo>
                        <a:pt x="17" y="2063"/>
                      </a:lnTo>
                      <a:lnTo>
                        <a:pt x="5" y="2052"/>
                      </a:lnTo>
                      <a:lnTo>
                        <a:pt x="1" y="2039"/>
                      </a:lnTo>
                      <a:lnTo>
                        <a:pt x="0" y="2011"/>
                      </a:lnTo>
                      <a:lnTo>
                        <a:pt x="2" y="76"/>
                      </a:lnTo>
                      <a:lnTo>
                        <a:pt x="655" y="0"/>
                      </a:lnTo>
                      <a:lnTo>
                        <a:pt x="1083"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421"/>
                <p:cNvSpPr/>
                <p:nvPr/>
              </p:nvSpPr>
              <p:spPr>
                <a:xfrm>
                  <a:off x="4930920" y="2784600"/>
                  <a:ext cx="278280" cy="15480"/>
                </a:xfrm>
                <a:custGeom>
                  <a:avLst/>
                  <a:gdLst>
                    <a:gd name="textAreaLeft" fmla="*/ 0 w 278280"/>
                    <a:gd name="textAreaRight" fmla="*/ 278640 w 278280"/>
                    <a:gd name="textAreaTop" fmla="*/ 0 h 15480"/>
                    <a:gd name="textAreaBottom" fmla="*/ 15840 h 15480"/>
                  </a:gdLst>
                  <a:ahLst/>
                  <a:rect l="textAreaLeft" t="textAreaTop" r="textAreaRight" b="textAreaBottom"/>
                  <a:pathLst>
                    <a:path w="1076" h="133">
                      <a:moveTo>
                        <a:pt x="7" y="86"/>
                      </a:moveTo>
                      <a:lnTo>
                        <a:pt x="617" y="0"/>
                      </a:lnTo>
                      <a:lnTo>
                        <a:pt x="1076" y="16"/>
                      </a:lnTo>
                      <a:lnTo>
                        <a:pt x="655" y="133"/>
                      </a:lnTo>
                      <a:lnTo>
                        <a:pt x="0" y="104"/>
                      </a:lnTo>
                      <a:lnTo>
                        <a:pt x="0" y="97"/>
                      </a:lnTo>
                      <a:lnTo>
                        <a:pt x="1"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462" name="Group 422"/>
              <p:cNvGrpSpPr/>
              <p:nvPr/>
            </p:nvGrpSpPr>
            <p:grpSpPr>
              <a:xfrm>
                <a:off x="4928040" y="2794680"/>
                <a:ext cx="194400" cy="234720"/>
                <a:chOff x="4928040" y="2794680"/>
                <a:chExt cx="194400" cy="234720"/>
              </a:xfrm>
            </p:grpSpPr>
            <p:sp>
              <p:nvSpPr>
                <p:cNvPr id="463" name="Freeform 423"/>
                <p:cNvSpPr/>
                <p:nvPr/>
              </p:nvSpPr>
              <p:spPr>
                <a:xfrm>
                  <a:off x="4928040" y="2794680"/>
                  <a:ext cx="180000" cy="233640"/>
                </a:xfrm>
                <a:custGeom>
                  <a:avLst/>
                  <a:gdLst>
                    <a:gd name="textAreaLeft" fmla="*/ 0 w 180000"/>
                    <a:gd name="textAreaRight" fmla="*/ 180360 w 180000"/>
                    <a:gd name="textAreaTop" fmla="*/ 0 h 233640"/>
                    <a:gd name="textAreaBottom" fmla="*/ 234000 h 233640"/>
                  </a:gdLst>
                  <a:ahLst/>
                  <a:rect l="textAreaLeft" t="textAreaTop" r="textAreaRight" b="textAreaBottom"/>
                  <a:pathLst>
                    <a:path w="696" h="1987">
                      <a:moveTo>
                        <a:pt x="17" y="1921"/>
                      </a:moveTo>
                      <a:lnTo>
                        <a:pt x="26" y="1944"/>
                      </a:lnTo>
                      <a:lnTo>
                        <a:pt x="42" y="1948"/>
                      </a:lnTo>
                      <a:lnTo>
                        <a:pt x="61" y="1948"/>
                      </a:lnTo>
                      <a:lnTo>
                        <a:pt x="81" y="1948"/>
                      </a:lnTo>
                      <a:lnTo>
                        <a:pt x="696" y="1987"/>
                      </a:lnTo>
                      <a:lnTo>
                        <a:pt x="696" y="76"/>
                      </a:lnTo>
                      <a:lnTo>
                        <a:pt x="690" y="54"/>
                      </a:lnTo>
                      <a:lnTo>
                        <a:pt x="677" y="43"/>
                      </a:lnTo>
                      <a:lnTo>
                        <a:pt x="660" y="36"/>
                      </a:lnTo>
                      <a:lnTo>
                        <a:pt x="640" y="36"/>
                      </a:lnTo>
                      <a:lnTo>
                        <a:pt x="621" y="36"/>
                      </a:lnTo>
                      <a:lnTo>
                        <a:pt x="144" y="5"/>
                      </a:lnTo>
                      <a:lnTo>
                        <a:pt x="81" y="0"/>
                      </a:lnTo>
                      <a:lnTo>
                        <a:pt x="59" y="0"/>
                      </a:lnTo>
                      <a:lnTo>
                        <a:pt x="41" y="2"/>
                      </a:lnTo>
                      <a:lnTo>
                        <a:pt x="21" y="10"/>
                      </a:lnTo>
                      <a:lnTo>
                        <a:pt x="14" y="18"/>
                      </a:lnTo>
                      <a:lnTo>
                        <a:pt x="5" y="41"/>
                      </a:lnTo>
                      <a:lnTo>
                        <a:pt x="2" y="76"/>
                      </a:lnTo>
                      <a:lnTo>
                        <a:pt x="0" y="1092"/>
                      </a:lnTo>
                      <a:lnTo>
                        <a:pt x="0" y="1104"/>
                      </a:lnTo>
                      <a:lnTo>
                        <a:pt x="12" y="1107"/>
                      </a:lnTo>
                      <a:lnTo>
                        <a:pt x="17" y="1106"/>
                      </a:lnTo>
                      <a:lnTo>
                        <a:pt x="17"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424"/>
                <p:cNvSpPr/>
                <p:nvPr/>
              </p:nvSpPr>
              <p:spPr>
                <a:xfrm flipH="1">
                  <a:off x="5121000" y="2798640"/>
                  <a:ext cx="144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425"/>
                <p:cNvSpPr/>
                <p:nvPr/>
              </p:nvSpPr>
              <p:spPr>
                <a:xfrm>
                  <a:off x="5104080" y="2797200"/>
                  <a:ext cx="15480" cy="231840"/>
                </a:xfrm>
                <a:custGeom>
                  <a:avLst/>
                  <a:gdLst>
                    <a:gd name="textAreaLeft" fmla="*/ 0 w 15480"/>
                    <a:gd name="textAreaRight" fmla="*/ 15840 w 1548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426"/>
                <p:cNvSpPr/>
                <p:nvPr/>
              </p:nvSpPr>
              <p:spPr>
                <a:xfrm>
                  <a:off x="4929480" y="2907000"/>
                  <a:ext cx="1771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7" name="Line 427"/>
                <p:cNvSpPr/>
                <p:nvPr/>
              </p:nvSpPr>
              <p:spPr>
                <a:xfrm>
                  <a:off x="4928040" y="2921040"/>
                  <a:ext cx="17856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468" name="Group 428"/>
                <p:cNvGrpSpPr/>
                <p:nvPr/>
              </p:nvGrpSpPr>
              <p:grpSpPr>
                <a:xfrm>
                  <a:off x="4940640" y="2926080"/>
                  <a:ext cx="165960" cy="103320"/>
                  <a:chOff x="4940640" y="2926080"/>
                  <a:chExt cx="165960" cy="103320"/>
                </a:xfrm>
              </p:grpSpPr>
              <p:sp>
                <p:nvSpPr>
                  <p:cNvPr id="469" name="Line 429"/>
                  <p:cNvSpPr/>
                  <p:nvPr/>
                </p:nvSpPr>
                <p:spPr>
                  <a:xfrm>
                    <a:off x="4940640" y="3021840"/>
                    <a:ext cx="16596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70" name="Line 430"/>
                  <p:cNvSpPr/>
                  <p:nvPr/>
                </p:nvSpPr>
                <p:spPr>
                  <a:xfrm flipV="1">
                    <a:off x="508716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431"/>
                  <p:cNvSpPr/>
                  <p:nvPr/>
                </p:nvSpPr>
                <p:spPr>
                  <a:xfrm>
                    <a:off x="4944600" y="292608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432"/>
                  <p:cNvSpPr/>
                  <p:nvPr/>
                </p:nvSpPr>
                <p:spPr>
                  <a:xfrm>
                    <a:off x="494964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433"/>
                  <p:cNvSpPr/>
                  <p:nvPr/>
                </p:nvSpPr>
                <p:spPr>
                  <a:xfrm>
                    <a:off x="4956120" y="29264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434"/>
                  <p:cNvSpPr/>
                  <p:nvPr/>
                </p:nvSpPr>
                <p:spPr>
                  <a:xfrm>
                    <a:off x="496116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435"/>
                  <p:cNvSpPr/>
                  <p:nvPr/>
                </p:nvSpPr>
                <p:spPr>
                  <a:xfrm>
                    <a:off x="496764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436"/>
                  <p:cNvSpPr/>
                  <p:nvPr/>
                </p:nvSpPr>
                <p:spPr>
                  <a:xfrm>
                    <a:off x="499104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437"/>
                  <p:cNvSpPr/>
                  <p:nvPr/>
                </p:nvSpPr>
                <p:spPr>
                  <a:xfrm>
                    <a:off x="497304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438"/>
                  <p:cNvSpPr/>
                  <p:nvPr/>
                </p:nvSpPr>
                <p:spPr>
                  <a:xfrm>
                    <a:off x="497952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439"/>
                  <p:cNvSpPr/>
                  <p:nvPr/>
                </p:nvSpPr>
                <p:spPr>
                  <a:xfrm>
                    <a:off x="498456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440"/>
                  <p:cNvSpPr/>
                  <p:nvPr/>
                </p:nvSpPr>
                <p:spPr>
                  <a:xfrm>
                    <a:off x="499644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441"/>
                  <p:cNvSpPr/>
                  <p:nvPr/>
                </p:nvSpPr>
                <p:spPr>
                  <a:xfrm>
                    <a:off x="500148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442"/>
                  <p:cNvSpPr/>
                  <p:nvPr/>
                </p:nvSpPr>
                <p:spPr>
                  <a:xfrm>
                    <a:off x="500796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443"/>
                  <p:cNvSpPr/>
                  <p:nvPr/>
                </p:nvSpPr>
                <p:spPr>
                  <a:xfrm>
                    <a:off x="501444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444"/>
                  <p:cNvSpPr/>
                  <p:nvPr/>
                </p:nvSpPr>
                <p:spPr>
                  <a:xfrm>
                    <a:off x="501948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445"/>
                  <p:cNvSpPr/>
                  <p:nvPr/>
                </p:nvSpPr>
                <p:spPr>
                  <a:xfrm>
                    <a:off x="5027400" y="29293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446"/>
                  <p:cNvSpPr/>
                  <p:nvPr/>
                </p:nvSpPr>
                <p:spPr>
                  <a:xfrm>
                    <a:off x="503244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447"/>
                  <p:cNvSpPr/>
                  <p:nvPr/>
                </p:nvSpPr>
                <p:spPr>
                  <a:xfrm>
                    <a:off x="5037840" y="29300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448"/>
                  <p:cNvSpPr/>
                  <p:nvPr/>
                </p:nvSpPr>
                <p:spPr>
                  <a:xfrm flipV="1">
                    <a:off x="5044320" y="292932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449"/>
                  <p:cNvSpPr/>
                  <p:nvPr/>
                </p:nvSpPr>
                <p:spPr>
                  <a:xfrm>
                    <a:off x="50508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450"/>
                  <p:cNvSpPr/>
                  <p:nvPr/>
                </p:nvSpPr>
                <p:spPr>
                  <a:xfrm>
                    <a:off x="505584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451"/>
                  <p:cNvSpPr/>
                  <p:nvPr/>
                </p:nvSpPr>
                <p:spPr>
                  <a:xfrm>
                    <a:off x="506232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452"/>
                  <p:cNvSpPr/>
                  <p:nvPr/>
                </p:nvSpPr>
                <p:spPr>
                  <a:xfrm>
                    <a:off x="5067360" y="293076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453"/>
                  <p:cNvSpPr/>
                  <p:nvPr/>
                </p:nvSpPr>
                <p:spPr>
                  <a:xfrm flipV="1">
                    <a:off x="5073840" y="293076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454"/>
                  <p:cNvSpPr/>
                  <p:nvPr/>
                </p:nvSpPr>
                <p:spPr>
                  <a:xfrm>
                    <a:off x="508068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Line 455"/>
                <p:cNvSpPr/>
                <p:nvPr/>
              </p:nvSpPr>
              <p:spPr>
                <a:xfrm>
                  <a:off x="4928040" y="2816280"/>
                  <a:ext cx="17856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96" name="Line 456"/>
                <p:cNvSpPr/>
                <p:nvPr/>
              </p:nvSpPr>
              <p:spPr>
                <a:xfrm>
                  <a:off x="4928040" y="2925000"/>
                  <a:ext cx="17712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497" name="Group 457"/>
                <p:cNvGrpSpPr/>
                <p:nvPr/>
              </p:nvGrpSpPr>
              <p:grpSpPr>
                <a:xfrm>
                  <a:off x="4946040" y="2802960"/>
                  <a:ext cx="144720" cy="14040"/>
                  <a:chOff x="4946040" y="2802960"/>
                  <a:chExt cx="144720" cy="14040"/>
                </a:xfrm>
              </p:grpSpPr>
              <p:sp>
                <p:nvSpPr>
                  <p:cNvPr id="498" name="Oval 458"/>
                  <p:cNvSpPr/>
                  <p:nvPr/>
                </p:nvSpPr>
                <p:spPr>
                  <a:xfrm>
                    <a:off x="4946040" y="2802960"/>
                    <a:ext cx="1548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459"/>
                  <p:cNvSpPr/>
                  <p:nvPr/>
                </p:nvSpPr>
                <p:spPr>
                  <a:xfrm>
                    <a:off x="4979520" y="2803680"/>
                    <a:ext cx="1512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460"/>
                  <p:cNvSpPr/>
                  <p:nvPr/>
                </p:nvSpPr>
                <p:spPr>
                  <a:xfrm>
                    <a:off x="501192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61"/>
                  <p:cNvSpPr/>
                  <p:nvPr/>
                </p:nvSpPr>
                <p:spPr>
                  <a:xfrm>
                    <a:off x="5073840" y="280512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64" h="98">
                        <a:moveTo>
                          <a:pt x="0" y="0"/>
                        </a:moveTo>
                        <a:lnTo>
                          <a:pt x="64" y="3"/>
                        </a:lnTo>
                        <a:lnTo>
                          <a:pt x="64"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502" name="Group 462"/>
                <p:cNvGrpSpPr/>
                <p:nvPr/>
              </p:nvGrpSpPr>
              <p:grpSpPr>
                <a:xfrm>
                  <a:off x="4928040" y="2831760"/>
                  <a:ext cx="180000" cy="65160"/>
                  <a:chOff x="4928040" y="2831760"/>
                  <a:chExt cx="180000" cy="65160"/>
                </a:xfrm>
              </p:grpSpPr>
              <p:sp>
                <p:nvSpPr>
                  <p:cNvPr id="503" name="Line 463"/>
                  <p:cNvSpPr/>
                  <p:nvPr/>
                </p:nvSpPr>
                <p:spPr>
                  <a:xfrm>
                    <a:off x="4929480" y="283176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4" name="Line 464"/>
                  <p:cNvSpPr/>
                  <p:nvPr/>
                </p:nvSpPr>
                <p:spPr>
                  <a:xfrm>
                    <a:off x="4928040" y="28472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5" name="Line 465"/>
                  <p:cNvSpPr/>
                  <p:nvPr/>
                </p:nvSpPr>
                <p:spPr>
                  <a:xfrm>
                    <a:off x="4928040" y="2876040"/>
                    <a:ext cx="1771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6" name="Line 466"/>
                  <p:cNvSpPr/>
                  <p:nvPr/>
                </p:nvSpPr>
                <p:spPr>
                  <a:xfrm>
                    <a:off x="4928040" y="2891160"/>
                    <a:ext cx="17856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7" name="Line 467"/>
                  <p:cNvSpPr/>
                  <p:nvPr/>
                </p:nvSpPr>
                <p:spPr>
                  <a:xfrm>
                    <a:off x="4928040" y="2860560"/>
                    <a:ext cx="17856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8" name="Freeform 468"/>
                  <p:cNvSpPr/>
                  <p:nvPr/>
                </p:nvSpPr>
                <p:spPr>
                  <a:xfrm>
                    <a:off x="4942080" y="2832480"/>
                    <a:ext cx="146160" cy="19440"/>
                  </a:xfrm>
                  <a:custGeom>
                    <a:avLst/>
                    <a:gdLst>
                      <a:gd name="textAreaLeft" fmla="*/ 0 w 146160"/>
                      <a:gd name="textAreaRight" fmla="*/ 146520 w 146160"/>
                      <a:gd name="textAreaTop" fmla="*/ 0 h 19440"/>
                      <a:gd name="textAreaBottom" fmla="*/ 19800 h 19440"/>
                    </a:gdLst>
                    <a:ahLst/>
                    <a:rect l="textAreaLeft" t="textAreaTop" r="textAreaRight" b="textAreaBottom"/>
                    <a:pathLst>
                      <a:path w="565" h="168">
                        <a:moveTo>
                          <a:pt x="0" y="0"/>
                        </a:moveTo>
                        <a:lnTo>
                          <a:pt x="0" y="130"/>
                        </a:lnTo>
                        <a:lnTo>
                          <a:pt x="565" y="168"/>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09" name="Freeform 469"/>
                  <p:cNvSpPr/>
                  <p:nvPr/>
                </p:nvSpPr>
                <p:spPr>
                  <a:xfrm>
                    <a:off x="4942080" y="2847240"/>
                    <a:ext cx="146160" cy="19800"/>
                  </a:xfrm>
                  <a:custGeom>
                    <a:avLst/>
                    <a:gdLst>
                      <a:gd name="textAreaLeft" fmla="*/ 0 w 146160"/>
                      <a:gd name="textAreaRight" fmla="*/ 146520 w 146160"/>
                      <a:gd name="textAreaTop" fmla="*/ 0 h 19800"/>
                      <a:gd name="textAreaBottom" fmla="*/ 20160 h 19800"/>
                    </a:gdLst>
                    <a:ahLst/>
                    <a:rect l="textAreaLeft" t="textAreaTop" r="textAreaRight" b="textAreaBottom"/>
                    <a:pathLst>
                      <a:path w="565" h="169">
                        <a:moveTo>
                          <a:pt x="0" y="0"/>
                        </a:moveTo>
                        <a:lnTo>
                          <a:pt x="0" y="130"/>
                        </a:lnTo>
                        <a:lnTo>
                          <a:pt x="565" y="169"/>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10" name="Freeform 470"/>
                  <p:cNvSpPr/>
                  <p:nvPr/>
                </p:nvSpPr>
                <p:spPr>
                  <a:xfrm>
                    <a:off x="4942080" y="2862000"/>
                    <a:ext cx="146160" cy="18720"/>
                  </a:xfrm>
                  <a:custGeom>
                    <a:avLst/>
                    <a:gdLst>
                      <a:gd name="textAreaLeft" fmla="*/ 0 w 146160"/>
                      <a:gd name="textAreaRight" fmla="*/ 146520 w 146160"/>
                      <a:gd name="textAreaTop" fmla="*/ 0 h 18720"/>
                      <a:gd name="textAreaBottom" fmla="*/ 19080 h 18720"/>
                    </a:gdLst>
                    <a:ahLst/>
                    <a:rect l="textAreaLeft" t="textAreaTop" r="textAreaRight" b="textAreaBottom"/>
                    <a:pathLst>
                      <a:path w="565" h="167">
                        <a:moveTo>
                          <a:pt x="0" y="0"/>
                        </a:moveTo>
                        <a:lnTo>
                          <a:pt x="0" y="130"/>
                        </a:lnTo>
                        <a:lnTo>
                          <a:pt x="565" y="167"/>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1" name="Freeform 471"/>
                  <p:cNvSpPr/>
                  <p:nvPr/>
                </p:nvSpPr>
                <p:spPr>
                  <a:xfrm>
                    <a:off x="4942080" y="2876760"/>
                    <a:ext cx="147240" cy="20160"/>
                  </a:xfrm>
                  <a:custGeom>
                    <a:avLst/>
                    <a:gdLst>
                      <a:gd name="textAreaLeft" fmla="*/ 0 w 147240"/>
                      <a:gd name="textAreaRight" fmla="*/ 147600 w 147240"/>
                      <a:gd name="textAreaTop" fmla="*/ 0 h 20160"/>
                      <a:gd name="textAreaBottom" fmla="*/ 20520 h 20160"/>
                    </a:gdLst>
                    <a:ahLst/>
                    <a:rect l="textAreaLeft" t="textAreaTop" r="textAreaRight" b="textAreaBottom"/>
                    <a:pathLst>
                      <a:path w="567" h="174">
                        <a:moveTo>
                          <a:pt x="0" y="0"/>
                        </a:moveTo>
                        <a:lnTo>
                          <a:pt x="0" y="128"/>
                        </a:lnTo>
                        <a:lnTo>
                          <a:pt x="567" y="174"/>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512" name="Group 472"/>
                  <p:cNvGrpSpPr/>
                  <p:nvPr/>
                </p:nvGrpSpPr>
                <p:grpSpPr>
                  <a:xfrm>
                    <a:off x="4956480" y="2836440"/>
                    <a:ext cx="115200" cy="25560"/>
                    <a:chOff x="4956480" y="2836440"/>
                    <a:chExt cx="115200" cy="25560"/>
                  </a:xfrm>
                </p:grpSpPr>
                <p:sp>
                  <p:nvSpPr>
                    <p:cNvPr id="513" name="Oval 473"/>
                    <p:cNvSpPr/>
                    <p:nvPr/>
                  </p:nvSpPr>
                  <p:spPr>
                    <a:xfrm>
                      <a:off x="5048280" y="2839320"/>
                      <a:ext cx="144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474"/>
                    <p:cNvSpPr/>
                    <p:nvPr/>
                  </p:nvSpPr>
                  <p:spPr>
                    <a:xfrm>
                      <a:off x="4969080" y="2850480"/>
                      <a:ext cx="89280" cy="8280"/>
                    </a:xfrm>
                    <a:custGeom>
                      <a:avLst/>
                      <a:gdLst>
                        <a:gd name="textAreaLeft" fmla="*/ 0 w 89280"/>
                        <a:gd name="textAreaRight" fmla="*/ 89640 w 89280"/>
                        <a:gd name="textAreaTop" fmla="*/ 0 h 8280"/>
                        <a:gd name="textAreaBottom" fmla="*/ 8640 h 8280"/>
                      </a:gdLst>
                      <a:ahLst/>
                      <a:rect l="textAreaLeft" t="textAreaTop" r="textAreaRight" b="textAreaBottom"/>
                      <a:pathLst>
                        <a:path w="347" h="74">
                          <a:moveTo>
                            <a:pt x="0" y="74"/>
                          </a:moveTo>
                          <a:lnTo>
                            <a:pt x="0" y="0"/>
                          </a:lnTo>
                          <a:lnTo>
                            <a:pt x="347"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15" name="Freeform 475"/>
                    <p:cNvSpPr/>
                    <p:nvPr/>
                  </p:nvSpPr>
                  <p:spPr>
                    <a:xfrm>
                      <a:off x="4973400" y="2854800"/>
                      <a:ext cx="82440" cy="3960"/>
                    </a:xfrm>
                    <a:custGeom>
                      <a:avLst/>
                      <a:gdLst>
                        <a:gd name="textAreaLeft" fmla="*/ 0 w 82440"/>
                        <a:gd name="textAreaRight" fmla="*/ 82800 w 82440"/>
                        <a:gd name="textAreaTop" fmla="*/ 0 h 3960"/>
                        <a:gd name="textAreaBottom" fmla="*/ 4320 h 3960"/>
                      </a:gdLst>
                      <a:ahLst/>
                      <a:rect l="textAreaLeft" t="textAreaTop" r="textAreaRight" b="textAreaBottom"/>
                      <a:pathLst>
                        <a:path w="322" h="38">
                          <a:moveTo>
                            <a:pt x="0" y="0"/>
                          </a:moveTo>
                          <a:lnTo>
                            <a:pt x="0" y="14"/>
                          </a:lnTo>
                          <a:lnTo>
                            <a:pt x="322" y="38"/>
                          </a:lnTo>
                          <a:lnTo>
                            <a:pt x="322"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6" name="Freeform 476"/>
                    <p:cNvSpPr/>
                    <p:nvPr/>
                  </p:nvSpPr>
                  <p:spPr>
                    <a:xfrm>
                      <a:off x="5028840" y="2859480"/>
                      <a:ext cx="25560" cy="2520"/>
                    </a:xfrm>
                    <a:custGeom>
                      <a:avLst/>
                      <a:gdLst>
                        <a:gd name="textAreaLeft" fmla="*/ 0 w 25560"/>
                        <a:gd name="textAreaRight" fmla="*/ 25920 w 25560"/>
                        <a:gd name="textAreaTop" fmla="*/ 0 h 2520"/>
                        <a:gd name="textAreaBottom" fmla="*/ 2880 h 2520"/>
                      </a:gdLst>
                      <a:ahLst/>
                      <a:rect l="textAreaLeft" t="textAreaTop" r="textAreaRight" b="textAreaBottom"/>
                      <a:pathLst>
                        <a:path w="103" h="25">
                          <a:moveTo>
                            <a:pt x="0" y="0"/>
                          </a:moveTo>
                          <a:lnTo>
                            <a:pt x="103" y="7"/>
                          </a:lnTo>
                          <a:lnTo>
                            <a:pt x="103"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17" name="Freeform 477"/>
                    <p:cNvSpPr/>
                    <p:nvPr/>
                  </p:nvSpPr>
                  <p:spPr>
                    <a:xfrm>
                      <a:off x="4977000" y="2836440"/>
                      <a:ext cx="63000" cy="11160"/>
                    </a:xfrm>
                    <a:custGeom>
                      <a:avLst/>
                      <a:gdLst>
                        <a:gd name="textAreaLeft" fmla="*/ 0 w 63000"/>
                        <a:gd name="textAreaRight" fmla="*/ 63360 w 63000"/>
                        <a:gd name="textAreaTop" fmla="*/ 0 h 11160"/>
                        <a:gd name="textAreaBottom" fmla="*/ 11520 h 11160"/>
                      </a:gdLst>
                      <a:ahLst/>
                      <a:rect l="textAreaLeft" t="textAreaTop" r="textAreaRight" b="textAreaBottom"/>
                      <a:pathLst>
                        <a:path w="247" h="93">
                          <a:moveTo>
                            <a:pt x="0" y="2"/>
                          </a:moveTo>
                          <a:lnTo>
                            <a:pt x="0" y="75"/>
                          </a:lnTo>
                          <a:lnTo>
                            <a:pt x="246" y="93"/>
                          </a:lnTo>
                          <a:lnTo>
                            <a:pt x="247" y="7"/>
                          </a:lnTo>
                          <a:lnTo>
                            <a:pt x="136" y="0"/>
                          </a:lnTo>
                          <a:lnTo>
                            <a:pt x="122"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8" name="Freeform 478"/>
                    <p:cNvSpPr/>
                    <p:nvPr/>
                  </p:nvSpPr>
                  <p:spPr>
                    <a:xfrm>
                      <a:off x="4956480" y="2839320"/>
                      <a:ext cx="115200" cy="4680"/>
                    </a:xfrm>
                    <a:custGeom>
                      <a:avLst/>
                      <a:gdLst>
                        <a:gd name="textAreaLeft" fmla="*/ 0 w 115200"/>
                        <a:gd name="textAreaRight" fmla="*/ 115560 w 115200"/>
                        <a:gd name="textAreaTop" fmla="*/ 0 h 4680"/>
                        <a:gd name="textAreaBottom" fmla="*/ 5040 h 4680"/>
                      </a:gdLst>
                      <a:ahLst/>
                      <a:rect l="textAreaLeft" t="textAreaTop" r="textAreaRight" b="textAreaBottom"/>
                      <a:pathLst>
                        <a:path w="446" h="43">
                          <a:moveTo>
                            <a:pt x="15" y="0"/>
                          </a:moveTo>
                          <a:lnTo>
                            <a:pt x="7" y="0"/>
                          </a:lnTo>
                          <a:lnTo>
                            <a:pt x="0" y="0"/>
                          </a:lnTo>
                          <a:lnTo>
                            <a:pt x="0" y="8"/>
                          </a:lnTo>
                          <a:lnTo>
                            <a:pt x="0" y="12"/>
                          </a:lnTo>
                          <a:lnTo>
                            <a:pt x="7" y="15"/>
                          </a:lnTo>
                          <a:lnTo>
                            <a:pt x="15" y="15"/>
                          </a:lnTo>
                          <a:lnTo>
                            <a:pt x="437" y="43"/>
                          </a:lnTo>
                          <a:lnTo>
                            <a:pt x="445" y="43"/>
                          </a:lnTo>
                          <a:lnTo>
                            <a:pt x="446" y="32"/>
                          </a:lnTo>
                          <a:lnTo>
                            <a:pt x="439" y="29"/>
                          </a:lnTo>
                          <a:lnTo>
                            <a:pt x="422"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sp>
            <p:nvSpPr>
              <p:cNvPr id="519" name="AutoShape 479"/>
              <p:cNvSpPr/>
              <p:nvPr/>
            </p:nvSpPr>
            <p:spPr>
              <a:xfrm>
                <a:off x="4937400" y="3088440"/>
                <a:ext cx="31356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480"/>
              <p:cNvSpPr/>
              <p:nvPr/>
            </p:nvSpPr>
            <p:spPr>
              <a:xfrm>
                <a:off x="4518720" y="3088440"/>
                <a:ext cx="31356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481"/>
              <p:cNvSpPr/>
              <p:nvPr/>
            </p:nvSpPr>
            <p:spPr>
              <a:xfrm>
                <a:off x="4099680" y="3088440"/>
                <a:ext cx="31392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 Box 482"/>
              <p:cNvSpPr/>
              <p:nvPr/>
            </p:nvSpPr>
            <p:spPr>
              <a:xfrm>
                <a:off x="4632840" y="3254040"/>
                <a:ext cx="136080" cy="264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483"/>
              <p:cNvSpPr/>
              <p:nvPr/>
            </p:nvSpPr>
            <p:spPr>
              <a:xfrm>
                <a:off x="4196880" y="2614320"/>
                <a:ext cx="13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 name="Group 484"/>
            <p:cNvGrpSpPr/>
            <p:nvPr/>
          </p:nvGrpSpPr>
          <p:grpSpPr>
            <a:xfrm>
              <a:off x="6158880" y="3561120"/>
              <a:ext cx="1493640" cy="615600"/>
              <a:chOff x="6158880" y="3561120"/>
              <a:chExt cx="1493640" cy="615600"/>
            </a:xfrm>
          </p:grpSpPr>
          <p:sp>
            <p:nvSpPr>
              <p:cNvPr id="525" name="Oval 485"/>
              <p:cNvSpPr/>
              <p:nvPr/>
            </p:nvSpPr>
            <p:spPr>
              <a:xfrm flipH="1">
                <a:off x="6158520" y="356112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526" name="Group 486"/>
              <p:cNvGrpSpPr/>
              <p:nvPr/>
            </p:nvGrpSpPr>
            <p:grpSpPr>
              <a:xfrm>
                <a:off x="6903000" y="3583080"/>
                <a:ext cx="391320" cy="276840"/>
                <a:chOff x="6903000" y="3583080"/>
                <a:chExt cx="391320" cy="276840"/>
              </a:xfrm>
            </p:grpSpPr>
            <p:sp>
              <p:nvSpPr>
                <p:cNvPr id="527" name="Rectangle 487"/>
                <p:cNvSpPr/>
                <p:nvPr/>
              </p:nvSpPr>
              <p:spPr>
                <a:xfrm flipH="1">
                  <a:off x="7206480" y="3785400"/>
                  <a:ext cx="5040" cy="17280"/>
                </a:xfrm>
                <a:prstGeom prst="rect">
                  <a:avLst/>
                </a:prstGeom>
                <a:solidFill>
                  <a:srgbClr val="b2c1d1"/>
                </a:solidFill>
                <a:ln w="3240">
                  <a:solidFill>
                    <a:srgbClr val="000000"/>
                  </a:solidFill>
                  <a:miter/>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488"/>
                <p:cNvSpPr/>
                <p:nvPr/>
              </p:nvSpPr>
              <p:spPr>
                <a:xfrm flipH="1">
                  <a:off x="7183440" y="3690360"/>
                  <a:ext cx="110880" cy="82080"/>
                </a:xfrm>
                <a:custGeom>
                  <a:avLst/>
                  <a:gdLst>
                    <a:gd name="textAreaLeft" fmla="*/ 360 w 110880"/>
                    <a:gd name="textAreaRight" fmla="*/ 111600 w 110880"/>
                    <a:gd name="textAreaTop" fmla="*/ 0 h 82080"/>
                    <a:gd name="textAreaBottom" fmla="*/ 82440 h 820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9" name="Freeform 489"/>
                <p:cNvSpPr/>
                <p:nvPr/>
              </p:nvSpPr>
              <p:spPr>
                <a:xfrm flipH="1">
                  <a:off x="7154280" y="3763080"/>
                  <a:ext cx="116280" cy="2160"/>
                </a:xfrm>
                <a:custGeom>
                  <a:avLst/>
                  <a:gdLst>
                    <a:gd name="textAreaLeft" fmla="*/ -360 w 116280"/>
                    <a:gd name="textAreaRight" fmla="*/ 116280 w 116280"/>
                    <a:gd name="textAreaTop" fmla="*/ 0 h 2160"/>
                    <a:gd name="textAreaBottom" fmla="*/ 2520 h 216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30" name="Freeform 490"/>
                <p:cNvSpPr/>
                <p:nvPr/>
              </p:nvSpPr>
              <p:spPr>
                <a:xfrm flipH="1">
                  <a:off x="7261920" y="3667680"/>
                  <a:ext cx="15480" cy="50400"/>
                </a:xfrm>
                <a:custGeom>
                  <a:avLst/>
                  <a:gdLst>
                    <a:gd name="textAreaLeft" fmla="*/ -360 w 15480"/>
                    <a:gd name="textAreaRight" fmla="*/ 15480 w 15480"/>
                    <a:gd name="textAreaTop" fmla="*/ 0 h 50400"/>
                    <a:gd name="textAreaBottom" fmla="*/ 50760 h 5040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32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1" name="Freeform 491"/>
                <p:cNvSpPr/>
                <p:nvPr/>
              </p:nvSpPr>
              <p:spPr>
                <a:xfrm flipH="1">
                  <a:off x="7150320" y="3749040"/>
                  <a:ext cx="124920" cy="13680"/>
                </a:xfrm>
                <a:custGeom>
                  <a:avLst/>
                  <a:gdLst>
                    <a:gd name="textAreaLeft" fmla="*/ -360 w 124920"/>
                    <a:gd name="textAreaRight" fmla="*/ 124920 w 124920"/>
                    <a:gd name="textAreaTop" fmla="*/ 0 h 13680"/>
                    <a:gd name="textAreaBottom" fmla="*/ 14040 h 136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3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2" name="Freeform 492"/>
                <p:cNvSpPr/>
                <p:nvPr/>
              </p:nvSpPr>
              <p:spPr>
                <a:xfrm flipH="1">
                  <a:off x="7125120" y="3800880"/>
                  <a:ext cx="167400" cy="43200"/>
                </a:xfrm>
                <a:custGeom>
                  <a:avLst/>
                  <a:gdLst>
                    <a:gd name="textAreaLeft" fmla="*/ -360 w 167400"/>
                    <a:gd name="textAreaRight" fmla="*/ 167400 w 167400"/>
                    <a:gd name="textAreaTop" fmla="*/ 0 h 43200"/>
                    <a:gd name="textAreaBottom" fmla="*/ 43560 h 43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33" name="Freeform 493"/>
                <p:cNvSpPr/>
                <p:nvPr/>
              </p:nvSpPr>
              <p:spPr>
                <a:xfrm flipH="1">
                  <a:off x="7202160" y="3772440"/>
                  <a:ext cx="14400" cy="16920"/>
                </a:xfrm>
                <a:custGeom>
                  <a:avLst/>
                  <a:gdLst>
                    <a:gd name="textAreaLeft" fmla="*/ 360 w 14400"/>
                    <a:gd name="textAreaRight" fmla="*/ 15120 w 14400"/>
                    <a:gd name="textAreaTop" fmla="*/ 0 h 16920"/>
                    <a:gd name="textAreaBottom" fmla="*/ 17280 h 169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4" name="Freeform 494"/>
                <p:cNvSpPr/>
                <p:nvPr/>
              </p:nvSpPr>
              <p:spPr>
                <a:xfrm flipH="1">
                  <a:off x="7213320" y="3776040"/>
                  <a:ext cx="30600" cy="14760"/>
                </a:xfrm>
                <a:custGeom>
                  <a:avLst/>
                  <a:gdLst>
                    <a:gd name="textAreaLeft" fmla="*/ -360 w 30600"/>
                    <a:gd name="textAreaRight" fmla="*/ 30600 w 30600"/>
                    <a:gd name="textAreaTop" fmla="*/ 0 h 14760"/>
                    <a:gd name="textAreaBottom" fmla="*/ 15120 h 1476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35" name="Freeform 495"/>
                <p:cNvSpPr/>
                <p:nvPr/>
              </p:nvSpPr>
              <p:spPr>
                <a:xfrm flipH="1">
                  <a:off x="7104600" y="3693960"/>
                  <a:ext cx="54360" cy="10800"/>
                </a:xfrm>
                <a:custGeom>
                  <a:avLst/>
                  <a:gdLst>
                    <a:gd name="textAreaLeft" fmla="*/ -360 w 54360"/>
                    <a:gd name="textAreaRight" fmla="*/ 54360 w 54360"/>
                    <a:gd name="textAreaTop" fmla="*/ 0 h 10800"/>
                    <a:gd name="textAreaBottom" fmla="*/ 11160 h 1080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6" name="Freeform 496"/>
                <p:cNvSpPr/>
                <p:nvPr/>
              </p:nvSpPr>
              <p:spPr>
                <a:xfrm flipH="1">
                  <a:off x="7150320" y="369828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37" name="Freeform 497"/>
                <p:cNvSpPr/>
                <p:nvPr/>
              </p:nvSpPr>
              <p:spPr>
                <a:xfrm flipH="1">
                  <a:off x="7148880" y="3636720"/>
                  <a:ext cx="94680" cy="66240"/>
                </a:xfrm>
                <a:custGeom>
                  <a:avLst/>
                  <a:gdLst>
                    <a:gd name="textAreaLeft" fmla="*/ -360 w 94680"/>
                    <a:gd name="textAreaRight" fmla="*/ 94680 w 94680"/>
                    <a:gd name="textAreaTop" fmla="*/ 0 h 66240"/>
                    <a:gd name="textAreaBottom" fmla="*/ 66600 h 66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8" name="Freeform 498"/>
                <p:cNvSpPr/>
                <p:nvPr/>
              </p:nvSpPr>
              <p:spPr>
                <a:xfrm flipH="1">
                  <a:off x="7150680" y="369828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39" name="Freeform 499"/>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0" name="Freeform 500"/>
                <p:cNvSpPr/>
                <p:nvPr/>
              </p:nvSpPr>
              <p:spPr>
                <a:xfrm flipH="1">
                  <a:off x="7163640" y="3635640"/>
                  <a:ext cx="71280" cy="43200"/>
                </a:xfrm>
                <a:custGeom>
                  <a:avLst/>
                  <a:gdLst>
                    <a:gd name="textAreaLeft" fmla="*/ 360 w 71280"/>
                    <a:gd name="textAreaRight" fmla="*/ 72000 w 71280"/>
                    <a:gd name="textAreaTop" fmla="*/ 0 h 43200"/>
                    <a:gd name="textAreaBottom" fmla="*/ 43560 h 43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41" name="Freeform 501"/>
                <p:cNvSpPr/>
                <p:nvPr/>
              </p:nvSpPr>
              <p:spPr>
                <a:xfrm flipH="1">
                  <a:off x="7095600" y="3721320"/>
                  <a:ext cx="154440" cy="110880"/>
                </a:xfrm>
                <a:custGeom>
                  <a:avLst/>
                  <a:gdLst>
                    <a:gd name="textAreaLeft" fmla="*/ -360 w 154440"/>
                    <a:gd name="textAreaRight" fmla="*/ 154440 w 154440"/>
                    <a:gd name="textAreaTop" fmla="*/ 0 h 110880"/>
                    <a:gd name="textAreaBottom" fmla="*/ 111240 h 11088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502"/>
                <p:cNvSpPr/>
                <p:nvPr/>
              </p:nvSpPr>
              <p:spPr>
                <a:xfrm flipH="1">
                  <a:off x="7143120" y="38199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3" name="Freeform 503"/>
                <p:cNvSpPr/>
                <p:nvPr/>
              </p:nvSpPr>
              <p:spPr>
                <a:xfrm flipH="1">
                  <a:off x="7231320" y="3736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4" name="Freeform 504"/>
                <p:cNvSpPr/>
                <p:nvPr/>
              </p:nvSpPr>
              <p:spPr>
                <a:xfrm flipH="1">
                  <a:off x="7095960" y="3817440"/>
                  <a:ext cx="63000" cy="20520"/>
                </a:xfrm>
                <a:custGeom>
                  <a:avLst/>
                  <a:gdLst>
                    <a:gd name="textAreaLeft" fmla="*/ -360 w 63000"/>
                    <a:gd name="textAreaRight" fmla="*/ 63000 w 63000"/>
                    <a:gd name="textAreaTop" fmla="*/ 0 h 20520"/>
                    <a:gd name="textAreaBottom" fmla="*/ 20880 h 2052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32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5" name="Freeform 505"/>
                <p:cNvSpPr/>
                <p:nvPr/>
              </p:nvSpPr>
              <p:spPr>
                <a:xfrm flipH="1">
                  <a:off x="7143120" y="38199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6" name="Freeform 506"/>
                <p:cNvSpPr/>
                <p:nvPr/>
              </p:nvSpPr>
              <p:spPr>
                <a:xfrm flipH="1">
                  <a:off x="7094520" y="3822120"/>
                  <a:ext cx="66240" cy="16920"/>
                </a:xfrm>
                <a:custGeom>
                  <a:avLst/>
                  <a:gdLst>
                    <a:gd name="textAreaLeft" fmla="*/ 0 w 66240"/>
                    <a:gd name="textAreaRight" fmla="*/ 66240 w 66240"/>
                    <a:gd name="textAreaTop" fmla="*/ 0 h 16920"/>
                    <a:gd name="textAreaBottom" fmla="*/ 17280 h 169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7" name="Freeform 507"/>
                <p:cNvSpPr/>
                <p:nvPr/>
              </p:nvSpPr>
              <p:spPr>
                <a:xfrm flipH="1">
                  <a:off x="7094520" y="3835800"/>
                  <a:ext cx="66240" cy="4320"/>
                </a:xfrm>
                <a:custGeom>
                  <a:avLst/>
                  <a:gdLst>
                    <a:gd name="textAreaLeft" fmla="*/ 360 w 66240"/>
                    <a:gd name="textAreaRight" fmla="*/ 66960 w 66240"/>
                    <a:gd name="textAreaTop" fmla="*/ 0 h 4320"/>
                    <a:gd name="textAreaBottom" fmla="*/ 4680 h 432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8" name="Freeform 508"/>
                <p:cNvSpPr/>
                <p:nvPr/>
              </p:nvSpPr>
              <p:spPr>
                <a:xfrm flipH="1">
                  <a:off x="7092000" y="3720240"/>
                  <a:ext cx="161640" cy="111240"/>
                </a:xfrm>
                <a:custGeom>
                  <a:avLst/>
                  <a:gdLst>
                    <a:gd name="textAreaLeft" fmla="*/ -360 w 161640"/>
                    <a:gd name="textAreaRight" fmla="*/ 161640 w 161640"/>
                    <a:gd name="textAreaTop" fmla="*/ 0 h 111240"/>
                    <a:gd name="textAreaBottom" fmla="*/ 111600 h 11124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509"/>
                <p:cNvSpPr/>
                <p:nvPr/>
              </p:nvSpPr>
              <p:spPr>
                <a:xfrm flipH="1">
                  <a:off x="7098480" y="3723120"/>
                  <a:ext cx="151560" cy="116640"/>
                </a:xfrm>
                <a:custGeom>
                  <a:avLst/>
                  <a:gdLst>
                    <a:gd name="textAreaLeft" fmla="*/ -360 w 151560"/>
                    <a:gd name="textAreaRight" fmla="*/ 151560 w 151560"/>
                    <a:gd name="textAreaTop" fmla="*/ 0 h 116640"/>
                    <a:gd name="textAreaBottom" fmla="*/ 117000 h 11664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510"/>
                <p:cNvSpPr/>
                <p:nvPr/>
              </p:nvSpPr>
              <p:spPr>
                <a:xfrm flipH="1">
                  <a:off x="7166520" y="382788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1" name="Freeform 511"/>
                <p:cNvSpPr/>
                <p:nvPr/>
              </p:nvSpPr>
              <p:spPr>
                <a:xfrm flipH="1">
                  <a:off x="7231320" y="37368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2" name="Freeform 512"/>
                <p:cNvSpPr/>
                <p:nvPr/>
              </p:nvSpPr>
              <p:spPr>
                <a:xfrm flipH="1">
                  <a:off x="7121520" y="3824640"/>
                  <a:ext cx="63000" cy="23400"/>
                </a:xfrm>
                <a:custGeom>
                  <a:avLst/>
                  <a:gdLst>
                    <a:gd name="textAreaLeft" fmla="*/ -360 w 63000"/>
                    <a:gd name="textAreaRight" fmla="*/ 63000 w 63000"/>
                    <a:gd name="textAreaTop" fmla="*/ 0 h 23400"/>
                    <a:gd name="textAreaBottom" fmla="*/ 23760 h 2340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32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Freeform 513"/>
                <p:cNvSpPr/>
                <p:nvPr/>
              </p:nvSpPr>
              <p:spPr>
                <a:xfrm flipH="1">
                  <a:off x="7166520" y="382788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4" name="Freeform 514"/>
                <p:cNvSpPr/>
                <p:nvPr/>
              </p:nvSpPr>
              <p:spPr>
                <a:xfrm flipH="1">
                  <a:off x="7120800" y="3829320"/>
                  <a:ext cx="65880" cy="19800"/>
                </a:xfrm>
                <a:custGeom>
                  <a:avLst/>
                  <a:gdLst>
                    <a:gd name="textAreaLeft" fmla="*/ -360 w 65880"/>
                    <a:gd name="textAreaRight" fmla="*/ 65880 w 65880"/>
                    <a:gd name="textAreaTop" fmla="*/ 0 h 19800"/>
                    <a:gd name="textAreaBottom" fmla="*/ 20160 h 1980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55" name="Freeform 515"/>
                <p:cNvSpPr/>
                <p:nvPr/>
              </p:nvSpPr>
              <p:spPr>
                <a:xfrm flipH="1">
                  <a:off x="7121520" y="3842280"/>
                  <a:ext cx="65160" cy="7560"/>
                </a:xfrm>
                <a:custGeom>
                  <a:avLst/>
                  <a:gdLst>
                    <a:gd name="textAreaLeft" fmla="*/ -360 w 65160"/>
                    <a:gd name="textAreaRight" fmla="*/ 65160 w 65160"/>
                    <a:gd name="textAreaTop" fmla="*/ 0 h 7560"/>
                    <a:gd name="textAreaBottom" fmla="*/ 7920 h 756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6" name="Freeform 516"/>
                <p:cNvSpPr/>
                <p:nvPr/>
              </p:nvSpPr>
              <p:spPr>
                <a:xfrm flipH="1">
                  <a:off x="7096320" y="3721320"/>
                  <a:ext cx="156600" cy="115920"/>
                </a:xfrm>
                <a:custGeom>
                  <a:avLst/>
                  <a:gdLst>
                    <a:gd name="textAreaLeft" fmla="*/ -360 w 156600"/>
                    <a:gd name="textAreaRight" fmla="*/ 156600 w 156600"/>
                    <a:gd name="textAreaTop" fmla="*/ 0 h 115920"/>
                    <a:gd name="textAreaBottom" fmla="*/ 116280 h 11592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517"/>
                <p:cNvSpPr/>
                <p:nvPr/>
              </p:nvSpPr>
              <p:spPr>
                <a:xfrm flipH="1">
                  <a:off x="7113600" y="3584880"/>
                  <a:ext cx="72000" cy="52920"/>
                </a:xfrm>
                <a:custGeom>
                  <a:avLst/>
                  <a:gdLst>
                    <a:gd name="textAreaLeft" fmla="*/ 0 w 72000"/>
                    <a:gd name="textAreaRight" fmla="*/ 72000 w 72000"/>
                    <a:gd name="textAreaTop" fmla="*/ 0 h 52920"/>
                    <a:gd name="textAreaBottom" fmla="*/ 53280 h 5292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324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58" name="Freeform 518"/>
                <p:cNvSpPr/>
                <p:nvPr/>
              </p:nvSpPr>
              <p:spPr>
                <a:xfrm flipH="1">
                  <a:off x="7169760" y="3628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9" name="Freeform 519"/>
                <p:cNvSpPr/>
                <p:nvPr/>
              </p:nvSpPr>
              <p:spPr>
                <a:xfrm flipH="1">
                  <a:off x="7152840" y="359532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0" name="Freeform 520"/>
                <p:cNvSpPr/>
                <p:nvPr/>
              </p:nvSpPr>
              <p:spPr>
                <a:xfrm flipH="1">
                  <a:off x="7131240" y="3621960"/>
                  <a:ext cx="6480" cy="3240"/>
                </a:xfrm>
                <a:custGeom>
                  <a:avLst/>
                  <a:gdLst>
                    <a:gd name="textAreaLeft" fmla="*/ 360 w 6480"/>
                    <a:gd name="textAreaRight" fmla="*/ 7200 w 6480"/>
                    <a:gd name="textAreaTop" fmla="*/ 0 h 3240"/>
                    <a:gd name="textAreaBottom" fmla="*/ 3600 h 324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61" name="Freeform 521"/>
                <p:cNvSpPr/>
                <p:nvPr/>
              </p:nvSpPr>
              <p:spPr>
                <a:xfrm flipH="1">
                  <a:off x="7119720" y="3609000"/>
                  <a:ext cx="10800" cy="2520"/>
                </a:xfrm>
                <a:custGeom>
                  <a:avLst/>
                  <a:gdLst>
                    <a:gd name="textAreaLeft" fmla="*/ 360 w 10800"/>
                    <a:gd name="textAreaRight" fmla="*/ 11520 w 10800"/>
                    <a:gd name="textAreaTop" fmla="*/ 0 h 2520"/>
                    <a:gd name="textAreaBottom" fmla="*/ 2880 h 252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62" name="Freeform 522"/>
                <p:cNvSpPr/>
                <p:nvPr/>
              </p:nvSpPr>
              <p:spPr>
                <a:xfrm flipH="1">
                  <a:off x="7124040" y="361188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3" name="Freeform 523"/>
                <p:cNvSpPr/>
                <p:nvPr/>
              </p:nvSpPr>
              <p:spPr>
                <a:xfrm flipH="1">
                  <a:off x="7105680" y="3583080"/>
                  <a:ext cx="71280" cy="32400"/>
                </a:xfrm>
                <a:custGeom>
                  <a:avLst/>
                  <a:gdLst>
                    <a:gd name="textAreaLeft" fmla="*/ 0 w 71280"/>
                    <a:gd name="textAreaRight" fmla="*/ 71280 w 71280"/>
                    <a:gd name="textAreaTop" fmla="*/ 0 h 32400"/>
                    <a:gd name="textAreaBottom" fmla="*/ 32760 h 3240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324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4" name="Freeform 524"/>
                <p:cNvSpPr/>
                <p:nvPr/>
              </p:nvSpPr>
              <p:spPr>
                <a:xfrm flipH="1">
                  <a:off x="7152840" y="359532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5" name="Freeform 525"/>
                <p:cNvSpPr/>
                <p:nvPr/>
              </p:nvSpPr>
              <p:spPr>
                <a:xfrm flipH="1">
                  <a:off x="7157880" y="3626640"/>
                  <a:ext cx="110880" cy="126360"/>
                </a:xfrm>
                <a:custGeom>
                  <a:avLst/>
                  <a:gdLst>
                    <a:gd name="textAreaLeft" fmla="*/ 360 w 110880"/>
                    <a:gd name="textAreaRight" fmla="*/ 111600 w 110880"/>
                    <a:gd name="textAreaTop" fmla="*/ 0 h 126360"/>
                    <a:gd name="textAreaBottom" fmla="*/ 126720 h 12636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526"/>
                <p:cNvSpPr/>
                <p:nvPr/>
              </p:nvSpPr>
              <p:spPr>
                <a:xfrm flipH="1">
                  <a:off x="7169760" y="3628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7" name="Freeform 527"/>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8" name="Freeform 528"/>
                <p:cNvSpPr/>
                <p:nvPr/>
              </p:nvSpPr>
              <p:spPr>
                <a:xfrm flipH="1">
                  <a:off x="7231320" y="3736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9" name="Freeform 529"/>
                <p:cNvSpPr/>
                <p:nvPr/>
              </p:nvSpPr>
              <p:spPr>
                <a:xfrm flipH="1">
                  <a:off x="7180200" y="3693960"/>
                  <a:ext cx="91080" cy="62280"/>
                </a:xfrm>
                <a:custGeom>
                  <a:avLst/>
                  <a:gdLst>
                    <a:gd name="textAreaLeft" fmla="*/ -360 w 91080"/>
                    <a:gd name="textAreaRight" fmla="*/ 91080 w 91080"/>
                    <a:gd name="textAreaTop" fmla="*/ 0 h 62280"/>
                    <a:gd name="textAreaBottom" fmla="*/ 62640 h 6228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324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70" name="Freeform 530"/>
                <p:cNvSpPr/>
                <p:nvPr/>
              </p:nvSpPr>
              <p:spPr>
                <a:xfrm flipH="1">
                  <a:off x="7153200" y="3616920"/>
                  <a:ext cx="88200" cy="90720"/>
                </a:xfrm>
                <a:custGeom>
                  <a:avLst/>
                  <a:gdLst>
                    <a:gd name="textAreaLeft" fmla="*/ 0 w 88200"/>
                    <a:gd name="textAreaRight" fmla="*/ 88200 w 88200"/>
                    <a:gd name="textAreaTop" fmla="*/ 0 h 90720"/>
                    <a:gd name="textAreaBottom" fmla="*/ 91080 h 9072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71" name="Freeform 531"/>
                <p:cNvSpPr/>
                <p:nvPr/>
              </p:nvSpPr>
              <p:spPr>
                <a:xfrm flipH="1">
                  <a:off x="7213320" y="3695400"/>
                  <a:ext cx="23400" cy="6840"/>
                </a:xfrm>
                <a:custGeom>
                  <a:avLst/>
                  <a:gdLst>
                    <a:gd name="textAreaLeft" fmla="*/ -360 w 23400"/>
                    <a:gd name="textAreaRight" fmla="*/ 23400 w 23400"/>
                    <a:gd name="textAreaTop" fmla="*/ 0 h 6840"/>
                    <a:gd name="textAreaBottom" fmla="*/ 7200 h 684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72" name="Freeform 532"/>
                <p:cNvSpPr/>
                <p:nvPr/>
              </p:nvSpPr>
              <p:spPr>
                <a:xfrm flipH="1">
                  <a:off x="7181280" y="3706200"/>
                  <a:ext cx="10080" cy="3600"/>
                </a:xfrm>
                <a:custGeom>
                  <a:avLst/>
                  <a:gdLst>
                    <a:gd name="textAreaLeft" fmla="*/ 360 w 10080"/>
                    <a:gd name="textAreaRight" fmla="*/ 10800 w 10080"/>
                    <a:gd name="textAreaTop" fmla="*/ 0 h 3600"/>
                    <a:gd name="textAreaBottom" fmla="*/ 3960 h 360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324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73" name="Freeform 533"/>
                <p:cNvSpPr/>
                <p:nvPr/>
              </p:nvSpPr>
              <p:spPr>
                <a:xfrm flipH="1">
                  <a:off x="7194960" y="3700800"/>
                  <a:ext cx="15840" cy="6120"/>
                </a:xfrm>
                <a:custGeom>
                  <a:avLst/>
                  <a:gdLst>
                    <a:gd name="textAreaLeft" fmla="*/ 360 w 15840"/>
                    <a:gd name="textAreaRight" fmla="*/ 16560 w 15840"/>
                    <a:gd name="textAreaTop" fmla="*/ 0 h 6120"/>
                    <a:gd name="textAreaBottom" fmla="*/ 6480 h 612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74" name="Freeform 534"/>
                <p:cNvSpPr/>
                <p:nvPr/>
              </p:nvSpPr>
              <p:spPr>
                <a:xfrm flipH="1">
                  <a:off x="7068960" y="3698280"/>
                  <a:ext cx="54360" cy="11520"/>
                </a:xfrm>
                <a:custGeom>
                  <a:avLst/>
                  <a:gdLst>
                    <a:gd name="textAreaLeft" fmla="*/ -360 w 54360"/>
                    <a:gd name="textAreaRight" fmla="*/ 54360 w 54360"/>
                    <a:gd name="textAreaTop" fmla="*/ 0 h 11520"/>
                    <a:gd name="textAreaBottom" fmla="*/ 11880 h 1152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5" name="Freeform 535"/>
                <p:cNvSpPr/>
                <p:nvPr/>
              </p:nvSpPr>
              <p:spPr>
                <a:xfrm flipH="1">
                  <a:off x="7115040" y="37047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6" name="Freeform 536"/>
                <p:cNvSpPr/>
                <p:nvPr/>
              </p:nvSpPr>
              <p:spPr>
                <a:xfrm flipH="1">
                  <a:off x="7114320" y="3634920"/>
                  <a:ext cx="99000" cy="74880"/>
                </a:xfrm>
                <a:custGeom>
                  <a:avLst/>
                  <a:gdLst>
                    <a:gd name="textAreaLeft" fmla="*/ -360 w 99000"/>
                    <a:gd name="textAreaRight" fmla="*/ 99000 w 99000"/>
                    <a:gd name="textAreaTop" fmla="*/ 0 h 74880"/>
                    <a:gd name="textAreaBottom" fmla="*/ 74880 h 7488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77" name="Freeform 537"/>
                <p:cNvSpPr/>
                <p:nvPr/>
              </p:nvSpPr>
              <p:spPr>
                <a:xfrm flipH="1">
                  <a:off x="7115040" y="37047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8" name="Freeform 538"/>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9" name="Freeform 539"/>
                <p:cNvSpPr/>
                <p:nvPr/>
              </p:nvSpPr>
              <p:spPr>
                <a:xfrm flipH="1">
                  <a:off x="7163280" y="3633840"/>
                  <a:ext cx="47880" cy="45360"/>
                </a:xfrm>
                <a:custGeom>
                  <a:avLst/>
                  <a:gdLst>
                    <a:gd name="textAreaLeft" fmla="*/ -360 w 47880"/>
                    <a:gd name="textAreaRight" fmla="*/ 47880 w 47880"/>
                    <a:gd name="textAreaTop" fmla="*/ 0 h 45360"/>
                    <a:gd name="textAreaBottom" fmla="*/ 45720 h 4536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32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80" name="Freeform 540"/>
                <p:cNvSpPr/>
                <p:nvPr/>
              </p:nvSpPr>
              <p:spPr>
                <a:xfrm flipH="1">
                  <a:off x="6909840" y="3841560"/>
                  <a:ext cx="209520" cy="18360"/>
                </a:xfrm>
                <a:custGeom>
                  <a:avLst/>
                  <a:gdLst>
                    <a:gd name="textAreaLeft" fmla="*/ 360 w 209520"/>
                    <a:gd name="textAreaRight" fmla="*/ 210240 w 209520"/>
                    <a:gd name="textAreaTop" fmla="*/ 0 h 18360"/>
                    <a:gd name="textAreaBottom" fmla="*/ 18720 h 1836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1" name="Rectangle 541"/>
                <p:cNvSpPr/>
                <p:nvPr/>
              </p:nvSpPr>
              <p:spPr>
                <a:xfrm flipH="1">
                  <a:off x="6914880" y="3722040"/>
                  <a:ext cx="198360" cy="42120"/>
                </a:xfrm>
                <a:prstGeom prst="rect">
                  <a:avLst/>
                </a:prstGeom>
                <a:solidFill>
                  <a:srgbClr val="b2c1d1"/>
                </a:solidFill>
                <a:ln w="3240">
                  <a:solidFill>
                    <a:srgbClr val="000000"/>
                  </a:solidFill>
                  <a:miter/>
                </a:ln>
              </p:spPr>
              <p:style>
                <a:lnRef idx="0"/>
                <a:fillRef idx="0"/>
                <a:effectRef idx="0"/>
                <a:fontRef idx="minor"/>
              </p:style>
              <p:txBody>
                <a:bodyPr lIns="90000" rIns="90000" tIns="-4680" bIns="-4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42"/>
                <p:cNvSpPr/>
                <p:nvPr/>
              </p:nvSpPr>
              <p:spPr>
                <a:xfrm flipH="1">
                  <a:off x="6903000" y="3712680"/>
                  <a:ext cx="234000" cy="9000"/>
                </a:xfrm>
                <a:prstGeom prst="rect">
                  <a:avLst/>
                </a:prstGeom>
                <a:solidFill>
                  <a:srgbClr val="7f99b2"/>
                </a:solidFill>
                <a:ln w="3240">
                  <a:solidFill>
                    <a:srgbClr val="000000"/>
                  </a:solidFill>
                  <a:miter/>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543"/>
                <p:cNvSpPr/>
                <p:nvPr/>
              </p:nvSpPr>
              <p:spPr>
                <a:xfrm flipH="1">
                  <a:off x="6980400" y="3764160"/>
                  <a:ext cx="69120" cy="89640"/>
                </a:xfrm>
                <a:prstGeom prst="rect">
                  <a:avLst/>
                </a:prstGeom>
                <a:solidFill>
                  <a:srgbClr val="7f99b2"/>
                </a:solidFill>
                <a:ln w="3240">
                  <a:solidFill>
                    <a:srgbClr val="000000"/>
                  </a:solidFill>
                  <a:miter/>
                </a:ln>
              </p:spPr>
              <p:style>
                <a:lnRef idx="0"/>
                <a:fillRef idx="0"/>
                <a:effectRef idx="0"/>
                <a:fontRef idx="minor"/>
              </p:style>
              <p:txBody>
                <a:bodyPr lIns="90000" rIns="90000" tIns="42840" bIns="42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544"/>
                <p:cNvSpPr/>
                <p:nvPr/>
              </p:nvSpPr>
              <p:spPr>
                <a:xfrm flipH="1">
                  <a:off x="7007040" y="3747960"/>
                  <a:ext cx="13680" cy="8280"/>
                </a:xfrm>
                <a:custGeom>
                  <a:avLst/>
                  <a:gdLst>
                    <a:gd name="textAreaLeft" fmla="*/ 360 w 13680"/>
                    <a:gd name="textAreaRight" fmla="*/ 14400 w 13680"/>
                    <a:gd name="textAreaTop" fmla="*/ 0 h 8280"/>
                    <a:gd name="textAreaBottom" fmla="*/ 8640 h 82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85" name="Rectangle 545"/>
                <p:cNvSpPr/>
                <p:nvPr/>
              </p:nvSpPr>
              <p:spPr>
                <a:xfrm flipH="1">
                  <a:off x="6914880" y="3692880"/>
                  <a:ext cx="109440" cy="19800"/>
                </a:xfrm>
                <a:prstGeom prst="rect">
                  <a:avLst/>
                </a:prstGeom>
                <a:solidFill>
                  <a:srgbClr val="d6c6c9"/>
                </a:solidFill>
                <a:ln w="3240">
                  <a:solidFill>
                    <a:srgbClr val="000000"/>
                  </a:solidFill>
                  <a:miter/>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546"/>
                <p:cNvSpPr/>
                <p:nvPr/>
              </p:nvSpPr>
              <p:spPr>
                <a:xfrm flipH="1">
                  <a:off x="6929280" y="3630240"/>
                  <a:ext cx="110880" cy="62640"/>
                </a:xfrm>
                <a:custGeom>
                  <a:avLst/>
                  <a:gdLst>
                    <a:gd name="textAreaLeft" fmla="*/ 360 w 110880"/>
                    <a:gd name="textAreaRight" fmla="*/ 111600 w 110880"/>
                    <a:gd name="textAreaTop" fmla="*/ 0 h 62640"/>
                    <a:gd name="textAreaBottom" fmla="*/ 63000 h 6264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324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87" name="Freeform 547"/>
                <p:cNvSpPr/>
                <p:nvPr/>
              </p:nvSpPr>
              <p:spPr>
                <a:xfrm flipH="1">
                  <a:off x="7024680" y="3692880"/>
                  <a:ext cx="39600" cy="19800"/>
                </a:xfrm>
                <a:custGeom>
                  <a:avLst/>
                  <a:gdLst>
                    <a:gd name="textAreaLeft" fmla="*/ 360 w 39600"/>
                    <a:gd name="textAreaRight" fmla="*/ 40320 w 39600"/>
                    <a:gd name="textAreaTop" fmla="*/ 0 h 19800"/>
                    <a:gd name="textAreaBottom" fmla="*/ 20160 h 1980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88" name="Freeform 548"/>
                <p:cNvSpPr/>
                <p:nvPr/>
              </p:nvSpPr>
              <p:spPr>
                <a:xfrm flipH="1">
                  <a:off x="6953760" y="3630240"/>
                  <a:ext cx="34920" cy="54720"/>
                </a:xfrm>
                <a:custGeom>
                  <a:avLst/>
                  <a:gdLst>
                    <a:gd name="textAreaLeft" fmla="*/ -360 w 34920"/>
                    <a:gd name="textAreaRight" fmla="*/ 34920 w 34920"/>
                    <a:gd name="textAreaTop" fmla="*/ 0 h 54720"/>
                    <a:gd name="textAreaBottom" fmla="*/ 55080 h 547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32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9" name="Freeform 549"/>
                <p:cNvSpPr/>
                <p:nvPr/>
              </p:nvSpPr>
              <p:spPr>
                <a:xfrm flipH="1">
                  <a:off x="7119000" y="3709440"/>
                  <a:ext cx="15840" cy="3240"/>
                </a:xfrm>
                <a:custGeom>
                  <a:avLst/>
                  <a:gdLst>
                    <a:gd name="textAreaLeft" fmla="*/ 360 w 15840"/>
                    <a:gd name="textAreaRight" fmla="*/ 16560 w 15840"/>
                    <a:gd name="textAreaTop" fmla="*/ 0 h 3240"/>
                    <a:gd name="textAreaBottom" fmla="*/ 3600 h 324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90" name="Freeform 550"/>
                <p:cNvSpPr/>
                <p:nvPr/>
              </p:nvSpPr>
              <p:spPr>
                <a:xfrm flipH="1">
                  <a:off x="7035840" y="3703320"/>
                  <a:ext cx="82800" cy="9360"/>
                </a:xfrm>
                <a:custGeom>
                  <a:avLst/>
                  <a:gdLst>
                    <a:gd name="textAreaLeft" fmla="*/ 0 w 82800"/>
                    <a:gd name="textAreaRight" fmla="*/ 82800 w 82800"/>
                    <a:gd name="textAreaTop" fmla="*/ 0 h 9360"/>
                    <a:gd name="textAreaBottom" fmla="*/ 9720 h 93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32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91" name="Freeform 551"/>
                <p:cNvSpPr/>
                <p:nvPr/>
              </p:nvSpPr>
              <p:spPr>
                <a:xfrm flipH="1">
                  <a:off x="6942600" y="3688560"/>
                  <a:ext cx="89640" cy="4320"/>
                </a:xfrm>
                <a:custGeom>
                  <a:avLst/>
                  <a:gdLst>
                    <a:gd name="textAreaLeft" fmla="*/ -360 w 89640"/>
                    <a:gd name="textAreaRight" fmla="*/ 89640 w 89640"/>
                    <a:gd name="textAreaTop" fmla="*/ 0 h 4320"/>
                    <a:gd name="textAreaBottom" fmla="*/ 4680 h 432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92" name="Freeform 552"/>
                <p:cNvSpPr/>
                <p:nvPr/>
              </p:nvSpPr>
              <p:spPr>
                <a:xfrm flipH="1">
                  <a:off x="6993000" y="3635640"/>
                  <a:ext cx="40320" cy="47160"/>
                </a:xfrm>
                <a:custGeom>
                  <a:avLst/>
                  <a:gdLst>
                    <a:gd name="textAreaLeft" fmla="*/ 360 w 40320"/>
                    <a:gd name="textAreaRight" fmla="*/ 41040 w 40320"/>
                    <a:gd name="textAreaTop" fmla="*/ 0 h 47160"/>
                    <a:gd name="textAreaBottom" fmla="*/ 47520 h 4716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3" name="Freeform 553"/>
                <p:cNvSpPr/>
                <p:nvPr/>
              </p:nvSpPr>
              <p:spPr>
                <a:xfrm flipH="1">
                  <a:off x="6993000" y="3636720"/>
                  <a:ext cx="38160" cy="45720"/>
                </a:xfrm>
                <a:custGeom>
                  <a:avLst/>
                  <a:gdLst>
                    <a:gd name="textAreaLeft" fmla="*/ 0 w 38160"/>
                    <a:gd name="textAreaRight" fmla="*/ 38160 w 38160"/>
                    <a:gd name="textAreaTop" fmla="*/ 0 h 45720"/>
                    <a:gd name="textAreaBottom" fmla="*/ 46080 h 4572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594" name="Text Box 554"/>
              <p:cNvSpPr/>
              <p:nvPr/>
            </p:nvSpPr>
            <p:spPr>
              <a:xfrm flipH="1">
                <a:off x="6395040" y="3911760"/>
                <a:ext cx="163440" cy="26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5" name="Group 555"/>
            <p:cNvGrpSpPr/>
            <p:nvPr/>
          </p:nvGrpSpPr>
          <p:grpSpPr>
            <a:xfrm>
              <a:off x="6594120" y="2814480"/>
              <a:ext cx="1493640" cy="617760"/>
              <a:chOff x="6594120" y="2814480"/>
              <a:chExt cx="1493640" cy="617760"/>
            </a:xfrm>
          </p:grpSpPr>
          <p:sp>
            <p:nvSpPr>
              <p:cNvPr id="596" name="Oval 556"/>
              <p:cNvSpPr/>
              <p:nvPr/>
            </p:nvSpPr>
            <p:spPr>
              <a:xfrm flipH="1">
                <a:off x="6593760" y="281448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597" name="Group 557"/>
              <p:cNvGrpSpPr/>
              <p:nvPr/>
            </p:nvGrpSpPr>
            <p:grpSpPr>
              <a:xfrm>
                <a:off x="7338240" y="2836440"/>
                <a:ext cx="391320" cy="277200"/>
                <a:chOff x="7338240" y="2836440"/>
                <a:chExt cx="391320" cy="277200"/>
              </a:xfrm>
            </p:grpSpPr>
            <p:sp>
              <p:nvSpPr>
                <p:cNvPr id="598" name="Rectangle 558"/>
                <p:cNvSpPr/>
                <p:nvPr/>
              </p:nvSpPr>
              <p:spPr>
                <a:xfrm flipH="1">
                  <a:off x="7641720" y="3039120"/>
                  <a:ext cx="5040" cy="17280"/>
                </a:xfrm>
                <a:prstGeom prst="rect">
                  <a:avLst/>
                </a:prstGeom>
                <a:solidFill>
                  <a:srgbClr val="b2c1d1"/>
                </a:solidFill>
                <a:ln w="3240">
                  <a:solidFill>
                    <a:srgbClr val="000000"/>
                  </a:solidFill>
                  <a:miter/>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559"/>
                <p:cNvSpPr/>
                <p:nvPr/>
              </p:nvSpPr>
              <p:spPr>
                <a:xfrm flipH="1">
                  <a:off x="7618680" y="2943720"/>
                  <a:ext cx="110880" cy="82080"/>
                </a:xfrm>
                <a:custGeom>
                  <a:avLst/>
                  <a:gdLst>
                    <a:gd name="textAreaLeft" fmla="*/ 360 w 110880"/>
                    <a:gd name="textAreaRight" fmla="*/ 111600 w 110880"/>
                    <a:gd name="textAreaTop" fmla="*/ 0 h 82080"/>
                    <a:gd name="textAreaBottom" fmla="*/ 82440 h 820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0" name="Freeform 560"/>
                <p:cNvSpPr/>
                <p:nvPr/>
              </p:nvSpPr>
              <p:spPr>
                <a:xfrm flipH="1">
                  <a:off x="7589520" y="3016440"/>
                  <a:ext cx="116280" cy="2160"/>
                </a:xfrm>
                <a:custGeom>
                  <a:avLst/>
                  <a:gdLst>
                    <a:gd name="textAreaLeft" fmla="*/ -360 w 116280"/>
                    <a:gd name="textAreaRight" fmla="*/ 116280 w 116280"/>
                    <a:gd name="textAreaTop" fmla="*/ 0 h 2160"/>
                    <a:gd name="textAreaBottom" fmla="*/ 2520 h 216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1" name="Freeform 561"/>
                <p:cNvSpPr/>
                <p:nvPr/>
              </p:nvSpPr>
              <p:spPr>
                <a:xfrm flipH="1">
                  <a:off x="7697160" y="2921040"/>
                  <a:ext cx="15480" cy="50400"/>
                </a:xfrm>
                <a:custGeom>
                  <a:avLst/>
                  <a:gdLst>
                    <a:gd name="textAreaLeft" fmla="*/ -360 w 15480"/>
                    <a:gd name="textAreaRight" fmla="*/ 15480 w 15480"/>
                    <a:gd name="textAreaTop" fmla="*/ 0 h 50400"/>
                    <a:gd name="textAreaBottom" fmla="*/ 50760 h 5040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32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2" name="Freeform 562"/>
                <p:cNvSpPr/>
                <p:nvPr/>
              </p:nvSpPr>
              <p:spPr>
                <a:xfrm flipH="1">
                  <a:off x="7585560" y="3002400"/>
                  <a:ext cx="124920" cy="13680"/>
                </a:xfrm>
                <a:custGeom>
                  <a:avLst/>
                  <a:gdLst>
                    <a:gd name="textAreaLeft" fmla="*/ -360 w 124920"/>
                    <a:gd name="textAreaRight" fmla="*/ 124920 w 124920"/>
                    <a:gd name="textAreaTop" fmla="*/ 0 h 13680"/>
                    <a:gd name="textAreaBottom" fmla="*/ 14040 h 136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3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3" name="Freeform 563"/>
                <p:cNvSpPr/>
                <p:nvPr/>
              </p:nvSpPr>
              <p:spPr>
                <a:xfrm flipH="1">
                  <a:off x="7560360" y="3054600"/>
                  <a:ext cx="167400" cy="43200"/>
                </a:xfrm>
                <a:custGeom>
                  <a:avLst/>
                  <a:gdLst>
                    <a:gd name="textAreaLeft" fmla="*/ -360 w 167400"/>
                    <a:gd name="textAreaRight" fmla="*/ 167400 w 167400"/>
                    <a:gd name="textAreaTop" fmla="*/ 0 h 43200"/>
                    <a:gd name="textAreaBottom" fmla="*/ 43560 h 43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04" name="Freeform 564"/>
                <p:cNvSpPr/>
                <p:nvPr/>
              </p:nvSpPr>
              <p:spPr>
                <a:xfrm flipH="1">
                  <a:off x="7637400" y="3026160"/>
                  <a:ext cx="14400" cy="16920"/>
                </a:xfrm>
                <a:custGeom>
                  <a:avLst/>
                  <a:gdLst>
                    <a:gd name="textAreaLeft" fmla="*/ 360 w 14400"/>
                    <a:gd name="textAreaRight" fmla="*/ 15120 w 14400"/>
                    <a:gd name="textAreaTop" fmla="*/ 0 h 16920"/>
                    <a:gd name="textAreaBottom" fmla="*/ 17280 h 169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5" name="Freeform 565"/>
                <p:cNvSpPr/>
                <p:nvPr/>
              </p:nvSpPr>
              <p:spPr>
                <a:xfrm flipH="1">
                  <a:off x="7648560" y="3029760"/>
                  <a:ext cx="30600" cy="14760"/>
                </a:xfrm>
                <a:custGeom>
                  <a:avLst/>
                  <a:gdLst>
                    <a:gd name="textAreaLeft" fmla="*/ -360 w 30600"/>
                    <a:gd name="textAreaRight" fmla="*/ 30600 w 30600"/>
                    <a:gd name="textAreaTop" fmla="*/ 0 h 14760"/>
                    <a:gd name="textAreaBottom" fmla="*/ 15120 h 1476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06" name="Freeform 566"/>
                <p:cNvSpPr/>
                <p:nvPr/>
              </p:nvSpPr>
              <p:spPr>
                <a:xfrm flipH="1">
                  <a:off x="7539840" y="2947320"/>
                  <a:ext cx="54360" cy="10800"/>
                </a:xfrm>
                <a:custGeom>
                  <a:avLst/>
                  <a:gdLst>
                    <a:gd name="textAreaLeft" fmla="*/ -360 w 54360"/>
                    <a:gd name="textAreaRight" fmla="*/ 54360 w 54360"/>
                    <a:gd name="textAreaTop" fmla="*/ 0 h 10800"/>
                    <a:gd name="textAreaBottom" fmla="*/ 11160 h 1080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7" name="Freeform 567"/>
                <p:cNvSpPr/>
                <p:nvPr/>
              </p:nvSpPr>
              <p:spPr>
                <a:xfrm flipH="1">
                  <a:off x="7585560" y="295200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08" name="Freeform 568"/>
                <p:cNvSpPr/>
                <p:nvPr/>
              </p:nvSpPr>
              <p:spPr>
                <a:xfrm flipH="1">
                  <a:off x="7584120" y="2890080"/>
                  <a:ext cx="94680" cy="66240"/>
                </a:xfrm>
                <a:custGeom>
                  <a:avLst/>
                  <a:gdLst>
                    <a:gd name="textAreaLeft" fmla="*/ -360 w 94680"/>
                    <a:gd name="textAreaRight" fmla="*/ 94680 w 94680"/>
                    <a:gd name="textAreaTop" fmla="*/ 0 h 66240"/>
                    <a:gd name="textAreaBottom" fmla="*/ 66600 h 66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09" name="Freeform 569"/>
                <p:cNvSpPr/>
                <p:nvPr/>
              </p:nvSpPr>
              <p:spPr>
                <a:xfrm flipH="1">
                  <a:off x="7585920" y="29520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10" name="Freeform 570"/>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1" name="Freeform 571"/>
                <p:cNvSpPr/>
                <p:nvPr/>
              </p:nvSpPr>
              <p:spPr>
                <a:xfrm flipH="1">
                  <a:off x="7598880" y="2889000"/>
                  <a:ext cx="71280" cy="43200"/>
                </a:xfrm>
                <a:custGeom>
                  <a:avLst/>
                  <a:gdLst>
                    <a:gd name="textAreaLeft" fmla="*/ 360 w 71280"/>
                    <a:gd name="textAreaRight" fmla="*/ 72000 w 71280"/>
                    <a:gd name="textAreaTop" fmla="*/ 0 h 43200"/>
                    <a:gd name="textAreaBottom" fmla="*/ 43560 h 43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12" name="Freeform 572"/>
                <p:cNvSpPr/>
                <p:nvPr/>
              </p:nvSpPr>
              <p:spPr>
                <a:xfrm flipH="1">
                  <a:off x="7530840" y="2975040"/>
                  <a:ext cx="154440" cy="110880"/>
                </a:xfrm>
                <a:custGeom>
                  <a:avLst/>
                  <a:gdLst>
                    <a:gd name="textAreaLeft" fmla="*/ -360 w 154440"/>
                    <a:gd name="textAreaRight" fmla="*/ 154440 w 154440"/>
                    <a:gd name="textAreaTop" fmla="*/ 0 h 110880"/>
                    <a:gd name="textAreaBottom" fmla="*/ 111240 h 11088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Freeform 573"/>
                <p:cNvSpPr/>
                <p:nvPr/>
              </p:nvSpPr>
              <p:spPr>
                <a:xfrm flipH="1">
                  <a:off x="7578360" y="30736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4" name="Freeform 574"/>
                <p:cNvSpPr/>
                <p:nvPr/>
              </p:nvSpPr>
              <p:spPr>
                <a:xfrm flipH="1">
                  <a:off x="7666560" y="2990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5" name="Freeform 575"/>
                <p:cNvSpPr/>
                <p:nvPr/>
              </p:nvSpPr>
              <p:spPr>
                <a:xfrm flipH="1">
                  <a:off x="7531200" y="3071160"/>
                  <a:ext cx="63000" cy="20520"/>
                </a:xfrm>
                <a:custGeom>
                  <a:avLst/>
                  <a:gdLst>
                    <a:gd name="textAreaLeft" fmla="*/ -360 w 63000"/>
                    <a:gd name="textAreaRight" fmla="*/ 63000 w 63000"/>
                    <a:gd name="textAreaTop" fmla="*/ 0 h 20520"/>
                    <a:gd name="textAreaBottom" fmla="*/ 20880 h 2052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32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6" name="Freeform 576"/>
                <p:cNvSpPr/>
                <p:nvPr/>
              </p:nvSpPr>
              <p:spPr>
                <a:xfrm flipH="1">
                  <a:off x="7578360" y="30736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7" name="Freeform 577"/>
                <p:cNvSpPr/>
                <p:nvPr/>
              </p:nvSpPr>
              <p:spPr>
                <a:xfrm flipH="1">
                  <a:off x="7529760" y="3075840"/>
                  <a:ext cx="66240" cy="16920"/>
                </a:xfrm>
                <a:custGeom>
                  <a:avLst/>
                  <a:gdLst>
                    <a:gd name="textAreaLeft" fmla="*/ 0 w 66240"/>
                    <a:gd name="textAreaRight" fmla="*/ 66240 w 66240"/>
                    <a:gd name="textAreaTop" fmla="*/ 0 h 16920"/>
                    <a:gd name="textAreaBottom" fmla="*/ 17280 h 169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8" name="Freeform 578"/>
                <p:cNvSpPr/>
                <p:nvPr/>
              </p:nvSpPr>
              <p:spPr>
                <a:xfrm flipH="1">
                  <a:off x="7529760" y="3089160"/>
                  <a:ext cx="66240" cy="4320"/>
                </a:xfrm>
                <a:custGeom>
                  <a:avLst/>
                  <a:gdLst>
                    <a:gd name="textAreaLeft" fmla="*/ 360 w 66240"/>
                    <a:gd name="textAreaRight" fmla="*/ 66960 w 66240"/>
                    <a:gd name="textAreaTop" fmla="*/ 0 h 4320"/>
                    <a:gd name="textAreaBottom" fmla="*/ 4680 h 432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9" name="Freeform 579"/>
                <p:cNvSpPr/>
                <p:nvPr/>
              </p:nvSpPr>
              <p:spPr>
                <a:xfrm flipH="1">
                  <a:off x="7527240" y="2973600"/>
                  <a:ext cx="161640" cy="111240"/>
                </a:xfrm>
                <a:custGeom>
                  <a:avLst/>
                  <a:gdLst>
                    <a:gd name="textAreaLeft" fmla="*/ -360 w 161640"/>
                    <a:gd name="textAreaRight" fmla="*/ 161640 w 161640"/>
                    <a:gd name="textAreaTop" fmla="*/ 0 h 111240"/>
                    <a:gd name="textAreaBottom" fmla="*/ 111600 h 11124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580"/>
                <p:cNvSpPr/>
                <p:nvPr/>
              </p:nvSpPr>
              <p:spPr>
                <a:xfrm flipH="1">
                  <a:off x="7533720" y="2976840"/>
                  <a:ext cx="151560" cy="117000"/>
                </a:xfrm>
                <a:custGeom>
                  <a:avLst/>
                  <a:gdLst>
                    <a:gd name="textAreaLeft" fmla="*/ -360 w 151560"/>
                    <a:gd name="textAreaRight" fmla="*/ 151560 w 151560"/>
                    <a:gd name="textAreaTop" fmla="*/ 0 h 117000"/>
                    <a:gd name="textAreaBottom" fmla="*/ 117360 h 11700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581"/>
                <p:cNvSpPr/>
                <p:nvPr/>
              </p:nvSpPr>
              <p:spPr>
                <a:xfrm flipH="1">
                  <a:off x="7601760" y="30816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2" name="Freeform 582"/>
                <p:cNvSpPr/>
                <p:nvPr/>
              </p:nvSpPr>
              <p:spPr>
                <a:xfrm flipH="1">
                  <a:off x="7666560" y="299052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3" name="Freeform 583"/>
                <p:cNvSpPr/>
                <p:nvPr/>
              </p:nvSpPr>
              <p:spPr>
                <a:xfrm flipH="1">
                  <a:off x="7556760" y="3078360"/>
                  <a:ext cx="63000" cy="23400"/>
                </a:xfrm>
                <a:custGeom>
                  <a:avLst/>
                  <a:gdLst>
                    <a:gd name="textAreaLeft" fmla="*/ -360 w 63000"/>
                    <a:gd name="textAreaRight" fmla="*/ 63000 w 63000"/>
                    <a:gd name="textAreaTop" fmla="*/ 0 h 23400"/>
                    <a:gd name="textAreaBottom" fmla="*/ 23760 h 2340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32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4" name="Freeform 584"/>
                <p:cNvSpPr/>
                <p:nvPr/>
              </p:nvSpPr>
              <p:spPr>
                <a:xfrm flipH="1">
                  <a:off x="7601760" y="308160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5" name="Freeform 585"/>
                <p:cNvSpPr/>
                <p:nvPr/>
              </p:nvSpPr>
              <p:spPr>
                <a:xfrm flipH="1">
                  <a:off x="7556040" y="3083040"/>
                  <a:ext cx="65880" cy="19800"/>
                </a:xfrm>
                <a:custGeom>
                  <a:avLst/>
                  <a:gdLst>
                    <a:gd name="textAreaLeft" fmla="*/ -360 w 65880"/>
                    <a:gd name="textAreaRight" fmla="*/ 65880 w 65880"/>
                    <a:gd name="textAreaTop" fmla="*/ 0 h 19800"/>
                    <a:gd name="textAreaBottom" fmla="*/ 20160 h 1980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26" name="Freeform 586"/>
                <p:cNvSpPr/>
                <p:nvPr/>
              </p:nvSpPr>
              <p:spPr>
                <a:xfrm flipH="1">
                  <a:off x="7556760" y="3096000"/>
                  <a:ext cx="65160" cy="7560"/>
                </a:xfrm>
                <a:custGeom>
                  <a:avLst/>
                  <a:gdLst>
                    <a:gd name="textAreaLeft" fmla="*/ -360 w 65160"/>
                    <a:gd name="textAreaRight" fmla="*/ 65160 w 65160"/>
                    <a:gd name="textAreaTop" fmla="*/ 0 h 7560"/>
                    <a:gd name="textAreaBottom" fmla="*/ 7920 h 756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27" name="Freeform 587"/>
                <p:cNvSpPr/>
                <p:nvPr/>
              </p:nvSpPr>
              <p:spPr>
                <a:xfrm flipH="1">
                  <a:off x="7531560" y="2975040"/>
                  <a:ext cx="156600" cy="115920"/>
                </a:xfrm>
                <a:custGeom>
                  <a:avLst/>
                  <a:gdLst>
                    <a:gd name="textAreaLeft" fmla="*/ -360 w 156600"/>
                    <a:gd name="textAreaRight" fmla="*/ 156600 w 156600"/>
                    <a:gd name="textAreaTop" fmla="*/ 0 h 115920"/>
                    <a:gd name="textAreaBottom" fmla="*/ 116280 h 11592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588"/>
                <p:cNvSpPr/>
                <p:nvPr/>
              </p:nvSpPr>
              <p:spPr>
                <a:xfrm flipH="1">
                  <a:off x="7548840" y="2838240"/>
                  <a:ext cx="72000" cy="52920"/>
                </a:xfrm>
                <a:custGeom>
                  <a:avLst/>
                  <a:gdLst>
                    <a:gd name="textAreaLeft" fmla="*/ 0 w 72000"/>
                    <a:gd name="textAreaRight" fmla="*/ 72000 w 72000"/>
                    <a:gd name="textAreaTop" fmla="*/ 0 h 52920"/>
                    <a:gd name="textAreaBottom" fmla="*/ 53280 h 5292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324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29" name="Freeform 589"/>
                <p:cNvSpPr/>
                <p:nvPr/>
              </p:nvSpPr>
              <p:spPr>
                <a:xfrm flipH="1">
                  <a:off x="7605000" y="2882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0" name="Freeform 590"/>
                <p:cNvSpPr/>
                <p:nvPr/>
              </p:nvSpPr>
              <p:spPr>
                <a:xfrm flipH="1">
                  <a:off x="7588080" y="284868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1" name="Freeform 591"/>
                <p:cNvSpPr/>
                <p:nvPr/>
              </p:nvSpPr>
              <p:spPr>
                <a:xfrm flipH="1">
                  <a:off x="7566480" y="2875320"/>
                  <a:ext cx="6480" cy="3240"/>
                </a:xfrm>
                <a:custGeom>
                  <a:avLst/>
                  <a:gdLst>
                    <a:gd name="textAreaLeft" fmla="*/ 360 w 6480"/>
                    <a:gd name="textAreaRight" fmla="*/ 7200 w 6480"/>
                    <a:gd name="textAreaTop" fmla="*/ 0 h 3240"/>
                    <a:gd name="textAreaBottom" fmla="*/ 3600 h 324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32" name="Freeform 592"/>
                <p:cNvSpPr/>
                <p:nvPr/>
              </p:nvSpPr>
              <p:spPr>
                <a:xfrm flipH="1">
                  <a:off x="7554960" y="2862360"/>
                  <a:ext cx="10800" cy="2520"/>
                </a:xfrm>
                <a:custGeom>
                  <a:avLst/>
                  <a:gdLst>
                    <a:gd name="textAreaLeft" fmla="*/ 360 w 10800"/>
                    <a:gd name="textAreaRight" fmla="*/ 11520 w 10800"/>
                    <a:gd name="textAreaTop" fmla="*/ 0 h 2520"/>
                    <a:gd name="textAreaBottom" fmla="*/ 2880 h 252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33" name="Freeform 593"/>
                <p:cNvSpPr/>
                <p:nvPr/>
              </p:nvSpPr>
              <p:spPr>
                <a:xfrm flipH="1">
                  <a:off x="7559280" y="286524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34" name="Freeform 594"/>
                <p:cNvSpPr/>
                <p:nvPr/>
              </p:nvSpPr>
              <p:spPr>
                <a:xfrm flipH="1">
                  <a:off x="7540920" y="2836440"/>
                  <a:ext cx="71280" cy="32400"/>
                </a:xfrm>
                <a:custGeom>
                  <a:avLst/>
                  <a:gdLst>
                    <a:gd name="textAreaLeft" fmla="*/ 0 w 71280"/>
                    <a:gd name="textAreaRight" fmla="*/ 71280 w 71280"/>
                    <a:gd name="textAreaTop" fmla="*/ 0 h 32400"/>
                    <a:gd name="textAreaBottom" fmla="*/ 32760 h 3240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324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35" name="Freeform 595"/>
                <p:cNvSpPr/>
                <p:nvPr/>
              </p:nvSpPr>
              <p:spPr>
                <a:xfrm flipH="1">
                  <a:off x="7588080" y="284868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6" name="Freeform 596"/>
                <p:cNvSpPr/>
                <p:nvPr/>
              </p:nvSpPr>
              <p:spPr>
                <a:xfrm flipH="1">
                  <a:off x="7593120" y="2880000"/>
                  <a:ext cx="110880" cy="126360"/>
                </a:xfrm>
                <a:custGeom>
                  <a:avLst/>
                  <a:gdLst>
                    <a:gd name="textAreaLeft" fmla="*/ 360 w 110880"/>
                    <a:gd name="textAreaRight" fmla="*/ 111600 w 110880"/>
                    <a:gd name="textAreaTop" fmla="*/ 0 h 126360"/>
                    <a:gd name="textAreaBottom" fmla="*/ 126720 h 12636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597"/>
                <p:cNvSpPr/>
                <p:nvPr/>
              </p:nvSpPr>
              <p:spPr>
                <a:xfrm flipH="1">
                  <a:off x="7605000" y="2882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8" name="Freeform 598"/>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9" name="Freeform 599"/>
                <p:cNvSpPr/>
                <p:nvPr/>
              </p:nvSpPr>
              <p:spPr>
                <a:xfrm flipH="1">
                  <a:off x="7666560" y="2990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0" name="Freeform 600"/>
                <p:cNvSpPr/>
                <p:nvPr/>
              </p:nvSpPr>
              <p:spPr>
                <a:xfrm flipH="1">
                  <a:off x="7615440" y="2947320"/>
                  <a:ext cx="91080" cy="62280"/>
                </a:xfrm>
                <a:custGeom>
                  <a:avLst/>
                  <a:gdLst>
                    <a:gd name="textAreaLeft" fmla="*/ -360 w 91080"/>
                    <a:gd name="textAreaRight" fmla="*/ 91080 w 91080"/>
                    <a:gd name="textAreaTop" fmla="*/ 0 h 62280"/>
                    <a:gd name="textAreaBottom" fmla="*/ 62640 h 6228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324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41" name="Freeform 601"/>
                <p:cNvSpPr/>
                <p:nvPr/>
              </p:nvSpPr>
              <p:spPr>
                <a:xfrm flipH="1">
                  <a:off x="7588440" y="2870280"/>
                  <a:ext cx="88200" cy="90720"/>
                </a:xfrm>
                <a:custGeom>
                  <a:avLst/>
                  <a:gdLst>
                    <a:gd name="textAreaLeft" fmla="*/ 0 w 88200"/>
                    <a:gd name="textAreaRight" fmla="*/ 88200 w 88200"/>
                    <a:gd name="textAreaTop" fmla="*/ 0 h 90720"/>
                    <a:gd name="textAreaBottom" fmla="*/ 91080 h 9072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42" name="Freeform 602"/>
                <p:cNvSpPr/>
                <p:nvPr/>
              </p:nvSpPr>
              <p:spPr>
                <a:xfrm flipH="1">
                  <a:off x="7648560" y="2948760"/>
                  <a:ext cx="23400" cy="6840"/>
                </a:xfrm>
                <a:custGeom>
                  <a:avLst/>
                  <a:gdLst>
                    <a:gd name="textAreaLeft" fmla="*/ -360 w 23400"/>
                    <a:gd name="textAreaRight" fmla="*/ 23400 w 23400"/>
                    <a:gd name="textAreaTop" fmla="*/ 0 h 6840"/>
                    <a:gd name="textAreaBottom" fmla="*/ 7200 h 684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43" name="Freeform 603"/>
                <p:cNvSpPr/>
                <p:nvPr/>
              </p:nvSpPr>
              <p:spPr>
                <a:xfrm flipH="1">
                  <a:off x="7616520" y="2959560"/>
                  <a:ext cx="10080" cy="3600"/>
                </a:xfrm>
                <a:custGeom>
                  <a:avLst/>
                  <a:gdLst>
                    <a:gd name="textAreaLeft" fmla="*/ 360 w 10080"/>
                    <a:gd name="textAreaRight" fmla="*/ 10800 w 10080"/>
                    <a:gd name="textAreaTop" fmla="*/ 0 h 3600"/>
                    <a:gd name="textAreaBottom" fmla="*/ 3960 h 360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324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44" name="Freeform 604"/>
                <p:cNvSpPr/>
                <p:nvPr/>
              </p:nvSpPr>
              <p:spPr>
                <a:xfrm flipH="1">
                  <a:off x="7630200" y="2954160"/>
                  <a:ext cx="15840" cy="6120"/>
                </a:xfrm>
                <a:custGeom>
                  <a:avLst/>
                  <a:gdLst>
                    <a:gd name="textAreaLeft" fmla="*/ 360 w 15840"/>
                    <a:gd name="textAreaRight" fmla="*/ 16560 w 15840"/>
                    <a:gd name="textAreaTop" fmla="*/ 0 h 6120"/>
                    <a:gd name="textAreaBottom" fmla="*/ 6480 h 612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45" name="Freeform 605"/>
                <p:cNvSpPr/>
                <p:nvPr/>
              </p:nvSpPr>
              <p:spPr>
                <a:xfrm flipH="1">
                  <a:off x="7504200" y="2952000"/>
                  <a:ext cx="54360" cy="11520"/>
                </a:xfrm>
                <a:custGeom>
                  <a:avLst/>
                  <a:gdLst>
                    <a:gd name="textAreaLeft" fmla="*/ -360 w 54360"/>
                    <a:gd name="textAreaRight" fmla="*/ 54360 w 54360"/>
                    <a:gd name="textAreaTop" fmla="*/ 0 h 11520"/>
                    <a:gd name="textAreaBottom" fmla="*/ 11880 h 1152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46" name="Freeform 606"/>
                <p:cNvSpPr/>
                <p:nvPr/>
              </p:nvSpPr>
              <p:spPr>
                <a:xfrm flipH="1">
                  <a:off x="7550280" y="29581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7" name="Freeform 607"/>
                <p:cNvSpPr/>
                <p:nvPr/>
              </p:nvSpPr>
              <p:spPr>
                <a:xfrm flipH="1">
                  <a:off x="7549560" y="2888280"/>
                  <a:ext cx="99000" cy="74880"/>
                </a:xfrm>
                <a:custGeom>
                  <a:avLst/>
                  <a:gdLst>
                    <a:gd name="textAreaLeft" fmla="*/ -360 w 99000"/>
                    <a:gd name="textAreaRight" fmla="*/ 99000 w 99000"/>
                    <a:gd name="textAreaTop" fmla="*/ 0 h 74880"/>
                    <a:gd name="textAreaBottom" fmla="*/ 74880 h 7488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8" name="Freeform 608"/>
                <p:cNvSpPr/>
                <p:nvPr/>
              </p:nvSpPr>
              <p:spPr>
                <a:xfrm flipH="1">
                  <a:off x="7550280" y="29581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9" name="Freeform 609"/>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0" name="Freeform 610"/>
                <p:cNvSpPr/>
                <p:nvPr/>
              </p:nvSpPr>
              <p:spPr>
                <a:xfrm flipH="1">
                  <a:off x="7598520" y="2887560"/>
                  <a:ext cx="47880" cy="45360"/>
                </a:xfrm>
                <a:custGeom>
                  <a:avLst/>
                  <a:gdLst>
                    <a:gd name="textAreaLeft" fmla="*/ -360 w 47880"/>
                    <a:gd name="textAreaRight" fmla="*/ 47880 w 47880"/>
                    <a:gd name="textAreaTop" fmla="*/ 0 h 45360"/>
                    <a:gd name="textAreaBottom" fmla="*/ 45720 h 4536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32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51" name="Freeform 611"/>
                <p:cNvSpPr/>
                <p:nvPr/>
              </p:nvSpPr>
              <p:spPr>
                <a:xfrm flipH="1">
                  <a:off x="7345080" y="3095280"/>
                  <a:ext cx="209520" cy="18360"/>
                </a:xfrm>
                <a:custGeom>
                  <a:avLst/>
                  <a:gdLst>
                    <a:gd name="textAreaLeft" fmla="*/ 360 w 209520"/>
                    <a:gd name="textAreaRight" fmla="*/ 210240 w 209520"/>
                    <a:gd name="textAreaTop" fmla="*/ 0 h 18360"/>
                    <a:gd name="textAreaBottom" fmla="*/ 18720 h 1836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52" name="Rectangle 612"/>
                <p:cNvSpPr/>
                <p:nvPr/>
              </p:nvSpPr>
              <p:spPr>
                <a:xfrm flipH="1">
                  <a:off x="7350120" y="2975400"/>
                  <a:ext cx="198360" cy="42120"/>
                </a:xfrm>
                <a:prstGeom prst="rect">
                  <a:avLst/>
                </a:prstGeom>
                <a:solidFill>
                  <a:srgbClr val="b2c1d1"/>
                </a:solidFill>
                <a:ln w="3240">
                  <a:solidFill>
                    <a:srgbClr val="000000"/>
                  </a:solidFill>
                  <a:miter/>
                </a:ln>
              </p:spPr>
              <p:style>
                <a:lnRef idx="0"/>
                <a:fillRef idx="0"/>
                <a:effectRef idx="0"/>
                <a:fontRef idx="minor"/>
              </p:style>
              <p:txBody>
                <a:bodyPr lIns="90000" rIns="90000" tIns="-4680" bIns="-4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613"/>
                <p:cNvSpPr/>
                <p:nvPr/>
              </p:nvSpPr>
              <p:spPr>
                <a:xfrm flipH="1">
                  <a:off x="7338240" y="2966400"/>
                  <a:ext cx="234000" cy="9000"/>
                </a:xfrm>
                <a:prstGeom prst="rect">
                  <a:avLst/>
                </a:prstGeom>
                <a:solidFill>
                  <a:srgbClr val="7f99b2"/>
                </a:solidFill>
                <a:ln w="3240">
                  <a:solidFill>
                    <a:srgbClr val="000000"/>
                  </a:solidFill>
                  <a:miter/>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614"/>
                <p:cNvSpPr/>
                <p:nvPr/>
              </p:nvSpPr>
              <p:spPr>
                <a:xfrm flipH="1">
                  <a:off x="7415640" y="3017880"/>
                  <a:ext cx="69120" cy="89640"/>
                </a:xfrm>
                <a:prstGeom prst="rect">
                  <a:avLst/>
                </a:prstGeom>
                <a:solidFill>
                  <a:srgbClr val="7f99b2"/>
                </a:solidFill>
                <a:ln w="3240">
                  <a:solidFill>
                    <a:srgbClr val="000000"/>
                  </a:solidFill>
                  <a:miter/>
                </a:ln>
              </p:spPr>
              <p:style>
                <a:lnRef idx="0"/>
                <a:fillRef idx="0"/>
                <a:effectRef idx="0"/>
                <a:fontRef idx="minor"/>
              </p:style>
              <p:txBody>
                <a:bodyPr lIns="90000" rIns="90000" tIns="42840" bIns="42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615"/>
                <p:cNvSpPr/>
                <p:nvPr/>
              </p:nvSpPr>
              <p:spPr>
                <a:xfrm flipH="1">
                  <a:off x="7442280" y="3001680"/>
                  <a:ext cx="13680" cy="8280"/>
                </a:xfrm>
                <a:custGeom>
                  <a:avLst/>
                  <a:gdLst>
                    <a:gd name="textAreaLeft" fmla="*/ 360 w 13680"/>
                    <a:gd name="textAreaRight" fmla="*/ 14400 w 13680"/>
                    <a:gd name="textAreaTop" fmla="*/ 0 h 8280"/>
                    <a:gd name="textAreaBottom" fmla="*/ 8640 h 82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56" name="Rectangle 616"/>
                <p:cNvSpPr/>
                <p:nvPr/>
              </p:nvSpPr>
              <p:spPr>
                <a:xfrm flipH="1">
                  <a:off x="7350120" y="2946600"/>
                  <a:ext cx="109440" cy="19800"/>
                </a:xfrm>
                <a:prstGeom prst="rect">
                  <a:avLst/>
                </a:prstGeom>
                <a:solidFill>
                  <a:srgbClr val="d6c6c9"/>
                </a:solidFill>
                <a:ln w="3240">
                  <a:solidFill>
                    <a:srgbClr val="000000"/>
                  </a:solidFill>
                  <a:miter/>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617"/>
                <p:cNvSpPr/>
                <p:nvPr/>
              </p:nvSpPr>
              <p:spPr>
                <a:xfrm flipH="1">
                  <a:off x="7364520" y="2883600"/>
                  <a:ext cx="110880" cy="62640"/>
                </a:xfrm>
                <a:custGeom>
                  <a:avLst/>
                  <a:gdLst>
                    <a:gd name="textAreaLeft" fmla="*/ 360 w 110880"/>
                    <a:gd name="textAreaRight" fmla="*/ 111600 w 110880"/>
                    <a:gd name="textAreaTop" fmla="*/ 0 h 62640"/>
                    <a:gd name="textAreaBottom" fmla="*/ 63000 h 6264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324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58" name="Freeform 618"/>
                <p:cNvSpPr/>
                <p:nvPr/>
              </p:nvSpPr>
              <p:spPr>
                <a:xfrm flipH="1">
                  <a:off x="7459920" y="2946600"/>
                  <a:ext cx="39600" cy="19800"/>
                </a:xfrm>
                <a:custGeom>
                  <a:avLst/>
                  <a:gdLst>
                    <a:gd name="textAreaLeft" fmla="*/ 360 w 39600"/>
                    <a:gd name="textAreaRight" fmla="*/ 40320 w 39600"/>
                    <a:gd name="textAreaTop" fmla="*/ 0 h 19800"/>
                    <a:gd name="textAreaBottom" fmla="*/ 20160 h 1980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59" name="Freeform 619"/>
                <p:cNvSpPr/>
                <p:nvPr/>
              </p:nvSpPr>
              <p:spPr>
                <a:xfrm flipH="1">
                  <a:off x="7389000" y="2883600"/>
                  <a:ext cx="34920" cy="55080"/>
                </a:xfrm>
                <a:custGeom>
                  <a:avLst/>
                  <a:gdLst>
                    <a:gd name="textAreaLeft" fmla="*/ -360 w 34920"/>
                    <a:gd name="textAreaRight" fmla="*/ 34920 w 34920"/>
                    <a:gd name="textAreaTop" fmla="*/ 0 h 55080"/>
                    <a:gd name="textAreaBottom" fmla="*/ 55440 h 5508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0" name="Freeform 620"/>
                <p:cNvSpPr/>
                <p:nvPr/>
              </p:nvSpPr>
              <p:spPr>
                <a:xfrm flipH="1">
                  <a:off x="7554240" y="2962800"/>
                  <a:ext cx="15840" cy="3240"/>
                </a:xfrm>
                <a:custGeom>
                  <a:avLst/>
                  <a:gdLst>
                    <a:gd name="textAreaLeft" fmla="*/ 360 w 15840"/>
                    <a:gd name="textAreaRight" fmla="*/ 16560 w 15840"/>
                    <a:gd name="textAreaTop" fmla="*/ 0 h 3240"/>
                    <a:gd name="textAreaBottom" fmla="*/ 3600 h 324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61" name="Freeform 621"/>
                <p:cNvSpPr/>
                <p:nvPr/>
              </p:nvSpPr>
              <p:spPr>
                <a:xfrm flipH="1">
                  <a:off x="7471080" y="2957040"/>
                  <a:ext cx="82800" cy="9360"/>
                </a:xfrm>
                <a:custGeom>
                  <a:avLst/>
                  <a:gdLst>
                    <a:gd name="textAreaLeft" fmla="*/ 0 w 82800"/>
                    <a:gd name="textAreaRight" fmla="*/ 82800 w 82800"/>
                    <a:gd name="textAreaTop" fmla="*/ 0 h 9360"/>
                    <a:gd name="textAreaBottom" fmla="*/ 9720 h 93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32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62" name="Freeform 622"/>
                <p:cNvSpPr/>
                <p:nvPr/>
              </p:nvSpPr>
              <p:spPr>
                <a:xfrm flipH="1">
                  <a:off x="7377840" y="2941920"/>
                  <a:ext cx="89640" cy="4320"/>
                </a:xfrm>
                <a:custGeom>
                  <a:avLst/>
                  <a:gdLst>
                    <a:gd name="textAreaLeft" fmla="*/ -360 w 89640"/>
                    <a:gd name="textAreaRight" fmla="*/ 89640 w 89640"/>
                    <a:gd name="textAreaTop" fmla="*/ 0 h 4320"/>
                    <a:gd name="textAreaBottom" fmla="*/ 4680 h 432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Freeform 623"/>
                <p:cNvSpPr/>
                <p:nvPr/>
              </p:nvSpPr>
              <p:spPr>
                <a:xfrm flipH="1">
                  <a:off x="7428240" y="2889000"/>
                  <a:ext cx="40320" cy="47160"/>
                </a:xfrm>
                <a:custGeom>
                  <a:avLst/>
                  <a:gdLst>
                    <a:gd name="textAreaLeft" fmla="*/ 360 w 40320"/>
                    <a:gd name="textAreaRight" fmla="*/ 41040 w 40320"/>
                    <a:gd name="textAreaTop" fmla="*/ 0 h 47160"/>
                    <a:gd name="textAreaBottom" fmla="*/ 47520 h 4716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64" name="Freeform 624"/>
                <p:cNvSpPr/>
                <p:nvPr/>
              </p:nvSpPr>
              <p:spPr>
                <a:xfrm flipH="1">
                  <a:off x="7428240" y="2890080"/>
                  <a:ext cx="38160" cy="46080"/>
                </a:xfrm>
                <a:custGeom>
                  <a:avLst/>
                  <a:gdLst>
                    <a:gd name="textAreaLeft" fmla="*/ 0 w 38160"/>
                    <a:gd name="textAreaRight" fmla="*/ 38160 w 38160"/>
                    <a:gd name="textAreaTop" fmla="*/ 0 h 46080"/>
                    <a:gd name="textAreaBottom" fmla="*/ 46440 h 4608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324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sp>
            <p:nvSpPr>
              <p:cNvPr id="665" name="Text Box 625"/>
              <p:cNvSpPr/>
              <p:nvPr/>
            </p:nvSpPr>
            <p:spPr>
              <a:xfrm flipH="1">
                <a:off x="6823800" y="3167280"/>
                <a:ext cx="162000" cy="26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6" name="Group 626"/>
            <p:cNvGrpSpPr/>
            <p:nvPr/>
          </p:nvGrpSpPr>
          <p:grpSpPr>
            <a:xfrm>
              <a:off x="1428480" y="3153600"/>
              <a:ext cx="1493640" cy="661680"/>
              <a:chOff x="1428480" y="3153600"/>
              <a:chExt cx="1493640" cy="661680"/>
            </a:xfrm>
          </p:grpSpPr>
          <p:sp>
            <p:nvSpPr>
              <p:cNvPr id="667" name="Oval 627"/>
              <p:cNvSpPr/>
              <p:nvPr/>
            </p:nvSpPr>
            <p:spPr>
              <a:xfrm flipH="1">
                <a:off x="1428120" y="315360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668" name="Group 628"/>
              <p:cNvGrpSpPr/>
              <p:nvPr/>
            </p:nvGrpSpPr>
            <p:grpSpPr>
              <a:xfrm>
                <a:off x="1784160" y="3185280"/>
                <a:ext cx="588240" cy="334440"/>
                <a:chOff x="1784160" y="3185280"/>
                <a:chExt cx="588240" cy="334440"/>
              </a:xfrm>
            </p:grpSpPr>
            <p:sp>
              <p:nvSpPr>
                <p:cNvPr id="669" name="Rectangle 629"/>
                <p:cNvSpPr/>
                <p:nvPr/>
              </p:nvSpPr>
              <p:spPr>
                <a:xfrm>
                  <a:off x="1909080" y="3429720"/>
                  <a:ext cx="7560" cy="21240"/>
                </a:xfrm>
                <a:prstGeom prst="rect">
                  <a:avLst/>
                </a:prstGeom>
                <a:solidFill>
                  <a:srgbClr val="b2c1d1"/>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630"/>
                <p:cNvSpPr/>
                <p:nvPr/>
              </p:nvSpPr>
              <p:spPr>
                <a:xfrm>
                  <a:off x="1784160" y="3314880"/>
                  <a:ext cx="167040" cy="99000"/>
                </a:xfrm>
                <a:custGeom>
                  <a:avLst/>
                  <a:gdLst>
                    <a:gd name="textAreaLeft" fmla="*/ 0 w 167040"/>
                    <a:gd name="textAreaRight" fmla="*/ 167400 w 167040"/>
                    <a:gd name="textAreaTop" fmla="*/ 0 h 99000"/>
                    <a:gd name="textAreaBottom" fmla="*/ 99360 h 9900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631"/>
                <p:cNvSpPr/>
                <p:nvPr/>
              </p:nvSpPr>
              <p:spPr>
                <a:xfrm>
                  <a:off x="1819440" y="3402720"/>
                  <a:ext cx="174600" cy="2520"/>
                </a:xfrm>
                <a:custGeom>
                  <a:avLst/>
                  <a:gdLst>
                    <a:gd name="textAreaLeft" fmla="*/ 0 w 174600"/>
                    <a:gd name="textAreaRight" fmla="*/ 174960 w 174600"/>
                    <a:gd name="textAreaTop" fmla="*/ 0 h 2520"/>
                    <a:gd name="textAreaBottom" fmla="*/ 2880 h 252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72" name="Freeform 632"/>
                <p:cNvSpPr/>
                <p:nvPr/>
              </p:nvSpPr>
              <p:spPr>
                <a:xfrm>
                  <a:off x="1809360" y="3287520"/>
                  <a:ext cx="23040" cy="60840"/>
                </a:xfrm>
                <a:custGeom>
                  <a:avLst/>
                  <a:gdLst>
                    <a:gd name="textAreaLeft" fmla="*/ 0 w 23040"/>
                    <a:gd name="textAreaRight" fmla="*/ 23400 w 23040"/>
                    <a:gd name="textAreaTop" fmla="*/ 0 h 60840"/>
                    <a:gd name="textAreaBottom" fmla="*/ 61200 h 6084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73" name="Freeform 633"/>
                <p:cNvSpPr/>
                <p:nvPr/>
              </p:nvSpPr>
              <p:spPr>
                <a:xfrm>
                  <a:off x="1812600" y="3385800"/>
                  <a:ext cx="187920" cy="16920"/>
                </a:xfrm>
                <a:custGeom>
                  <a:avLst/>
                  <a:gdLst>
                    <a:gd name="textAreaLeft" fmla="*/ 0 w 187920"/>
                    <a:gd name="textAreaRight" fmla="*/ 188280 w 187920"/>
                    <a:gd name="textAreaTop" fmla="*/ 0 h 16920"/>
                    <a:gd name="textAreaBottom" fmla="*/ 17280 h 1692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74" name="Freeform 634"/>
                <p:cNvSpPr/>
                <p:nvPr/>
              </p:nvSpPr>
              <p:spPr>
                <a:xfrm>
                  <a:off x="1786320" y="3448440"/>
                  <a:ext cx="252000" cy="52200"/>
                </a:xfrm>
                <a:custGeom>
                  <a:avLst/>
                  <a:gdLst>
                    <a:gd name="textAreaLeft" fmla="*/ 0 w 252000"/>
                    <a:gd name="textAreaRight" fmla="*/ 252360 w 252000"/>
                    <a:gd name="textAreaTop" fmla="*/ 0 h 52200"/>
                    <a:gd name="textAreaBottom" fmla="*/ 52560 h 52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75" name="Freeform 635"/>
                <p:cNvSpPr/>
                <p:nvPr/>
              </p:nvSpPr>
              <p:spPr>
                <a:xfrm>
                  <a:off x="1901160" y="3414240"/>
                  <a:ext cx="21960" cy="20520"/>
                </a:xfrm>
                <a:custGeom>
                  <a:avLst/>
                  <a:gdLst>
                    <a:gd name="textAreaLeft" fmla="*/ 0 w 21960"/>
                    <a:gd name="textAreaRight" fmla="*/ 21960 w 21960"/>
                    <a:gd name="textAreaTop" fmla="*/ 0 h 20520"/>
                    <a:gd name="textAreaBottom" fmla="*/ 20880 h 205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76" name="Freeform 636"/>
                <p:cNvSpPr/>
                <p:nvPr/>
              </p:nvSpPr>
              <p:spPr>
                <a:xfrm>
                  <a:off x="1859400" y="341856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77" name="Freeform 637"/>
                <p:cNvSpPr/>
                <p:nvPr/>
              </p:nvSpPr>
              <p:spPr>
                <a:xfrm>
                  <a:off x="1987560" y="3319200"/>
                  <a:ext cx="81720" cy="12960"/>
                </a:xfrm>
                <a:custGeom>
                  <a:avLst/>
                  <a:gdLst>
                    <a:gd name="textAreaLeft" fmla="*/ 0 w 81720"/>
                    <a:gd name="textAreaRight" fmla="*/ 82080 w 81720"/>
                    <a:gd name="textAreaTop" fmla="*/ 0 h 12960"/>
                    <a:gd name="textAreaBottom" fmla="*/ 13320 h 129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78" name="Freeform 638"/>
                <p:cNvSpPr/>
                <p:nvPr/>
              </p:nvSpPr>
              <p:spPr>
                <a:xfrm>
                  <a:off x="1989720" y="33246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9" name="Freeform 639"/>
                <p:cNvSpPr/>
                <p:nvPr/>
              </p:nvSpPr>
              <p:spPr>
                <a:xfrm>
                  <a:off x="1860120" y="3250080"/>
                  <a:ext cx="142560" cy="79920"/>
                </a:xfrm>
                <a:custGeom>
                  <a:avLst/>
                  <a:gdLst>
                    <a:gd name="textAreaLeft" fmla="*/ 0 w 142560"/>
                    <a:gd name="textAreaRight" fmla="*/ 142920 w 142560"/>
                    <a:gd name="textAreaTop" fmla="*/ 0 h 79920"/>
                    <a:gd name="textAreaBottom" fmla="*/ 80280 h 7992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80" name="Freeform 640"/>
                <p:cNvSpPr/>
                <p:nvPr/>
              </p:nvSpPr>
              <p:spPr>
                <a:xfrm>
                  <a:off x="1990800" y="33246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81" name="Freeform 641"/>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2" name="Freeform 642"/>
                <p:cNvSpPr/>
                <p:nvPr/>
              </p:nvSpPr>
              <p:spPr>
                <a:xfrm>
                  <a:off x="1873440" y="3249000"/>
                  <a:ext cx="107280" cy="52200"/>
                </a:xfrm>
                <a:custGeom>
                  <a:avLst/>
                  <a:gdLst>
                    <a:gd name="textAreaLeft" fmla="*/ 0 w 107280"/>
                    <a:gd name="textAreaRight" fmla="*/ 107640 w 107280"/>
                    <a:gd name="textAreaTop" fmla="*/ 0 h 52200"/>
                    <a:gd name="textAreaBottom" fmla="*/ 52560 h 52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83" name="Freeform 643"/>
                <p:cNvSpPr/>
                <p:nvPr/>
              </p:nvSpPr>
              <p:spPr>
                <a:xfrm>
                  <a:off x="1850400" y="3352320"/>
                  <a:ext cx="232200" cy="133920"/>
                </a:xfrm>
                <a:custGeom>
                  <a:avLst/>
                  <a:gdLst>
                    <a:gd name="textAreaLeft" fmla="*/ 0 w 232200"/>
                    <a:gd name="textAreaRight" fmla="*/ 232560 w 232200"/>
                    <a:gd name="textAreaTop" fmla="*/ 0 h 133920"/>
                    <a:gd name="textAreaBottom" fmla="*/ 134280 h 1339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644"/>
                <p:cNvSpPr/>
                <p:nvPr/>
              </p:nvSpPr>
              <p:spPr>
                <a:xfrm>
                  <a:off x="2000880" y="34714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5" name="Freeform 645"/>
                <p:cNvSpPr/>
                <p:nvPr/>
              </p:nvSpPr>
              <p:spPr>
                <a:xfrm>
                  <a:off x="1868040" y="33710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6" name="Freeform 646"/>
                <p:cNvSpPr/>
                <p:nvPr/>
              </p:nvSpPr>
              <p:spPr>
                <a:xfrm>
                  <a:off x="1987560" y="3468600"/>
                  <a:ext cx="95040" cy="24840"/>
                </a:xfrm>
                <a:custGeom>
                  <a:avLst/>
                  <a:gdLst>
                    <a:gd name="textAreaLeft" fmla="*/ 0 w 95040"/>
                    <a:gd name="textAreaRight" fmla="*/ 95400 w 95040"/>
                    <a:gd name="textAreaTop" fmla="*/ 0 h 24840"/>
                    <a:gd name="textAreaBottom" fmla="*/ 25200 h 2484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87" name="Freeform 647"/>
                <p:cNvSpPr/>
                <p:nvPr/>
              </p:nvSpPr>
              <p:spPr>
                <a:xfrm>
                  <a:off x="2000880" y="34714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8" name="Freeform 648"/>
                <p:cNvSpPr/>
                <p:nvPr/>
              </p:nvSpPr>
              <p:spPr>
                <a:xfrm>
                  <a:off x="1985400" y="3474000"/>
                  <a:ext cx="99360" cy="20520"/>
                </a:xfrm>
                <a:custGeom>
                  <a:avLst/>
                  <a:gdLst>
                    <a:gd name="textAreaLeft" fmla="*/ 0 w 99360"/>
                    <a:gd name="textAreaRight" fmla="*/ 99720 w 99360"/>
                    <a:gd name="textAreaTop" fmla="*/ 0 h 20520"/>
                    <a:gd name="textAreaBottom" fmla="*/ 20880 h 205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89" name="Freeform 649"/>
                <p:cNvSpPr/>
                <p:nvPr/>
              </p:nvSpPr>
              <p:spPr>
                <a:xfrm>
                  <a:off x="1985400" y="3490200"/>
                  <a:ext cx="99360" cy="5400"/>
                </a:xfrm>
                <a:custGeom>
                  <a:avLst/>
                  <a:gdLst>
                    <a:gd name="textAreaLeft" fmla="*/ 0 w 99360"/>
                    <a:gd name="textAreaRight" fmla="*/ 99720 w 99360"/>
                    <a:gd name="textAreaTop" fmla="*/ 0 h 5400"/>
                    <a:gd name="textAreaBottom" fmla="*/ 5760 h 54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90" name="Freeform 650"/>
                <p:cNvSpPr/>
                <p:nvPr/>
              </p:nvSpPr>
              <p:spPr>
                <a:xfrm>
                  <a:off x="1844640" y="3350880"/>
                  <a:ext cx="243360" cy="134280"/>
                </a:xfrm>
                <a:custGeom>
                  <a:avLst/>
                  <a:gdLst>
                    <a:gd name="textAreaLeft" fmla="*/ 0 w 243360"/>
                    <a:gd name="textAreaRight" fmla="*/ 243720 w 243360"/>
                    <a:gd name="textAreaTop" fmla="*/ 0 h 134280"/>
                    <a:gd name="textAreaBottom" fmla="*/ 134640 h 1342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651"/>
                <p:cNvSpPr/>
                <p:nvPr/>
              </p:nvSpPr>
              <p:spPr>
                <a:xfrm>
                  <a:off x="1850400" y="3354840"/>
                  <a:ext cx="227880" cy="141120"/>
                </a:xfrm>
                <a:custGeom>
                  <a:avLst/>
                  <a:gdLst>
                    <a:gd name="textAreaLeft" fmla="*/ 0 w 227880"/>
                    <a:gd name="textAreaRight" fmla="*/ 228240 w 227880"/>
                    <a:gd name="textAreaTop" fmla="*/ 0 h 141120"/>
                    <a:gd name="textAreaBottom" fmla="*/ 141480 h 14112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652"/>
                <p:cNvSpPr/>
                <p:nvPr/>
              </p:nvSpPr>
              <p:spPr>
                <a:xfrm>
                  <a:off x="1966320" y="34812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3" name="Freeform 653"/>
                <p:cNvSpPr/>
                <p:nvPr/>
              </p:nvSpPr>
              <p:spPr>
                <a:xfrm>
                  <a:off x="1869120" y="337104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4" name="Freeform 654"/>
                <p:cNvSpPr/>
                <p:nvPr/>
              </p:nvSpPr>
              <p:spPr>
                <a:xfrm>
                  <a:off x="1948680" y="3477240"/>
                  <a:ext cx="95040" cy="28080"/>
                </a:xfrm>
                <a:custGeom>
                  <a:avLst/>
                  <a:gdLst>
                    <a:gd name="textAreaLeft" fmla="*/ 0 w 95040"/>
                    <a:gd name="textAreaRight" fmla="*/ 95400 w 95040"/>
                    <a:gd name="textAreaTop" fmla="*/ 0 h 28080"/>
                    <a:gd name="textAreaBottom" fmla="*/ 28440 h 2808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95" name="Freeform 655"/>
                <p:cNvSpPr/>
                <p:nvPr/>
              </p:nvSpPr>
              <p:spPr>
                <a:xfrm>
                  <a:off x="1965240" y="34812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6" name="Freeform 656"/>
                <p:cNvSpPr/>
                <p:nvPr/>
              </p:nvSpPr>
              <p:spPr>
                <a:xfrm>
                  <a:off x="1945440" y="3482640"/>
                  <a:ext cx="99360" cy="23760"/>
                </a:xfrm>
                <a:custGeom>
                  <a:avLst/>
                  <a:gdLst>
                    <a:gd name="textAreaLeft" fmla="*/ 0 w 99360"/>
                    <a:gd name="textAreaRight" fmla="*/ 99720 w 99360"/>
                    <a:gd name="textAreaTop" fmla="*/ 0 h 23760"/>
                    <a:gd name="textAreaBottom" fmla="*/ 24120 h 2376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97" name="Freeform 657"/>
                <p:cNvSpPr/>
                <p:nvPr/>
              </p:nvSpPr>
              <p:spPr>
                <a:xfrm>
                  <a:off x="1945440" y="3498480"/>
                  <a:ext cx="98280" cy="9000"/>
                </a:xfrm>
                <a:custGeom>
                  <a:avLst/>
                  <a:gdLst>
                    <a:gd name="textAreaLeft" fmla="*/ 0 w 98280"/>
                    <a:gd name="textAreaRight" fmla="*/ 98640 w 98280"/>
                    <a:gd name="textAreaTop" fmla="*/ 0 h 9000"/>
                    <a:gd name="textAreaBottom" fmla="*/ 9360 h 900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8" name="Freeform 658"/>
                <p:cNvSpPr/>
                <p:nvPr/>
              </p:nvSpPr>
              <p:spPr>
                <a:xfrm>
                  <a:off x="1846080" y="3352320"/>
                  <a:ext cx="235440" cy="140040"/>
                </a:xfrm>
                <a:custGeom>
                  <a:avLst/>
                  <a:gdLst>
                    <a:gd name="textAreaLeft" fmla="*/ 0 w 235440"/>
                    <a:gd name="textAreaRight" fmla="*/ 235800 w 235440"/>
                    <a:gd name="textAreaTop" fmla="*/ 0 h 140040"/>
                    <a:gd name="textAreaBottom" fmla="*/ 140400 h 1400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659"/>
                <p:cNvSpPr/>
                <p:nvPr/>
              </p:nvSpPr>
              <p:spPr>
                <a:xfrm>
                  <a:off x="1947600" y="3187440"/>
                  <a:ext cx="108360" cy="64080"/>
                </a:xfrm>
                <a:custGeom>
                  <a:avLst/>
                  <a:gdLst>
                    <a:gd name="textAreaLeft" fmla="*/ 0 w 108360"/>
                    <a:gd name="textAreaRight" fmla="*/ 108720 w 108360"/>
                    <a:gd name="textAreaTop" fmla="*/ 0 h 64080"/>
                    <a:gd name="textAreaBottom" fmla="*/ 64440 h 64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00" name="Freeform 660"/>
                <p:cNvSpPr/>
                <p:nvPr/>
              </p:nvSpPr>
              <p:spPr>
                <a:xfrm>
                  <a:off x="1960920" y="32407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1" name="Freeform 661"/>
                <p:cNvSpPr/>
                <p:nvPr/>
              </p:nvSpPr>
              <p:spPr>
                <a:xfrm>
                  <a:off x="1987560" y="32000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2" name="Freeform 662"/>
                <p:cNvSpPr/>
                <p:nvPr/>
              </p:nvSpPr>
              <p:spPr>
                <a:xfrm>
                  <a:off x="2019600" y="32320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03" name="Freeform 663"/>
                <p:cNvSpPr/>
                <p:nvPr/>
              </p:nvSpPr>
              <p:spPr>
                <a:xfrm>
                  <a:off x="2030760" y="3216600"/>
                  <a:ext cx="16560" cy="3240"/>
                </a:xfrm>
                <a:custGeom>
                  <a:avLst/>
                  <a:gdLst>
                    <a:gd name="textAreaLeft" fmla="*/ 0 w 16560"/>
                    <a:gd name="textAreaRight" fmla="*/ 16920 w 16560"/>
                    <a:gd name="textAreaTop" fmla="*/ 0 h 3240"/>
                    <a:gd name="textAreaBottom" fmla="*/ 3600 h 324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04" name="Freeform 664"/>
                <p:cNvSpPr/>
                <p:nvPr/>
              </p:nvSpPr>
              <p:spPr>
                <a:xfrm>
                  <a:off x="2029680" y="3220200"/>
                  <a:ext cx="10800" cy="3600"/>
                </a:xfrm>
                <a:custGeom>
                  <a:avLst/>
                  <a:gdLst>
                    <a:gd name="textAreaLeft" fmla="*/ 0 w 10800"/>
                    <a:gd name="textAreaRight" fmla="*/ 11160 w 10800"/>
                    <a:gd name="textAreaTop" fmla="*/ 0 h 3600"/>
                    <a:gd name="textAreaBottom" fmla="*/ 3960 h 360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05" name="Freeform 665"/>
                <p:cNvSpPr/>
                <p:nvPr/>
              </p:nvSpPr>
              <p:spPr>
                <a:xfrm>
                  <a:off x="1960920" y="3185280"/>
                  <a:ext cx="107280" cy="39240"/>
                </a:xfrm>
                <a:custGeom>
                  <a:avLst/>
                  <a:gdLst>
                    <a:gd name="textAreaLeft" fmla="*/ 0 w 107280"/>
                    <a:gd name="textAreaRight" fmla="*/ 107640 w 107280"/>
                    <a:gd name="textAreaTop" fmla="*/ 0 h 39240"/>
                    <a:gd name="textAreaBottom" fmla="*/ 39600 h 3924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6" name="Freeform 666"/>
                <p:cNvSpPr/>
                <p:nvPr/>
              </p:nvSpPr>
              <p:spPr>
                <a:xfrm>
                  <a:off x="1987560" y="32000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7" name="Freeform 667"/>
                <p:cNvSpPr/>
                <p:nvPr/>
              </p:nvSpPr>
              <p:spPr>
                <a:xfrm>
                  <a:off x="1822680" y="3237840"/>
                  <a:ext cx="167040" cy="152280"/>
                </a:xfrm>
                <a:custGeom>
                  <a:avLst/>
                  <a:gdLst>
                    <a:gd name="textAreaLeft" fmla="*/ 0 w 167040"/>
                    <a:gd name="textAreaRight" fmla="*/ 167400 w 167040"/>
                    <a:gd name="textAreaTop" fmla="*/ 0 h 152280"/>
                    <a:gd name="textAreaBottom" fmla="*/ 152640 h 15228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668"/>
                <p:cNvSpPr/>
                <p:nvPr/>
              </p:nvSpPr>
              <p:spPr>
                <a:xfrm>
                  <a:off x="1960920" y="32407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9" name="Freeform 669"/>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0" name="Freeform 670"/>
                <p:cNvSpPr/>
                <p:nvPr/>
              </p:nvSpPr>
              <p:spPr>
                <a:xfrm>
                  <a:off x="1868040" y="33710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1" name="Freeform 671"/>
                <p:cNvSpPr/>
                <p:nvPr/>
              </p:nvSpPr>
              <p:spPr>
                <a:xfrm>
                  <a:off x="1818000" y="3319200"/>
                  <a:ext cx="137160" cy="75240"/>
                </a:xfrm>
                <a:custGeom>
                  <a:avLst/>
                  <a:gdLst>
                    <a:gd name="textAreaLeft" fmla="*/ 0 w 137160"/>
                    <a:gd name="textAreaRight" fmla="*/ 137520 w 137160"/>
                    <a:gd name="textAreaTop" fmla="*/ 0 h 75240"/>
                    <a:gd name="textAreaBottom" fmla="*/ 75600 h 7524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12" name="Freeform 672"/>
                <p:cNvSpPr/>
                <p:nvPr/>
              </p:nvSpPr>
              <p:spPr>
                <a:xfrm>
                  <a:off x="1863360" y="3225960"/>
                  <a:ext cx="132480" cy="109440"/>
                </a:xfrm>
                <a:custGeom>
                  <a:avLst/>
                  <a:gdLst>
                    <a:gd name="textAreaLeft" fmla="*/ 0 w 132480"/>
                    <a:gd name="textAreaRight" fmla="*/ 132840 w 132480"/>
                    <a:gd name="textAreaTop" fmla="*/ 0 h 109440"/>
                    <a:gd name="textAreaBottom" fmla="*/ 109800 h 10944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673"/>
                <p:cNvSpPr/>
                <p:nvPr/>
              </p:nvSpPr>
              <p:spPr>
                <a:xfrm>
                  <a:off x="1870200" y="3320640"/>
                  <a:ext cx="35280" cy="8280"/>
                </a:xfrm>
                <a:custGeom>
                  <a:avLst/>
                  <a:gdLst>
                    <a:gd name="textAreaLeft" fmla="*/ 0 w 35280"/>
                    <a:gd name="textAreaRight" fmla="*/ 35640 w 35280"/>
                    <a:gd name="textAreaTop" fmla="*/ 0 h 8280"/>
                    <a:gd name="textAreaBottom" fmla="*/ 8640 h 828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14" name="Freeform 674"/>
                <p:cNvSpPr/>
                <p:nvPr/>
              </p:nvSpPr>
              <p:spPr>
                <a:xfrm>
                  <a:off x="1938960" y="333396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15" name="Freeform 675"/>
                <p:cNvSpPr/>
                <p:nvPr/>
              </p:nvSpPr>
              <p:spPr>
                <a:xfrm>
                  <a:off x="1909800" y="3327480"/>
                  <a:ext cx="24120" cy="7560"/>
                </a:xfrm>
                <a:custGeom>
                  <a:avLst/>
                  <a:gdLst>
                    <a:gd name="textAreaLeft" fmla="*/ 0 w 24120"/>
                    <a:gd name="textAreaRight" fmla="*/ 24480 w 24120"/>
                    <a:gd name="textAreaTop" fmla="*/ 0 h 7560"/>
                    <a:gd name="textAreaBottom" fmla="*/ 7920 h 756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6" name="Freeform 676"/>
                <p:cNvSpPr/>
                <p:nvPr/>
              </p:nvSpPr>
              <p:spPr>
                <a:xfrm>
                  <a:off x="2040840" y="3324600"/>
                  <a:ext cx="81720" cy="14040"/>
                </a:xfrm>
                <a:custGeom>
                  <a:avLst/>
                  <a:gdLst>
                    <a:gd name="textAreaLeft" fmla="*/ 0 w 81720"/>
                    <a:gd name="textAreaRight" fmla="*/ 82080 w 81720"/>
                    <a:gd name="textAreaTop" fmla="*/ 0 h 14040"/>
                    <a:gd name="textAreaBottom" fmla="*/ 14400 h 1404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7" name="Freeform 677"/>
                <p:cNvSpPr/>
                <p:nvPr/>
              </p:nvSpPr>
              <p:spPr>
                <a:xfrm>
                  <a:off x="2043000" y="33321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8" name="Freeform 678"/>
                <p:cNvSpPr/>
                <p:nvPr/>
              </p:nvSpPr>
              <p:spPr>
                <a:xfrm>
                  <a:off x="1905840" y="3247920"/>
                  <a:ext cx="149040" cy="90360"/>
                </a:xfrm>
                <a:custGeom>
                  <a:avLst/>
                  <a:gdLst>
                    <a:gd name="textAreaLeft" fmla="*/ 0 w 149040"/>
                    <a:gd name="textAreaRight" fmla="*/ 149400 w 149040"/>
                    <a:gd name="textAreaTop" fmla="*/ 0 h 90360"/>
                    <a:gd name="textAreaBottom" fmla="*/ 90720 h 9036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19" name="Freeform 679"/>
                <p:cNvSpPr/>
                <p:nvPr/>
              </p:nvSpPr>
              <p:spPr>
                <a:xfrm>
                  <a:off x="2043000" y="33321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20" name="Freeform 680"/>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21" name="Freeform 681"/>
                <p:cNvSpPr/>
                <p:nvPr/>
              </p:nvSpPr>
              <p:spPr>
                <a:xfrm>
                  <a:off x="1909080" y="3246840"/>
                  <a:ext cx="72000" cy="54720"/>
                </a:xfrm>
                <a:custGeom>
                  <a:avLst/>
                  <a:gdLst>
                    <a:gd name="textAreaLeft" fmla="*/ 0 w 72000"/>
                    <a:gd name="textAreaRight" fmla="*/ 72360 w 72000"/>
                    <a:gd name="textAreaTop" fmla="*/ 0 h 54720"/>
                    <a:gd name="textAreaBottom" fmla="*/ 55080 h 5472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22" name="Freeform 682"/>
                <p:cNvSpPr/>
                <p:nvPr/>
              </p:nvSpPr>
              <p:spPr>
                <a:xfrm>
                  <a:off x="2047320" y="3497400"/>
                  <a:ext cx="315360" cy="22320"/>
                </a:xfrm>
                <a:custGeom>
                  <a:avLst/>
                  <a:gdLst>
                    <a:gd name="textAreaLeft" fmla="*/ 0 w 315360"/>
                    <a:gd name="textAreaRight" fmla="*/ 315720 w 315360"/>
                    <a:gd name="textAreaTop" fmla="*/ 0 h 22320"/>
                    <a:gd name="textAreaBottom" fmla="*/ 22680 h 2232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23" name="Rectangle 683"/>
                <p:cNvSpPr/>
                <p:nvPr/>
              </p:nvSpPr>
              <p:spPr>
                <a:xfrm>
                  <a:off x="2056320" y="3353040"/>
                  <a:ext cx="298440" cy="51120"/>
                </a:xfrm>
                <a:prstGeom prst="rect">
                  <a:avLst/>
                </a:prstGeom>
                <a:solidFill>
                  <a:srgbClr val="b2c1d1"/>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684"/>
                <p:cNvSpPr/>
                <p:nvPr/>
              </p:nvSpPr>
              <p:spPr>
                <a:xfrm>
                  <a:off x="2020680" y="3341880"/>
                  <a:ext cx="351720" cy="10800"/>
                </a:xfrm>
                <a:prstGeom prst="rect">
                  <a:avLst/>
                </a:prstGeom>
                <a:solidFill>
                  <a:srgbClr val="7f99b2"/>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685"/>
                <p:cNvSpPr/>
                <p:nvPr/>
              </p:nvSpPr>
              <p:spPr>
                <a:xfrm>
                  <a:off x="2152440" y="3404160"/>
                  <a:ext cx="104040" cy="108360"/>
                </a:xfrm>
                <a:prstGeom prst="rect">
                  <a:avLst/>
                </a:prstGeom>
                <a:solidFill>
                  <a:srgbClr val="7f99b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686"/>
                <p:cNvSpPr/>
                <p:nvPr/>
              </p:nvSpPr>
              <p:spPr>
                <a:xfrm>
                  <a:off x="2195640" y="3384720"/>
                  <a:ext cx="20880" cy="10080"/>
                </a:xfrm>
                <a:custGeom>
                  <a:avLst/>
                  <a:gdLst>
                    <a:gd name="textAreaLeft" fmla="*/ 0 w 20880"/>
                    <a:gd name="textAreaRight" fmla="*/ 21240 w 20880"/>
                    <a:gd name="textAreaTop" fmla="*/ 0 h 10080"/>
                    <a:gd name="textAreaBottom" fmla="*/ 10440 h 100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27" name="Rectangle 687"/>
                <p:cNvSpPr/>
                <p:nvPr/>
              </p:nvSpPr>
              <p:spPr>
                <a:xfrm>
                  <a:off x="2189880" y="3318120"/>
                  <a:ext cx="164520" cy="23760"/>
                </a:xfrm>
                <a:prstGeom prst="rect">
                  <a:avLst/>
                </a:prstGeom>
                <a:solidFill>
                  <a:srgbClr val="d6c6c9"/>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688"/>
                <p:cNvSpPr/>
                <p:nvPr/>
              </p:nvSpPr>
              <p:spPr>
                <a:xfrm>
                  <a:off x="2166840" y="3242160"/>
                  <a:ext cx="167040" cy="75600"/>
                </a:xfrm>
                <a:custGeom>
                  <a:avLst/>
                  <a:gdLst>
                    <a:gd name="textAreaLeft" fmla="*/ 0 w 167040"/>
                    <a:gd name="textAreaRight" fmla="*/ 167400 w 167040"/>
                    <a:gd name="textAreaTop" fmla="*/ 0 h 75600"/>
                    <a:gd name="textAreaBottom" fmla="*/ 75960 h 7560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9" name="Freeform 689"/>
                <p:cNvSpPr/>
                <p:nvPr/>
              </p:nvSpPr>
              <p:spPr>
                <a:xfrm>
                  <a:off x="2130120" y="3318120"/>
                  <a:ext cx="59400" cy="23760"/>
                </a:xfrm>
                <a:custGeom>
                  <a:avLst/>
                  <a:gdLst>
                    <a:gd name="textAreaLeft" fmla="*/ 0 w 59400"/>
                    <a:gd name="textAreaRight" fmla="*/ 59760 w 59400"/>
                    <a:gd name="textAreaTop" fmla="*/ 0 h 23760"/>
                    <a:gd name="textAreaBottom" fmla="*/ 24120 h 2376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30" name="Freeform 690"/>
                <p:cNvSpPr/>
                <p:nvPr/>
              </p:nvSpPr>
              <p:spPr>
                <a:xfrm>
                  <a:off x="2243160" y="3242160"/>
                  <a:ext cx="52920" cy="66240"/>
                </a:xfrm>
                <a:custGeom>
                  <a:avLst/>
                  <a:gdLst>
                    <a:gd name="textAreaLeft" fmla="*/ 0 w 52920"/>
                    <a:gd name="textAreaRight" fmla="*/ 53280 w 52920"/>
                    <a:gd name="textAreaTop" fmla="*/ 0 h 66240"/>
                    <a:gd name="textAreaBottom" fmla="*/ 66600 h 6624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Freeform 691"/>
                <p:cNvSpPr/>
                <p:nvPr/>
              </p:nvSpPr>
              <p:spPr>
                <a:xfrm>
                  <a:off x="2024280" y="3337560"/>
                  <a:ext cx="24120" cy="4320"/>
                </a:xfrm>
                <a:custGeom>
                  <a:avLst/>
                  <a:gdLst>
                    <a:gd name="textAreaLeft" fmla="*/ 0 w 24120"/>
                    <a:gd name="textAreaRight" fmla="*/ 24480 w 24120"/>
                    <a:gd name="textAreaTop" fmla="*/ 0 h 4320"/>
                    <a:gd name="textAreaBottom" fmla="*/ 4680 h 432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2" name="Freeform 692"/>
                <p:cNvSpPr/>
                <p:nvPr/>
              </p:nvSpPr>
              <p:spPr>
                <a:xfrm>
                  <a:off x="2048400" y="3330720"/>
                  <a:ext cx="124920" cy="11160"/>
                </a:xfrm>
                <a:custGeom>
                  <a:avLst/>
                  <a:gdLst>
                    <a:gd name="textAreaLeft" fmla="*/ 0 w 124920"/>
                    <a:gd name="textAreaRight" fmla="*/ 125280 w 124920"/>
                    <a:gd name="textAreaTop" fmla="*/ 0 h 11160"/>
                    <a:gd name="textAreaBottom" fmla="*/ 11520 h 111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33" name="Freeform 693"/>
                <p:cNvSpPr/>
                <p:nvPr/>
              </p:nvSpPr>
              <p:spPr>
                <a:xfrm>
                  <a:off x="2178000" y="3312720"/>
                  <a:ext cx="135000" cy="5400"/>
                </a:xfrm>
                <a:custGeom>
                  <a:avLst/>
                  <a:gdLst>
                    <a:gd name="textAreaLeft" fmla="*/ 0 w 135000"/>
                    <a:gd name="textAreaRight" fmla="*/ 135360 w 135000"/>
                    <a:gd name="textAreaTop" fmla="*/ 0 h 5400"/>
                    <a:gd name="textAreaBottom" fmla="*/ 5760 h 54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34" name="Freeform 694"/>
                <p:cNvSpPr/>
                <p:nvPr/>
              </p:nvSpPr>
              <p:spPr>
                <a:xfrm>
                  <a:off x="2176560" y="3249000"/>
                  <a:ext cx="60840" cy="56880"/>
                </a:xfrm>
                <a:custGeom>
                  <a:avLst/>
                  <a:gdLst>
                    <a:gd name="textAreaLeft" fmla="*/ 0 w 60840"/>
                    <a:gd name="textAreaRight" fmla="*/ 61200 w 60840"/>
                    <a:gd name="textAreaTop" fmla="*/ 0 h 56880"/>
                    <a:gd name="textAreaBottom" fmla="*/ 57240 h 5688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5" name="Freeform 695"/>
                <p:cNvSpPr/>
                <p:nvPr/>
              </p:nvSpPr>
              <p:spPr>
                <a:xfrm>
                  <a:off x="2179800" y="3250080"/>
                  <a:ext cx="57600" cy="55440"/>
                </a:xfrm>
                <a:custGeom>
                  <a:avLst/>
                  <a:gdLst>
                    <a:gd name="textAreaLeft" fmla="*/ 0 w 57600"/>
                    <a:gd name="textAreaRight" fmla="*/ 57960 w 57600"/>
                    <a:gd name="textAreaTop" fmla="*/ 0 h 55440"/>
                    <a:gd name="textAreaBottom" fmla="*/ 55800 h 5544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736" name="Text Box 696"/>
              <p:cNvSpPr/>
              <p:nvPr/>
            </p:nvSpPr>
            <p:spPr>
              <a:xfrm>
                <a:off x="1788120" y="3526920"/>
                <a:ext cx="163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AutoShape 697"/>
            <p:cNvSpPr/>
            <p:nvPr/>
          </p:nvSpPr>
          <p:spPr>
            <a:xfrm rot="1561200">
              <a:off x="2922480" y="2542680"/>
              <a:ext cx="1057680" cy="203400"/>
            </a:xfrm>
            <a:prstGeom prst="rightArrow">
              <a:avLst>
                <a:gd name="adj1" fmla="val 50000"/>
                <a:gd name="adj2" fmla="val 13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utoShape 698"/>
            <p:cNvSpPr/>
            <p:nvPr/>
          </p:nvSpPr>
          <p:spPr>
            <a:xfrm rot="11334000">
              <a:off x="5596920" y="2951640"/>
              <a:ext cx="933480" cy="203400"/>
            </a:xfrm>
            <a:prstGeom prst="rightArrow">
              <a:avLst>
                <a:gd name="adj1" fmla="val 50000"/>
                <a:gd name="adj2" fmla="val 114735"/>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utoShape 699"/>
            <p:cNvSpPr/>
            <p:nvPr/>
          </p:nvSpPr>
          <p:spPr>
            <a:xfrm rot="9261000">
              <a:off x="5349960" y="244080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700"/>
            <p:cNvSpPr/>
            <p:nvPr/>
          </p:nvSpPr>
          <p:spPr>
            <a:xfrm rot="12768600">
              <a:off x="5287680" y="342432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701"/>
            <p:cNvSpPr/>
            <p:nvPr/>
          </p:nvSpPr>
          <p:spPr>
            <a:xfrm rot="20251800">
              <a:off x="2922120" y="318744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2" name="Содержимое 6" descr=""/>
          <p:cNvPicPr/>
          <p:nvPr/>
        </p:nvPicPr>
        <p:blipFill>
          <a:blip r:embed="rId2"/>
          <a:stretch/>
        </p:blipFill>
        <p:spPr>
          <a:xfrm>
            <a:off x="5857920" y="4071960"/>
            <a:ext cx="2735280" cy="237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37"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6</a:t>
            </a:r>
            <a:endParaRPr b="0" lang="en-US" sz="9600" spc="-1" strike="noStrike">
              <a:solidFill>
                <a:srgbClr val="000000"/>
              </a:solidFill>
              <a:latin typeface="Arial"/>
            </a:endParaRPr>
          </a:p>
        </p:txBody>
      </p:sp>
      <p:grpSp>
        <p:nvGrpSpPr>
          <p:cNvPr id="839" name="Группа 7"/>
          <p:cNvGrpSpPr/>
          <p:nvPr/>
        </p:nvGrpSpPr>
        <p:grpSpPr>
          <a:xfrm>
            <a:off x="3071880" y="2000160"/>
            <a:ext cx="5715000" cy="4286520"/>
            <a:chOff x="3071880" y="2000160"/>
            <a:chExt cx="5715000" cy="4286520"/>
          </a:xfrm>
        </p:grpSpPr>
        <p:sp>
          <p:nvSpPr>
            <p:cNvPr id="840"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TextBox 6"/>
            <p:cNvSpPr/>
            <p:nvPr/>
          </p:nvSpPr>
          <p:spPr>
            <a:xfrm>
              <a:off x="3429000" y="2000160"/>
              <a:ext cx="50007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ЭЎММдан фойдаланишда ўқитишнинг тизимлилиги ва кетма-кетлиги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53">
                                  <p:stCondLst>
                                    <p:cond delay="0"/>
                                  </p:stCondLst>
                                  <p:childTnLst>
                                    <p:set>
                                      <p:cBhvr>
                                        <p:cTn id="51" dur="1" fill="hold">
                                          <p:stCondLst>
                                            <p:cond delay="0"/>
                                          </p:stCondLst>
                                        </p:cTn>
                                        <p:tgtEl>
                                          <p:spTgt spid="839"/>
                                        </p:tgtEl>
                                        <p:attrNameLst>
                                          <p:attrName>style.visibility</p:attrName>
                                        </p:attrNameLst>
                                      </p:cBhvr>
                                      <p:to>
                                        <p:strVal val="visible"/>
                                      </p:to>
                                    </p:set>
                                    <p:anim calcmode="lin" valueType="num">
                                      <p:cBhvr additive="repl">
                                        <p:cTn id="52" dur="2000" fill="hold"/>
                                        <p:tgtEl>
                                          <p:spTgt spid="839"/>
                                        </p:tgtEl>
                                        <p:attrNameLst>
                                          <p:attrName>ppt_w</p:attrName>
                                        </p:attrNameLst>
                                      </p:cBhvr>
                                      <p:tavLst>
                                        <p:tav tm="0">
                                          <p:val>
                                            <p:fltVal val="0"/>
                                          </p:val>
                                        </p:tav>
                                        <p:tav tm="100000">
                                          <p:val>
                                            <p:strVal val="#ppt_w"/>
                                          </p:val>
                                        </p:tav>
                                      </p:tavLst>
                                    </p:anim>
                                    <p:anim calcmode="lin" valueType="num">
                                      <p:cBhvr additive="repl">
                                        <p:cTn id="53" dur="2000" fill="hold"/>
                                        <p:tgtEl>
                                          <p:spTgt spid="839"/>
                                        </p:tgtEl>
                                        <p:attrNameLst>
                                          <p:attrName>ppt_h</p:attrName>
                                        </p:attrNameLst>
                                      </p:cBhvr>
                                      <p:tavLst>
                                        <p:tav tm="0">
                                          <p:val>
                                            <p:fltVal val="0"/>
                                          </p:val>
                                        </p:tav>
                                        <p:tav tm="100000">
                                          <p:val>
                                            <p:strVal val="#ppt_h"/>
                                          </p:val>
                                        </p:tav>
                                      </p:tavLst>
                                    </p:anim>
                                    <p:animEffect filter="fade" transition="in">
                                      <p:cBhvr additive="repl">
                                        <p:cTn id="54" dur="20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44"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7</a:t>
            </a:r>
            <a:endParaRPr b="0" lang="en-US" sz="9600" spc="-1" strike="noStrike">
              <a:solidFill>
                <a:srgbClr val="000000"/>
              </a:solidFill>
              <a:latin typeface="Arial"/>
            </a:endParaRPr>
          </a:p>
        </p:txBody>
      </p:sp>
      <p:grpSp>
        <p:nvGrpSpPr>
          <p:cNvPr id="846" name="Группа 7"/>
          <p:cNvGrpSpPr/>
          <p:nvPr/>
        </p:nvGrpSpPr>
        <p:grpSpPr>
          <a:xfrm>
            <a:off x="3071880" y="2000160"/>
            <a:ext cx="5715000" cy="4286520"/>
            <a:chOff x="3071880" y="2000160"/>
            <a:chExt cx="5715000" cy="4286520"/>
          </a:xfrm>
        </p:grpSpPr>
        <p:sp>
          <p:nvSpPr>
            <p:cNvPr id="847"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Box 6"/>
            <p:cNvSpPr/>
            <p:nvPr/>
          </p:nvSpPr>
          <p:spPr>
            <a:xfrm>
              <a:off x="3429000" y="2000160"/>
              <a:ext cx="50007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ЭЎММдан фойдаланишда билимларни ўзлаштириш   мустаҳкамлиги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53">
                                  <p:stCondLst>
                                    <p:cond delay="0"/>
                                  </p:stCondLst>
                                  <p:childTnLst>
                                    <p:set>
                                      <p:cBhvr>
                                        <p:cTn id="60" dur="1" fill="hold">
                                          <p:stCondLst>
                                            <p:cond delay="0"/>
                                          </p:stCondLst>
                                        </p:cTn>
                                        <p:tgtEl>
                                          <p:spTgt spid="846"/>
                                        </p:tgtEl>
                                        <p:attrNameLst>
                                          <p:attrName>style.visibility</p:attrName>
                                        </p:attrNameLst>
                                      </p:cBhvr>
                                      <p:to>
                                        <p:strVal val="visible"/>
                                      </p:to>
                                    </p:set>
                                    <p:anim calcmode="lin" valueType="num">
                                      <p:cBhvr additive="repl">
                                        <p:cTn id="61" dur="2000" fill="hold"/>
                                        <p:tgtEl>
                                          <p:spTgt spid="846"/>
                                        </p:tgtEl>
                                        <p:attrNameLst>
                                          <p:attrName>ppt_w</p:attrName>
                                        </p:attrNameLst>
                                      </p:cBhvr>
                                      <p:tavLst>
                                        <p:tav tm="0">
                                          <p:val>
                                            <p:fltVal val="0"/>
                                          </p:val>
                                        </p:tav>
                                        <p:tav tm="100000">
                                          <p:val>
                                            <p:strVal val="#ppt_w"/>
                                          </p:val>
                                        </p:tav>
                                      </p:tavLst>
                                    </p:anim>
                                    <p:anim calcmode="lin" valueType="num">
                                      <p:cBhvr additive="repl">
                                        <p:cTn id="62" dur="2000" fill="hold"/>
                                        <p:tgtEl>
                                          <p:spTgt spid="846"/>
                                        </p:tgtEl>
                                        <p:attrNameLst>
                                          <p:attrName>ppt_h</p:attrName>
                                        </p:attrNameLst>
                                      </p:cBhvr>
                                      <p:tavLst>
                                        <p:tav tm="0">
                                          <p:val>
                                            <p:fltVal val="0"/>
                                          </p:val>
                                        </p:tav>
                                        <p:tav tm="100000">
                                          <p:val>
                                            <p:strVal val="#ppt_h"/>
                                          </p:val>
                                        </p:tav>
                                      </p:tavLst>
                                    </p:anim>
                                    <p:animEffect filter="fade" transition="in">
                                      <p:cBhvr additive="repl">
                                        <p:cTn id="63" dur="20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51"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8</a:t>
            </a:r>
            <a:endParaRPr b="0" lang="en-US" sz="9600" spc="-1" strike="noStrike">
              <a:solidFill>
                <a:srgbClr val="000000"/>
              </a:solidFill>
              <a:latin typeface="Arial"/>
            </a:endParaRPr>
          </a:p>
        </p:txBody>
      </p:sp>
      <p:grpSp>
        <p:nvGrpSpPr>
          <p:cNvPr id="853" name="Группа 7"/>
          <p:cNvGrpSpPr/>
          <p:nvPr/>
        </p:nvGrpSpPr>
        <p:grpSpPr>
          <a:xfrm>
            <a:off x="3071880" y="2000160"/>
            <a:ext cx="5715000" cy="4286520"/>
            <a:chOff x="3071880" y="2000160"/>
            <a:chExt cx="5715000" cy="4286520"/>
          </a:xfrm>
        </p:grpSpPr>
        <p:sp>
          <p:nvSpPr>
            <p:cNvPr id="854"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Box 6"/>
            <p:cNvSpPr/>
            <p:nvPr/>
          </p:nvSpPr>
          <p:spPr>
            <a:xfrm>
              <a:off x="3429000" y="2000160"/>
              <a:ext cx="50007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ЭЎММда ўқитишнинг ривожлантирувчи ва тарбиявий функциялари бажарилиши талаблар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53">
                                  <p:stCondLst>
                                    <p:cond delay="0"/>
                                  </p:stCondLst>
                                  <p:childTnLst>
                                    <p:set>
                                      <p:cBhvr>
                                        <p:cTn id="69" dur="1" fill="hold">
                                          <p:stCondLst>
                                            <p:cond delay="0"/>
                                          </p:stCondLst>
                                        </p:cTn>
                                        <p:tgtEl>
                                          <p:spTgt spid="853"/>
                                        </p:tgtEl>
                                        <p:attrNameLst>
                                          <p:attrName>style.visibility</p:attrName>
                                        </p:attrNameLst>
                                      </p:cBhvr>
                                      <p:to>
                                        <p:strVal val="visible"/>
                                      </p:to>
                                    </p:set>
                                    <p:anim calcmode="lin" valueType="num">
                                      <p:cBhvr additive="repl">
                                        <p:cTn id="70" dur="2000" fill="hold"/>
                                        <p:tgtEl>
                                          <p:spTgt spid="853"/>
                                        </p:tgtEl>
                                        <p:attrNameLst>
                                          <p:attrName>ppt_w</p:attrName>
                                        </p:attrNameLst>
                                      </p:cBhvr>
                                      <p:tavLst>
                                        <p:tav tm="0">
                                          <p:val>
                                            <p:fltVal val="0"/>
                                          </p:val>
                                        </p:tav>
                                        <p:tav tm="100000">
                                          <p:val>
                                            <p:strVal val="#ppt_w"/>
                                          </p:val>
                                        </p:tav>
                                      </p:tavLst>
                                    </p:anim>
                                    <p:anim calcmode="lin" valueType="num">
                                      <p:cBhvr additive="repl">
                                        <p:cTn id="71" dur="2000" fill="hold"/>
                                        <p:tgtEl>
                                          <p:spTgt spid="853"/>
                                        </p:tgtEl>
                                        <p:attrNameLst>
                                          <p:attrName>ppt_h</p:attrName>
                                        </p:attrNameLst>
                                      </p:cBhvr>
                                      <p:tavLst>
                                        <p:tav tm="0">
                                          <p:val>
                                            <p:fltVal val="0"/>
                                          </p:val>
                                        </p:tav>
                                        <p:tav tm="100000">
                                          <p:val>
                                            <p:strVal val="#ppt_h"/>
                                          </p:val>
                                        </p:tav>
                                      </p:tavLst>
                                    </p:anim>
                                    <p:animEffect filter="fade" transition="in">
                                      <p:cBhvr additive="repl">
                                        <p:cTn id="72" dur="20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Выноска со стрелкой вправо 1"/>
          <p:cNvSpPr/>
          <p:nvPr/>
        </p:nvSpPr>
        <p:spPr>
          <a:xfrm>
            <a:off x="500040" y="642960"/>
            <a:ext cx="8215200" cy="5715000"/>
          </a:xfrm>
          <a:prstGeom prst="rightArrowCallout">
            <a:avLst>
              <a:gd name="adj1" fmla="val 25002"/>
              <a:gd name="adj2" fmla="val 25000"/>
              <a:gd name="adj3" fmla="val -22055"/>
              <a:gd name="adj4" fmla="val 64977"/>
            </a:avLst>
          </a:prstGeom>
          <a:gradFill rotWithShape="0">
            <a:gsLst>
              <a:gs pos="0">
                <a:srgbClr val="d6b19c"/>
              </a:gs>
              <a:gs pos="100000">
                <a:srgbClr val="663012"/>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Box 2"/>
          <p:cNvSpPr/>
          <p:nvPr/>
        </p:nvSpPr>
        <p:spPr>
          <a:xfrm>
            <a:off x="714240" y="1071720"/>
            <a:ext cx="492948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0000"/>
                </a:solidFill>
                <a:latin typeface="Arial"/>
              </a:rPr>
              <a:t>Методик </a:t>
            </a:r>
            <a:r>
              <a:rPr b="1" lang="ru-RU" sz="2800" spc="-1" strike="noStrike">
                <a:solidFill>
                  <a:srgbClr val="000000"/>
                </a:solidFill>
                <a:latin typeface="Arial"/>
              </a:rPr>
              <a:t>талаблар</a:t>
            </a:r>
            <a:r>
              <a:rPr b="0" lang="ru-RU" sz="2800" spc="-1" strike="noStrike">
                <a:solidFill>
                  <a:srgbClr val="000000"/>
                </a:solidFill>
                <a:latin typeface="Arial"/>
              </a:rPr>
              <a:t> ЭЎММга мўлжалланган  ўқув фанининг ўзига хослиги ва хусусиятларини, унинг қонуниятларини изланиш усулларини, ахборотга ишлов беришнинг замонавий усулларини жорий қилиш имкониятларини ҳисобга олишни кўзда тутад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Скругленный прямоугольник 1"/>
          <p:cNvSpPr/>
          <p:nvPr/>
        </p:nvSpPr>
        <p:spPr>
          <a:xfrm>
            <a:off x="179280" y="27000"/>
            <a:ext cx="8712360" cy="880920"/>
          </a:xfrm>
          <a:prstGeom prst="roundRect">
            <a:avLst>
              <a:gd name="adj" fmla="val 16667"/>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Black"/>
              </a:rPr>
              <a:t>ЭЎА ўз ичига мажбурий ва қўшимча қисмларини қамраб олади.</a:t>
            </a:r>
            <a:endParaRPr b="0" lang="en-US" sz="2800" spc="-1" strike="noStrike">
              <a:solidFill>
                <a:srgbClr val="000000"/>
              </a:solidFill>
              <a:latin typeface="Arial"/>
            </a:endParaRPr>
          </a:p>
        </p:txBody>
      </p:sp>
      <p:pic>
        <p:nvPicPr>
          <p:cNvPr id="859" name="Схема 7" descr=""/>
          <p:cNvPicPr/>
          <p:nvPr/>
        </p:nvPicPr>
        <p:blipFill>
          <a:blip r:embed="rId2"/>
          <a:stretch/>
        </p:blipFill>
        <p:spPr>
          <a:xfrm>
            <a:off x="828720" y="1474920"/>
            <a:ext cx="7413480" cy="510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0" name="Схема 1" descr=""/>
          <p:cNvPicPr/>
          <p:nvPr/>
        </p:nvPicPr>
        <p:blipFill>
          <a:blip r:embed="rId1"/>
          <a:stretch/>
        </p:blipFill>
        <p:spPr>
          <a:xfrm>
            <a:off x="1073160" y="360360"/>
            <a:ext cx="7778880" cy="616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TextBox 1"/>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Times New Roman"/>
                <a:ea typeface="Times New Roman"/>
              </a:rPr>
              <a:t>ЭЛЕКТРОН ДАРСЛИК ЯРАТИШДА ҚУЙИДАГИ ПРИНЦИПЛАРГА АСОСЛАНИШ ЛОЗИ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Шестиугольник 2"/>
          <p:cNvSpPr/>
          <p:nvPr/>
        </p:nvSpPr>
        <p:spPr>
          <a:xfrm>
            <a:off x="250920" y="981000"/>
            <a:ext cx="2160360" cy="1656000"/>
          </a:xfrm>
          <a:prstGeom prst="hexagon">
            <a:avLst>
              <a:gd name="adj" fmla="val 2499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КВАНТЛАШ ПРИНЦИП</a:t>
            </a:r>
            <a:endParaRPr b="0" lang="en-US" sz="1700" spc="-1" strike="noStrike">
              <a:solidFill>
                <a:srgbClr val="000000"/>
              </a:solidFill>
              <a:latin typeface="Arial"/>
            </a:endParaRPr>
          </a:p>
        </p:txBody>
      </p:sp>
      <p:sp>
        <p:nvSpPr>
          <p:cNvPr id="863" name="Шестиугольник 3"/>
          <p:cNvSpPr/>
          <p:nvPr/>
        </p:nvSpPr>
        <p:spPr>
          <a:xfrm>
            <a:off x="6300720" y="5013360"/>
            <a:ext cx="2158920" cy="1655640"/>
          </a:xfrm>
          <a:prstGeom prst="hexagon">
            <a:avLst>
              <a:gd name="adj" fmla="val 24999"/>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p:txBody>
      </p:sp>
      <p:sp>
        <p:nvSpPr>
          <p:cNvPr id="864" name="Шестиугольник 4"/>
          <p:cNvSpPr/>
          <p:nvPr/>
        </p:nvSpPr>
        <p:spPr>
          <a:xfrm>
            <a:off x="6804000" y="2997360"/>
            <a:ext cx="2160720" cy="1655640"/>
          </a:xfrm>
          <a:prstGeom prst="hexagon">
            <a:avLst>
              <a:gd name="adj" fmla="val 2500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p:txBody>
      </p:sp>
      <p:sp>
        <p:nvSpPr>
          <p:cNvPr id="865" name="Шестиугольник 5"/>
          <p:cNvSpPr/>
          <p:nvPr/>
        </p:nvSpPr>
        <p:spPr>
          <a:xfrm>
            <a:off x="6300720" y="1052640"/>
            <a:ext cx="2374920" cy="1655640"/>
          </a:xfrm>
          <a:prstGeom prst="hexagon">
            <a:avLst>
              <a:gd name="adj" fmla="val 25003"/>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МОДЕЛЛАШ</a:t>
            </a:r>
            <a:r>
              <a:rPr b="1" lang="en-US" sz="1800" spc="-1" strike="noStrike">
                <a:solidFill>
                  <a:srgbClr val="ffffff"/>
                </a:solidFill>
                <a:latin typeface="Times New Roman"/>
                <a:ea typeface="Times New Roman"/>
              </a:rPr>
              <a:t>-</a:t>
            </a:r>
            <a:r>
              <a:rPr b="1" lang="uz-Cyrl-UZ" sz="1800" spc="-1" strike="noStrike">
                <a:solidFill>
                  <a:srgbClr val="ffffff"/>
                </a:solidFill>
                <a:latin typeface="Times New Roman"/>
                <a:ea typeface="Times New Roman"/>
              </a:rPr>
              <a:t>ТИРИШ ПРИНЦИПИ</a:t>
            </a:r>
            <a:endParaRPr b="0" lang="en-US" sz="1800" spc="-1" strike="noStrike">
              <a:solidFill>
                <a:srgbClr val="000000"/>
              </a:solidFill>
              <a:latin typeface="Arial"/>
            </a:endParaRPr>
          </a:p>
        </p:txBody>
      </p:sp>
      <p:sp>
        <p:nvSpPr>
          <p:cNvPr id="866" name="Шестиугольник 6"/>
          <p:cNvSpPr/>
          <p:nvPr/>
        </p:nvSpPr>
        <p:spPr>
          <a:xfrm>
            <a:off x="0" y="3068640"/>
            <a:ext cx="2160720" cy="1655640"/>
          </a:xfrm>
          <a:prstGeom prst="hexagon">
            <a:avLst>
              <a:gd name="adj" fmla="val 25002"/>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ПЛАШ ПРИНЦИПИ</a:t>
            </a:r>
            <a:endParaRPr b="0" lang="en-US" sz="1700" spc="-1" strike="noStrike">
              <a:solidFill>
                <a:srgbClr val="000000"/>
              </a:solidFill>
              <a:latin typeface="Arial"/>
            </a:endParaRPr>
          </a:p>
        </p:txBody>
      </p:sp>
      <p:sp>
        <p:nvSpPr>
          <p:cNvPr id="867" name="Шестиугольник 7"/>
          <p:cNvSpPr/>
          <p:nvPr/>
        </p:nvSpPr>
        <p:spPr>
          <a:xfrm>
            <a:off x="395280" y="5013360"/>
            <a:ext cx="2232000" cy="1655640"/>
          </a:xfrm>
          <a:prstGeom prst="hexagon">
            <a:avLst>
              <a:gd name="adj" fmla="val 2500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p:txBody>
      </p:sp>
      <p:sp>
        <p:nvSpPr>
          <p:cNvPr id="868" name="Шестиугольник 8"/>
          <p:cNvSpPr/>
          <p:nvPr/>
        </p:nvSpPr>
        <p:spPr>
          <a:xfrm>
            <a:off x="3203640" y="907920"/>
            <a:ext cx="2160360" cy="1657440"/>
          </a:xfrm>
          <a:prstGeom prst="hexagon">
            <a:avLst>
              <a:gd name="adj" fmla="val 24994"/>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sp>
        <p:nvSpPr>
          <p:cNvPr id="869" name="Шестиугольник 9"/>
          <p:cNvSpPr/>
          <p:nvPr/>
        </p:nvSpPr>
        <p:spPr>
          <a:xfrm>
            <a:off x="3276720" y="4941720"/>
            <a:ext cx="2519280" cy="1656000"/>
          </a:xfrm>
          <a:prstGeom prst="hexagon">
            <a:avLst>
              <a:gd name="adj" fmla="val 24996"/>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p:txBody>
      </p:sp>
      <p:sp>
        <p:nvSpPr>
          <p:cNvPr id="870" name="Овал 10"/>
          <p:cNvSpPr/>
          <p:nvPr/>
        </p:nvSpPr>
        <p:spPr>
          <a:xfrm>
            <a:off x="2843280" y="3068640"/>
            <a:ext cx="3097080" cy="1368360"/>
          </a:xfrm>
          <a:prstGeom prst="ellipse">
            <a:avLst/>
          </a:pr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ЭЛЕКТРОН ДАРСЛИКЛАРНИ ЯРАТИШ ПРИНЦИПЛАРИ</a:t>
            </a:r>
            <a:endParaRPr b="0" lang="en-US" sz="1800" spc="-1" strike="noStrike">
              <a:solidFill>
                <a:srgbClr val="000000"/>
              </a:solidFill>
              <a:latin typeface="Arial"/>
            </a:endParaRPr>
          </a:p>
        </p:txBody>
      </p:sp>
      <p:cxnSp>
        <p:nvCxnSpPr>
          <p:cNvPr id="871" name="Прямая со стрелкой 12"/>
          <p:cNvCxnSpPr/>
          <p:nvPr/>
        </p:nvCxnSpPr>
        <p:spPr>
          <a:xfrm>
            <a:off x="2195640" y="2276640"/>
            <a:ext cx="987840" cy="987840"/>
          </a:xfrm>
          <a:prstGeom prst="straightConnector1">
            <a:avLst/>
          </a:prstGeom>
          <a:ln w="44280">
            <a:solidFill>
              <a:srgbClr val="b6dcdf"/>
            </a:solidFill>
            <a:miter/>
            <a:headEnd len="med" type="stealth" w="med"/>
          </a:ln>
        </p:spPr>
      </p:cxnSp>
      <p:cxnSp>
        <p:nvCxnSpPr>
          <p:cNvPr id="872" name="Прямая со стрелкой 14"/>
          <p:cNvCxnSpPr>
            <a:endCxn id="870" idx="0"/>
          </p:cNvCxnSpPr>
          <p:nvPr/>
        </p:nvCxnSpPr>
        <p:spPr>
          <a:xfrm>
            <a:off x="4356000" y="2565360"/>
            <a:ext cx="37440" cy="504000"/>
          </a:xfrm>
          <a:prstGeom prst="straightConnector1">
            <a:avLst/>
          </a:prstGeom>
          <a:ln w="44280">
            <a:solidFill>
              <a:srgbClr val="b6dcdf"/>
            </a:solidFill>
            <a:miter/>
            <a:headEnd len="med" type="stealth" w="med"/>
          </a:ln>
        </p:spPr>
      </p:cxnSp>
      <p:cxnSp>
        <p:nvCxnSpPr>
          <p:cNvPr id="873" name="Прямая со стрелкой 15"/>
          <p:cNvCxnSpPr/>
          <p:nvPr/>
        </p:nvCxnSpPr>
        <p:spPr>
          <a:xfrm flipV="1">
            <a:off x="4427640" y="4436640"/>
            <a:ext cx="2160" cy="432720"/>
          </a:xfrm>
          <a:prstGeom prst="straightConnector1">
            <a:avLst/>
          </a:prstGeom>
          <a:ln w="44280">
            <a:solidFill>
              <a:srgbClr val="b6dcdf"/>
            </a:solidFill>
            <a:miter/>
            <a:headEnd len="med" type="stealth" w="med"/>
          </a:ln>
        </p:spPr>
      </p:cxnSp>
      <p:cxnSp>
        <p:nvCxnSpPr>
          <p:cNvPr id="874" name="Прямая со стрелкой 16"/>
          <p:cNvCxnSpPr/>
          <p:nvPr/>
        </p:nvCxnSpPr>
        <p:spPr>
          <a:xfrm flipH="1" flipV="1">
            <a:off x="5650920" y="4149000"/>
            <a:ext cx="865800" cy="1080360"/>
          </a:xfrm>
          <a:prstGeom prst="straightConnector1">
            <a:avLst/>
          </a:prstGeom>
          <a:ln w="44280">
            <a:solidFill>
              <a:srgbClr val="b6dcdf"/>
            </a:solidFill>
            <a:miter/>
            <a:headEnd len="med" type="stealth" w="med"/>
          </a:ln>
        </p:spPr>
      </p:cxnSp>
      <p:cxnSp>
        <p:nvCxnSpPr>
          <p:cNvPr id="875" name="Прямая со стрелкой 17"/>
          <p:cNvCxnSpPr>
            <a:endCxn id="870" idx="3"/>
          </p:cNvCxnSpPr>
          <p:nvPr/>
        </p:nvCxnSpPr>
        <p:spPr>
          <a:xfrm flipV="1">
            <a:off x="2484360" y="4236840"/>
            <a:ext cx="813600" cy="1064160"/>
          </a:xfrm>
          <a:prstGeom prst="straightConnector1">
            <a:avLst/>
          </a:prstGeom>
          <a:ln w="44280">
            <a:solidFill>
              <a:srgbClr val="b6dcdf"/>
            </a:solidFill>
            <a:miter/>
            <a:headEnd len="med" type="stealth" w="med"/>
          </a:ln>
        </p:spPr>
      </p:cxnSp>
      <p:cxnSp>
        <p:nvCxnSpPr>
          <p:cNvPr id="876" name="Прямая со стрелкой 18"/>
          <p:cNvCxnSpPr>
            <a:endCxn id="870" idx="7"/>
          </p:cNvCxnSpPr>
          <p:nvPr/>
        </p:nvCxnSpPr>
        <p:spPr>
          <a:xfrm flipH="1">
            <a:off x="5485680" y="2204640"/>
            <a:ext cx="957960" cy="1064520"/>
          </a:xfrm>
          <a:prstGeom prst="straightConnector1">
            <a:avLst/>
          </a:prstGeom>
          <a:ln w="44280">
            <a:solidFill>
              <a:srgbClr val="b6dcdf"/>
            </a:solidFill>
            <a:miter/>
            <a:headEnd len="med" type="stealth" w="med"/>
          </a:ln>
        </p:spPr>
      </p:cxnSp>
      <p:cxnSp>
        <p:nvCxnSpPr>
          <p:cNvPr id="877" name="Прямая со стрелкой 38"/>
          <p:cNvCxnSpPr>
            <a:stCxn id="866" idx="2"/>
          </p:cNvCxnSpPr>
          <p:nvPr/>
        </p:nvCxnSpPr>
        <p:spPr>
          <a:xfrm flipV="1">
            <a:off x="2160360" y="3861720"/>
            <a:ext cx="611640" cy="35640"/>
          </a:xfrm>
          <a:prstGeom prst="straightConnector1">
            <a:avLst/>
          </a:prstGeom>
          <a:ln w="44280">
            <a:solidFill>
              <a:srgbClr val="b6dcdf"/>
            </a:solidFill>
            <a:miter/>
            <a:headEnd len="med" type="stealth" w="med"/>
          </a:ln>
        </p:spPr>
      </p:cxnSp>
      <p:cxnSp>
        <p:nvCxnSpPr>
          <p:cNvPr id="878" name="Прямая со стрелкой 43"/>
          <p:cNvCxnSpPr/>
          <p:nvPr/>
        </p:nvCxnSpPr>
        <p:spPr>
          <a:xfrm flipH="1" flipV="1">
            <a:off x="6011640" y="3789000"/>
            <a:ext cx="721440" cy="2160"/>
          </a:xfrm>
          <a:prstGeom prst="straightConnector1">
            <a:avLst/>
          </a:prstGeom>
          <a:ln w="44280">
            <a:solidFill>
              <a:srgbClr val="b6dcdf"/>
            </a:solidFill>
            <a:miter/>
            <a:headEnd len="med" type="stealth" w="med"/>
          </a:ln>
        </p:spPr>
      </p:cxnSp>
      <p:sp>
        <p:nvSpPr>
          <p:cNvPr id="879" name="Шестиугольник 19"/>
          <p:cNvSpPr/>
          <p:nvPr/>
        </p:nvSpPr>
        <p:spPr>
          <a:xfrm>
            <a:off x="212760" y="896760"/>
            <a:ext cx="2160720" cy="1656000"/>
          </a:xfrm>
          <a:prstGeom prst="hexagon">
            <a:avLst>
              <a:gd name="adj" fmla="val 24996"/>
              <a:gd name="vf" fmla="val 115470"/>
            </a:avLst>
          </a:prstGeom>
          <a:blipFill rotWithShape="0">
            <a:blip r:embed="rId3"/>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КВАНТЛАШ ПРИНЦИП</a:t>
            </a:r>
            <a:endParaRPr b="0" lang="en-US" sz="1700" spc="-1" strike="noStrike">
              <a:solidFill>
                <a:srgbClr val="000000"/>
              </a:solidFill>
              <a:latin typeface="Arial"/>
            </a:endParaRPr>
          </a:p>
        </p:txBody>
      </p:sp>
      <p:sp>
        <p:nvSpPr>
          <p:cNvPr id="880" name="Шестиугольник 20"/>
          <p:cNvSpPr/>
          <p:nvPr/>
        </p:nvSpPr>
        <p:spPr>
          <a:xfrm>
            <a:off x="6262560" y="4929120"/>
            <a:ext cx="2159280" cy="1656000"/>
          </a:xfrm>
          <a:prstGeom prst="hexagon">
            <a:avLst>
              <a:gd name="adj" fmla="val 24997"/>
              <a:gd name="vf" fmla="val 115470"/>
            </a:avLst>
          </a:prstGeom>
          <a:blipFill rotWithShape="0">
            <a:blip r:embed="rId4"/>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p:txBody>
      </p:sp>
      <p:sp>
        <p:nvSpPr>
          <p:cNvPr id="881" name="Шестиугольник 21"/>
          <p:cNvSpPr/>
          <p:nvPr/>
        </p:nvSpPr>
        <p:spPr>
          <a:xfrm>
            <a:off x="6765840" y="2913120"/>
            <a:ext cx="2160720" cy="1655640"/>
          </a:xfrm>
          <a:prstGeom prst="hexagon">
            <a:avLst>
              <a:gd name="adj" fmla="val 25002"/>
              <a:gd name="vf" fmla="val 115470"/>
            </a:avLst>
          </a:prstGeom>
          <a:blipFill rotWithShape="0">
            <a:blip r:embed="rId5"/>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p:txBody>
      </p:sp>
      <p:sp>
        <p:nvSpPr>
          <p:cNvPr id="882" name="Шестиугольник 22"/>
          <p:cNvSpPr/>
          <p:nvPr/>
        </p:nvSpPr>
        <p:spPr>
          <a:xfrm>
            <a:off x="6262560" y="968400"/>
            <a:ext cx="2374920" cy="1655640"/>
          </a:xfrm>
          <a:prstGeom prst="hexagon">
            <a:avLst>
              <a:gd name="adj" fmla="val 25003"/>
              <a:gd name="vf" fmla="val 115470"/>
            </a:avLst>
          </a:prstGeom>
          <a:blipFill rotWithShape="0">
            <a:blip r:embed="rId6"/>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МОДЕЛЛАШ</a:t>
            </a:r>
            <a:r>
              <a:rPr b="1" lang="en-US" sz="1800" spc="-1" strike="noStrike">
                <a:solidFill>
                  <a:srgbClr val="ffffff"/>
                </a:solidFill>
                <a:latin typeface="Times New Roman"/>
                <a:ea typeface="Times New Roman"/>
              </a:rPr>
              <a:t>-</a:t>
            </a:r>
            <a:r>
              <a:rPr b="1" lang="uz-Cyrl-UZ" sz="1800" spc="-1" strike="noStrike">
                <a:solidFill>
                  <a:srgbClr val="ffffff"/>
                </a:solidFill>
                <a:latin typeface="Times New Roman"/>
                <a:ea typeface="Times New Roman"/>
              </a:rPr>
              <a:t>ТИРИШ ПРИНЦИПИ</a:t>
            </a:r>
            <a:endParaRPr b="0" lang="en-US" sz="1800" spc="-1" strike="noStrike">
              <a:solidFill>
                <a:srgbClr val="000000"/>
              </a:solidFill>
              <a:latin typeface="Arial"/>
            </a:endParaRPr>
          </a:p>
        </p:txBody>
      </p:sp>
      <p:sp>
        <p:nvSpPr>
          <p:cNvPr id="883" name="Шестиугольник 23"/>
          <p:cNvSpPr/>
          <p:nvPr/>
        </p:nvSpPr>
        <p:spPr>
          <a:xfrm>
            <a:off x="357120" y="4929120"/>
            <a:ext cx="2232000" cy="1656000"/>
          </a:xfrm>
          <a:prstGeom prst="hexagon">
            <a:avLst>
              <a:gd name="adj" fmla="val 24997"/>
              <a:gd name="vf" fmla="val 115470"/>
            </a:avLst>
          </a:prstGeom>
          <a:blipFill rotWithShape="0">
            <a:blip r:embed="rId7"/>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p:txBody>
      </p:sp>
      <p:sp>
        <p:nvSpPr>
          <p:cNvPr id="884" name="Шестиугольник 24"/>
          <p:cNvSpPr/>
          <p:nvPr/>
        </p:nvSpPr>
        <p:spPr>
          <a:xfrm>
            <a:off x="3165480" y="824040"/>
            <a:ext cx="2160720" cy="1657080"/>
          </a:xfrm>
          <a:prstGeom prst="hexagon">
            <a:avLst>
              <a:gd name="adj" fmla="val 25004"/>
              <a:gd name="vf" fmla="val 115470"/>
            </a:avLst>
          </a:prstGeom>
          <a:blipFill rotWithShape="0">
            <a:blip r:embed="rId8"/>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sp>
        <p:nvSpPr>
          <p:cNvPr id="885" name="Шестиугольник 25"/>
          <p:cNvSpPr/>
          <p:nvPr/>
        </p:nvSpPr>
        <p:spPr>
          <a:xfrm>
            <a:off x="3238560" y="4857840"/>
            <a:ext cx="2519280" cy="1655640"/>
          </a:xfrm>
          <a:prstGeom prst="hexagon">
            <a:avLst>
              <a:gd name="adj" fmla="val 25001"/>
              <a:gd name="vf" fmla="val 115470"/>
            </a:avLst>
          </a:prstGeom>
          <a:blipFill rotWithShape="0">
            <a:blip r:embed="rId9"/>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p:txBody>
      </p:sp>
      <p:cxnSp>
        <p:nvCxnSpPr>
          <p:cNvPr id="886" name="Прямая со стрелкой 26"/>
          <p:cNvCxnSpPr/>
          <p:nvPr/>
        </p:nvCxnSpPr>
        <p:spPr>
          <a:xfrm>
            <a:off x="2267280" y="2268000"/>
            <a:ext cx="988200" cy="988200"/>
          </a:xfrm>
          <a:prstGeom prst="straightConnector1">
            <a:avLst/>
          </a:prstGeom>
          <a:ln w="44280">
            <a:solidFill>
              <a:srgbClr val="b6dcdf"/>
            </a:solidFill>
            <a:miter/>
            <a:headEnd len="med" type="stealth" w="med"/>
          </a:ln>
        </p:spPr>
      </p:cxnSp>
      <p:cxnSp>
        <p:nvCxnSpPr>
          <p:cNvPr id="887" name="Прямая со стрелкой 27"/>
          <p:cNvCxnSpPr/>
          <p:nvPr/>
        </p:nvCxnSpPr>
        <p:spPr>
          <a:xfrm flipV="1">
            <a:off x="4500720" y="4428720"/>
            <a:ext cx="2160" cy="432720"/>
          </a:xfrm>
          <a:prstGeom prst="straightConnector1">
            <a:avLst/>
          </a:prstGeom>
          <a:ln w="44280">
            <a:solidFill>
              <a:srgbClr val="b6dcdf"/>
            </a:solidFill>
            <a:miter/>
            <a:headEnd len="med" type="stealth" w="med"/>
          </a:ln>
        </p:spPr>
      </p:cxnSp>
      <p:cxnSp>
        <p:nvCxnSpPr>
          <p:cNvPr id="888" name="Прямая со стрелкой 28"/>
          <p:cNvCxnSpPr/>
          <p:nvPr/>
        </p:nvCxnSpPr>
        <p:spPr>
          <a:xfrm flipV="1">
            <a:off x="2557440" y="4228920"/>
            <a:ext cx="813600" cy="1064160"/>
          </a:xfrm>
          <a:prstGeom prst="straightConnector1">
            <a:avLst/>
          </a:prstGeom>
          <a:ln w="44280">
            <a:solidFill>
              <a:srgbClr val="b6dcdf"/>
            </a:solidFill>
            <a:miter/>
            <a:headEnd len="med" type="stealth" w="med"/>
          </a:ln>
        </p:spPr>
      </p:cxnSp>
      <p:cxnSp>
        <p:nvCxnSpPr>
          <p:cNvPr id="889" name="Прямая со стрелкой 29"/>
          <p:cNvCxnSpPr/>
          <p:nvPr/>
        </p:nvCxnSpPr>
        <p:spPr>
          <a:xfrm flipV="1">
            <a:off x="2233440" y="3853800"/>
            <a:ext cx="612000" cy="35640"/>
          </a:xfrm>
          <a:prstGeom prst="straightConnector1">
            <a:avLst/>
          </a:prstGeom>
          <a:ln w="44280">
            <a:solidFill>
              <a:srgbClr val="b6dcdf"/>
            </a:solidFill>
            <a:miter/>
            <a:headEnd len="med" type="stealth" w="med"/>
          </a:ln>
        </p:spPr>
      </p:cxnSp>
      <p:cxnSp>
        <p:nvCxnSpPr>
          <p:cNvPr id="890" name="Прямая со стрелкой 30"/>
          <p:cNvCxnSpPr/>
          <p:nvPr/>
        </p:nvCxnSpPr>
        <p:spPr>
          <a:xfrm>
            <a:off x="4429080" y="2500200"/>
            <a:ext cx="37440" cy="504000"/>
          </a:xfrm>
          <a:prstGeom prst="straightConnector1">
            <a:avLst/>
          </a:prstGeom>
          <a:ln w="44280">
            <a:solidFill>
              <a:srgbClr val="000000"/>
            </a:solidFill>
            <a:miter/>
            <a:headEnd len="med" type="stealth" w="med"/>
          </a:ln>
        </p:spPr>
      </p:cxnSp>
      <p:cxnSp>
        <p:nvCxnSpPr>
          <p:cNvPr id="891" name="Прямая со стрелкой 31"/>
          <p:cNvCxnSpPr/>
          <p:nvPr/>
        </p:nvCxnSpPr>
        <p:spPr>
          <a:xfrm flipH="1" flipV="1">
            <a:off x="5724000" y="4083840"/>
            <a:ext cx="866160" cy="1080360"/>
          </a:xfrm>
          <a:prstGeom prst="straightConnector1">
            <a:avLst/>
          </a:prstGeom>
          <a:ln w="44280">
            <a:solidFill>
              <a:srgbClr val="000000"/>
            </a:solidFill>
            <a:miter/>
            <a:headEnd len="med" type="stealth" w="med"/>
          </a:ln>
        </p:spPr>
      </p:cxnSp>
      <p:cxnSp>
        <p:nvCxnSpPr>
          <p:cNvPr id="892" name="Прямая со стрелкой 32"/>
          <p:cNvCxnSpPr/>
          <p:nvPr/>
        </p:nvCxnSpPr>
        <p:spPr>
          <a:xfrm flipH="1">
            <a:off x="5558760" y="2139480"/>
            <a:ext cx="957960" cy="1064520"/>
          </a:xfrm>
          <a:prstGeom prst="straightConnector1">
            <a:avLst/>
          </a:prstGeom>
          <a:ln w="44280">
            <a:solidFill>
              <a:srgbClr val="000000"/>
            </a:solidFill>
            <a:miter/>
            <a:headEnd len="med" type="stealth" w="med"/>
          </a:ln>
        </p:spPr>
      </p:cxnSp>
      <p:cxnSp>
        <p:nvCxnSpPr>
          <p:cNvPr id="893" name="Прямая со стрелкой 33"/>
          <p:cNvCxnSpPr/>
          <p:nvPr/>
        </p:nvCxnSpPr>
        <p:spPr>
          <a:xfrm flipH="1" flipV="1">
            <a:off x="6084360" y="3723480"/>
            <a:ext cx="721440" cy="2520"/>
          </a:xfrm>
          <a:prstGeom prst="straightConnector1">
            <a:avLst/>
          </a:prstGeom>
          <a:ln w="44280">
            <a:solidFill>
              <a:srgbClr val="000000"/>
            </a:solidFill>
            <a:miter/>
            <a:headEnd len="med" type="stealth" w="med"/>
          </a:ln>
        </p:spPr>
      </p:cxnSp>
      <p:cxnSp>
        <p:nvCxnSpPr>
          <p:cNvPr id="894" name="Прямая со стрелкой 34"/>
          <p:cNvCxnSpPr/>
          <p:nvPr/>
        </p:nvCxnSpPr>
        <p:spPr>
          <a:xfrm>
            <a:off x="2340360" y="2203200"/>
            <a:ext cx="988200" cy="988200"/>
          </a:xfrm>
          <a:prstGeom prst="straightConnector1">
            <a:avLst/>
          </a:prstGeom>
          <a:ln w="44280">
            <a:solidFill>
              <a:srgbClr val="000000"/>
            </a:solidFill>
            <a:miter/>
            <a:headEnd len="med" type="stealth" w="med"/>
          </a:ln>
        </p:spPr>
      </p:cxnSp>
      <p:cxnSp>
        <p:nvCxnSpPr>
          <p:cNvPr id="895" name="Прямая со стрелкой 35"/>
          <p:cNvCxnSpPr/>
          <p:nvPr/>
        </p:nvCxnSpPr>
        <p:spPr>
          <a:xfrm flipV="1">
            <a:off x="4572360" y="4363560"/>
            <a:ext cx="2520" cy="432720"/>
          </a:xfrm>
          <a:prstGeom prst="straightConnector1">
            <a:avLst/>
          </a:prstGeom>
          <a:ln w="44280">
            <a:solidFill>
              <a:srgbClr val="000000"/>
            </a:solidFill>
            <a:miter/>
            <a:headEnd len="med" type="stealth" w="med"/>
          </a:ln>
        </p:spPr>
      </p:cxnSp>
      <p:cxnSp>
        <p:nvCxnSpPr>
          <p:cNvPr id="896" name="Прямая со стрелкой 36"/>
          <p:cNvCxnSpPr/>
          <p:nvPr/>
        </p:nvCxnSpPr>
        <p:spPr>
          <a:xfrm flipV="1">
            <a:off x="2630520" y="4163760"/>
            <a:ext cx="813600" cy="1064160"/>
          </a:xfrm>
          <a:prstGeom prst="straightConnector1">
            <a:avLst/>
          </a:prstGeom>
          <a:ln w="44280">
            <a:solidFill>
              <a:srgbClr val="000000"/>
            </a:solidFill>
            <a:miter/>
            <a:headEnd len="med" type="stealth" w="med"/>
          </a:ln>
        </p:spPr>
      </p:cxnSp>
      <p:cxnSp>
        <p:nvCxnSpPr>
          <p:cNvPr id="897" name="Прямая со стрелкой 37"/>
          <p:cNvCxnSpPr/>
          <p:nvPr/>
        </p:nvCxnSpPr>
        <p:spPr>
          <a:xfrm flipV="1">
            <a:off x="2306520" y="3788640"/>
            <a:ext cx="612000" cy="35640"/>
          </a:xfrm>
          <a:prstGeom prst="straightConnector1">
            <a:avLst/>
          </a:prstGeom>
          <a:ln w="44280">
            <a:solidFill>
              <a:srgbClr val="000000"/>
            </a:solidFill>
            <a:miter/>
            <a:headEnd len="med" type="stealth"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Times New Roman"/>
                <a:ea typeface="Times New Roman"/>
              </a:rPr>
              <a:t>КВАНТЛАШ ПРИНЦИП</a:t>
            </a:r>
            <a:endParaRPr b="0" lang="en-US" sz="2000" spc="-1" strike="noStrike">
              <a:solidFill>
                <a:srgbClr val="000000"/>
              </a:solidFill>
              <a:latin typeface="Arial"/>
            </a:endParaRPr>
          </a:p>
        </p:txBody>
      </p:sp>
      <p:cxnSp>
        <p:nvCxnSpPr>
          <p:cNvPr id="899" name="Прямая со стрелкой 12"/>
          <p:cNvCxnSpPr/>
          <p:nvPr/>
        </p:nvCxnSpPr>
        <p:spPr>
          <a:xfrm flipH="1">
            <a:off x="2770920" y="3214800"/>
            <a:ext cx="1729800" cy="18000"/>
          </a:xfrm>
          <a:prstGeom prst="straightConnector1">
            <a:avLst/>
          </a:prstGeom>
          <a:ln w="79200">
            <a:solidFill>
              <a:srgbClr val="000000"/>
            </a:solidFill>
            <a:miter/>
            <a:headEnd len="med" type="triangle" w="med"/>
          </a:ln>
        </p:spPr>
      </p:cxnSp>
      <p:sp>
        <p:nvSpPr>
          <p:cNvPr id="900" name="Скругленный прямоугольник 20"/>
          <p:cNvSpPr/>
          <p:nvPr/>
        </p:nvSpPr>
        <p:spPr>
          <a:xfrm>
            <a:off x="4427640" y="428760"/>
            <a:ext cx="4321080" cy="6000480"/>
          </a:xfrm>
          <a:custGeom>
            <a:avLst/>
            <a:gdLst>
              <a:gd name="textAreaLeft" fmla="*/ 210600 w 4321080"/>
              <a:gd name="textAreaRight" fmla="*/ 4110480 w 4321080"/>
              <a:gd name="textAreaTop" fmla="*/ 210600 h 6000480"/>
              <a:gd name="textAreaBottom" fmla="*/ 5789880 h 6000480"/>
            </a:gdLst>
            <a:ahLst/>
            <a:rect l="textAreaLeft" t="textAreaTop" r="textAreaRight" b="textAreaBottom"/>
            <a:pathLst>
              <a:path w="21600" h="29994">
                <a:moveTo>
                  <a:pt x="3600" y="0"/>
                </a:moveTo>
                <a:arcTo wR="3600" hR="3600" stAng="16200000" swAng="-5400000"/>
                <a:lnTo>
                  <a:pt x="0" y="26394"/>
                </a:lnTo>
                <a:arcTo wR="3600" hR="3600" stAng="10800000" swAng="-5400000"/>
                <a:lnTo>
                  <a:pt x="18000" y="29994"/>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ffffff"/>
                </a:solidFill>
                <a:latin typeface="Arial"/>
              </a:rPr>
              <a:t>материални мазмун жиҳатидан мустақил бўлган, ўнгали жиҳатидан кичик бўлган мазмунлардан иборат бўлакларга бўлиб ташлаш.</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cxnSp>
        <p:nvCxnSpPr>
          <p:cNvPr id="902" name="Прямая со стрелкой 12"/>
          <p:cNvCxnSpPr/>
          <p:nvPr/>
        </p:nvCxnSpPr>
        <p:spPr>
          <a:xfrm flipH="1" flipV="1">
            <a:off x="2771280" y="3214080"/>
            <a:ext cx="1301040" cy="1080"/>
          </a:xfrm>
          <a:prstGeom prst="straightConnector1">
            <a:avLst/>
          </a:prstGeom>
          <a:ln w="79200">
            <a:solidFill>
              <a:srgbClr val="000000"/>
            </a:solidFill>
            <a:miter/>
            <a:headEnd len="med" type="triangle" w="med"/>
          </a:ln>
        </p:spPr>
      </p:cxnSp>
      <p:sp>
        <p:nvSpPr>
          <p:cNvPr id="903" name="Скругленный прямоугольник 20"/>
          <p:cNvSpPr/>
          <p:nvPr/>
        </p:nvSpPr>
        <p:spPr>
          <a:xfrm>
            <a:off x="4143240" y="260280"/>
            <a:ext cx="4605480" cy="6337440"/>
          </a:xfrm>
          <a:custGeom>
            <a:avLst/>
            <a:gdLst>
              <a:gd name="textAreaLeft" fmla="*/ 224640 w 4605480"/>
              <a:gd name="textAreaRight" fmla="*/ 4380840 w 4605480"/>
              <a:gd name="textAreaTop" fmla="*/ 224640 h 6337440"/>
              <a:gd name="textAreaBottom" fmla="*/ 6112800 h 6337440"/>
            </a:gdLst>
            <a:ahLst/>
            <a:rect l="textAreaLeft" t="textAreaTop" r="textAreaRight" b="textAreaBottom"/>
            <a:pathLst>
              <a:path w="21600" h="29722">
                <a:moveTo>
                  <a:pt x="3600" y="0"/>
                </a:moveTo>
                <a:arcTo wR="3600" hR="3600" stAng="16200000" swAng="-5400000"/>
                <a:lnTo>
                  <a:pt x="0" y="26122"/>
                </a:lnTo>
                <a:arcTo wR="3600" hR="3600" stAng="10800000" swAng="-5400000"/>
                <a:lnTo>
                  <a:pt x="18000" y="29722"/>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қуйидаги таркиб қисмларга эга бўлиши кера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арий ядро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ария бўйича назорат саволлар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исоллар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устақил ечиш учун масала ва машқлар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одел бўйича жавоблар билан биргаликда назорат саволлар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орат иш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конспект маълумот (</a:t>
            </a:r>
            <a:r>
              <a:rPr b="1" lang="en-US" sz="2400" spc="-1" strike="noStrike">
                <a:solidFill>
                  <a:srgbClr val="ffffff"/>
                </a:solidFill>
                <a:latin typeface="Arial"/>
              </a:rPr>
              <a:t>Help)</a:t>
            </a:r>
            <a:r>
              <a:rPr b="1" lang="uz-Cyrl-UZ" sz="2400" spc="-1" strike="noStrike">
                <a:solidFill>
                  <a:srgbClr val="ffffff"/>
                </a:solidFill>
                <a:latin typeface="Arial"/>
              </a:rPr>
              <a:t>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тарихий изоҳ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ffffff"/>
                </a:solidFill>
                <a:latin typeface="Times New Roman"/>
                <a:ea typeface="Times New Roman"/>
              </a:rPr>
              <a:t>МОДЕЛЛАШ</a:t>
            </a:r>
            <a:r>
              <a:rPr b="1" lang="en-US" sz="1600" spc="-1" strike="noStrike">
                <a:solidFill>
                  <a:srgbClr val="ffffff"/>
                </a:solidFill>
                <a:latin typeface="Times New Roman"/>
                <a:ea typeface="Times New Roman"/>
              </a:rPr>
              <a:t>-</a:t>
            </a:r>
            <a:r>
              <a:rPr b="1" lang="uz-Cyrl-UZ" sz="1600" spc="-1" strike="noStrike">
                <a:solidFill>
                  <a:srgbClr val="ffffff"/>
                </a:solidFill>
                <a:latin typeface="Times New Roman"/>
                <a:ea typeface="Times New Roman"/>
              </a:rPr>
              <a:t>ТИРИШ ПРИНЦИПИ</a:t>
            </a:r>
            <a:endParaRPr b="0" lang="en-US" sz="1600" spc="-1" strike="noStrike">
              <a:solidFill>
                <a:srgbClr val="000000"/>
              </a:solidFill>
              <a:latin typeface="Arial"/>
            </a:endParaRPr>
          </a:p>
        </p:txBody>
      </p:sp>
      <p:cxnSp>
        <p:nvCxnSpPr>
          <p:cNvPr id="905"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06" name="Скругленный прямоугольник 20"/>
          <p:cNvSpPr/>
          <p:nvPr/>
        </p:nvSpPr>
        <p:spPr>
          <a:xfrm>
            <a:off x="4071960" y="357120"/>
            <a:ext cx="4676760" cy="6000840"/>
          </a:xfrm>
          <a:custGeom>
            <a:avLst/>
            <a:gdLst>
              <a:gd name="textAreaLeft" fmla="*/ 228240 w 4676760"/>
              <a:gd name="textAreaRight" fmla="*/ 4448520 w 4676760"/>
              <a:gd name="textAreaTop" fmla="*/ 228240 h 6000840"/>
              <a:gd name="textAreaBottom" fmla="*/ 5772600 h 6000840"/>
            </a:gdLst>
            <a:ahLst/>
            <a:rect l="textAreaLeft" t="textAreaTop" r="textAreaRight" b="textAreaBottom"/>
            <a:pathLst>
              <a:path w="21600" h="27715">
                <a:moveTo>
                  <a:pt x="3600" y="0"/>
                </a:moveTo>
                <a:arcTo wR="3600" hR="3600" stAng="16200000" swAng="-5400000"/>
                <a:lnTo>
                  <a:pt x="0" y="24115"/>
                </a:lnTo>
                <a:arcTo wR="3600" hR="3600" stAng="10800000" swAng="-5400000"/>
                <a:lnTo>
                  <a:pt x="18000" y="27715"/>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янги тушунча усул ва таърифларин тушуниш минимум матнга ва тасвирга эга бўлган кадрлар йиғиндисидан иборат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Выноска 1 5"/>
          <p:cNvSpPr/>
          <p:nvPr/>
        </p:nvSpPr>
        <p:spPr>
          <a:xfrm>
            <a:off x="1285920" y="714240"/>
            <a:ext cx="7286760" cy="5500800"/>
          </a:xfrm>
          <a:prstGeom prst="borderCallout1">
            <a:avLst>
              <a:gd name="adj1" fmla="val 18750"/>
              <a:gd name="adj2" fmla="val -8333"/>
              <a:gd name="adj3" fmla="val 92351"/>
              <a:gd name="adj4" fmla="val -10953"/>
            </a:avLst>
          </a:prstGeom>
          <a:gradFill rotWithShape="0">
            <a:gsLst>
              <a:gs pos="0">
                <a:srgbClr val="5e9eff"/>
              </a:gs>
              <a:gs pos="100000">
                <a:srgbClr val="ffebfa"/>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Box 6"/>
          <p:cNvSpPr/>
          <p:nvPr/>
        </p:nvSpPr>
        <p:spPr>
          <a:xfrm>
            <a:off x="1500120" y="1000080"/>
            <a:ext cx="68580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Ўқув-методик мажмуа (ЎММ) –</a:t>
            </a:r>
            <a:r>
              <a:rPr b="0" lang="uz-Cyrl-UZ" sz="2400" spc="-1" strike="noStrike">
                <a:solidFill>
                  <a:srgbClr val="000000"/>
                </a:solidFill>
                <a:latin typeface="Arial"/>
              </a:rPr>
              <a:t> давлат таълим стандарти ва фан дастурида белгиланган, билим, кўникма, малака ва компетенцияларни шакллантиришни, ўқув жараёнини комплекс лойиҳалаш асосида кафолатланган натижаларни олишни, мустақил билим олиш ва ўрганишни ҳамда назоратни амалга оширишни таъминлайдиган, талабанинг ижодий қобилиятларини ривожлантиришга йўналтирилган  ўқув –услубий манбалар, дидактик воситалар ва материаллар, электрон таълим ресурслари, баҳолаш методлари ва мезонларини ўз ичига олад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Шестиугольник 2"/>
          <p:cNvSpPr/>
          <p:nvPr/>
        </p:nvSpPr>
        <p:spPr>
          <a:xfrm>
            <a:off x="214200" y="2071800"/>
            <a:ext cx="2521080" cy="2160360"/>
          </a:xfrm>
          <a:prstGeom prst="hexagon">
            <a:avLst>
              <a:gd name="adj" fmla="val 25003"/>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ПЛА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08" name="Прямая со стрелкой 12"/>
          <p:cNvCxnSpPr/>
          <p:nvPr/>
        </p:nvCxnSpPr>
        <p:spPr>
          <a:xfrm flipH="1">
            <a:off x="2771280" y="3214800"/>
            <a:ext cx="1318320" cy="2160"/>
          </a:xfrm>
          <a:prstGeom prst="straightConnector1">
            <a:avLst/>
          </a:prstGeom>
          <a:ln w="79200">
            <a:solidFill>
              <a:srgbClr val="000000"/>
            </a:solidFill>
            <a:miter/>
            <a:headEnd len="med" type="stealth" w="med"/>
          </a:ln>
        </p:spPr>
      </p:cxnSp>
      <p:sp>
        <p:nvSpPr>
          <p:cNvPr id="909" name="Скругленный прямоугольник 20"/>
          <p:cNvSpPr/>
          <p:nvPr/>
        </p:nvSpPr>
        <p:spPr>
          <a:xfrm>
            <a:off x="4089240" y="260280"/>
            <a:ext cx="4803840" cy="6264360"/>
          </a:xfrm>
          <a:custGeom>
            <a:avLst/>
            <a:gdLst>
              <a:gd name="textAreaLeft" fmla="*/ 234360 w 4803840"/>
              <a:gd name="textAreaRight" fmla="*/ 4569480 w 4803840"/>
              <a:gd name="textAreaTop" fmla="*/ 234360 h 6264360"/>
              <a:gd name="textAreaBottom" fmla="*/ 6030000 h 6264360"/>
            </a:gdLst>
            <a:ahLst/>
            <a:rect l="textAreaLeft" t="textAreaTop" r="textAreaRight" b="textAreaBottom"/>
            <a:pathLst>
              <a:path w="21600" h="28167">
                <a:moveTo>
                  <a:pt x="3600" y="0"/>
                </a:moveTo>
                <a:arcTo wR="3600" hR="3600" stAng="16200000" swAng="-5400000"/>
                <a:lnTo>
                  <a:pt x="0" y="24567"/>
                </a:lnTo>
                <a:arcTo wR="3600" hR="3600" stAng="10800000" swAng="-5400000"/>
                <a:lnTo>
                  <a:pt x="18000" y="28167"/>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электрон  дарслик ва бошқа ўқув натижалари, уларни ягона электрон мажмуаларга форматларда тўплаш имкониятини берадиган форматларда бажарилиши керак, чунки  улар вақти-вақти билан кенгайтириш ва янги билимларни қўшиш имконияти бўлиш ва уларни алоҳида фанлар бўйича, ёки шахсий , ўқитувчи ва тадқиқотчилар электрон кутубхоналарига бирлаштириш имконияти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1" name="Прямая со стрелкой 12"/>
          <p:cNvCxnSpPr/>
          <p:nvPr/>
        </p:nvCxnSpPr>
        <p:spPr>
          <a:xfrm flipH="1">
            <a:off x="2771280" y="3214800"/>
            <a:ext cx="1318320" cy="2160"/>
          </a:xfrm>
          <a:prstGeom prst="straightConnector1">
            <a:avLst/>
          </a:prstGeom>
          <a:ln w="79200">
            <a:solidFill>
              <a:srgbClr val="000000"/>
            </a:solidFill>
            <a:miter/>
            <a:headEnd len="med" type="stealth" w="med"/>
          </a:ln>
        </p:spPr>
      </p:cxnSp>
      <p:sp>
        <p:nvSpPr>
          <p:cNvPr id="912" name="Скругленный прямоугольник 20"/>
          <p:cNvSpPr/>
          <p:nvPr/>
        </p:nvSpPr>
        <p:spPr>
          <a:xfrm>
            <a:off x="4143240" y="260280"/>
            <a:ext cx="4605480" cy="6121440"/>
          </a:xfrm>
          <a:custGeom>
            <a:avLst/>
            <a:gdLst>
              <a:gd name="textAreaLeft" fmla="*/ 224640 w 4605480"/>
              <a:gd name="textAreaRight" fmla="*/ 4380840 w 4605480"/>
              <a:gd name="textAreaTop" fmla="*/ 224640 h 6121440"/>
              <a:gd name="textAreaBottom" fmla="*/ 5896800 h 6121440"/>
            </a:gdLst>
            <a:ahLst/>
            <a:rect l="textAreaLeft" t="textAreaTop" r="textAreaRight" b="textAreaBottom"/>
            <a:pathLst>
              <a:path w="21600" h="28709">
                <a:moveTo>
                  <a:pt x="3600" y="0"/>
                </a:moveTo>
                <a:arcTo wR="3600" hR="3600" stAng="16200000" swAng="-5400000"/>
                <a:lnTo>
                  <a:pt x="0" y="25109"/>
                </a:lnTo>
                <a:arcTo wR="3600" hR="3600" stAng="10800000" swAng="-5400000"/>
                <a:lnTo>
                  <a:pt x="18000" y="28709"/>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бошқа моделлар билан интернет кўрсаткичлари биалн шундай боғланган бўлиши керакки, бунда фойдаланувчи бир моделдан ҳохлаганига бемалол ўтиши имконияти бўлиши керак. Тармоқланиш принципи, фанни ўрганишда кетма-кетликни амалга оширадиган ўтишларни инкор қилмайди, балки уларнинг тавсиясини тақоза қилад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4" name="Прямая со стрелкой 12"/>
          <p:cNvCxnSpPr/>
          <p:nvPr/>
        </p:nvCxnSpPr>
        <p:spPr>
          <a:xfrm flipH="1">
            <a:off x="2771280" y="3214800"/>
            <a:ext cx="1318320" cy="2160"/>
          </a:xfrm>
          <a:prstGeom prst="straightConnector1">
            <a:avLst/>
          </a:prstGeom>
          <a:ln w="79200">
            <a:solidFill>
              <a:srgbClr val="000000"/>
            </a:solidFill>
            <a:miter/>
            <a:headEnd len="med" type="stealth" w="med"/>
          </a:ln>
        </p:spPr>
      </p:cxnSp>
      <p:sp>
        <p:nvSpPr>
          <p:cNvPr id="915" name="Скругленный прямоугольник 20"/>
          <p:cNvSpPr/>
          <p:nvPr/>
        </p:nvSpPr>
        <p:spPr>
          <a:xfrm>
            <a:off x="4089240" y="260280"/>
            <a:ext cx="5054760" cy="6048360"/>
          </a:xfrm>
          <a:custGeom>
            <a:avLst/>
            <a:gdLst>
              <a:gd name="textAreaLeft" fmla="*/ 246600 w 5054760"/>
              <a:gd name="textAreaRight" fmla="*/ 4808160 w 5054760"/>
              <a:gd name="textAreaTop" fmla="*/ 246600 h 6048360"/>
              <a:gd name="textAreaBottom" fmla="*/ 5801760 h 6048360"/>
            </a:gdLst>
            <a:ahLst/>
            <a:rect l="textAreaLeft" t="textAreaTop" r="textAreaRight" b="textAreaBottom"/>
            <a:pathLst>
              <a:path w="21600" h="25846">
                <a:moveTo>
                  <a:pt x="3600" y="0"/>
                </a:moveTo>
                <a:arcTo wR="3600" hR="3600" stAng="16200000" swAng="-5400000"/>
                <a:lnTo>
                  <a:pt x="0" y="22246"/>
                </a:lnTo>
                <a:arcTo wR="3600" hR="3600" stAng="10800000" swAng="-5400000"/>
                <a:lnTo>
                  <a:pt x="18000" y="25846"/>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ўқувчи ҳохлаган вақтда компьютердан ўзи зрганаётган материални тушуниш учун       зеркали ва қийин бўлган кўп сонли мисолларни кўриб чиқиш ва масалаларни ечиш заруриятидан озод қилади. Компьютер нафақат катта хажмдаги мисолларни ечиб қолмай, графиклар тузади. Ҳар қандай мураккабликдаги математик операцияларни бажаради ва натижаларни ҳохлаган босқичда текширад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Шестиугольник 2"/>
          <p:cNvSpPr/>
          <p:nvPr/>
        </p:nvSpPr>
        <p:spPr>
          <a:xfrm>
            <a:off x="108000" y="2133720"/>
            <a:ext cx="2663640" cy="2158920"/>
          </a:xfrm>
          <a:prstGeom prst="hexagon">
            <a:avLst>
              <a:gd name="adj" fmla="val 25001"/>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7" name="Прямая со стрелкой 12"/>
          <p:cNvCxnSpPr/>
          <p:nvPr/>
        </p:nvCxnSpPr>
        <p:spPr>
          <a:xfrm flipH="1">
            <a:off x="2771280" y="3214800"/>
            <a:ext cx="1318320" cy="2160"/>
          </a:xfrm>
          <a:prstGeom prst="straightConnector1">
            <a:avLst/>
          </a:prstGeom>
          <a:ln w="79200">
            <a:solidFill>
              <a:srgbClr val="000000"/>
            </a:solidFill>
            <a:miter/>
            <a:headEnd len="med" type="stealth" w="med"/>
          </a:ln>
        </p:spPr>
      </p:cxnSp>
      <p:sp>
        <p:nvSpPr>
          <p:cNvPr id="918" name="Скругленный прямоугольник 20"/>
          <p:cNvSpPr/>
          <p:nvPr/>
        </p:nvSpPr>
        <p:spPr>
          <a:xfrm>
            <a:off x="4089240" y="620640"/>
            <a:ext cx="4659480" cy="5329440"/>
          </a:xfrm>
          <a:custGeom>
            <a:avLst/>
            <a:gdLst>
              <a:gd name="textAreaLeft" fmla="*/ 227160 w 4659480"/>
              <a:gd name="textAreaRight" fmla="*/ 4432320 w 4659480"/>
              <a:gd name="textAreaTop" fmla="*/ 227160 h 5329440"/>
              <a:gd name="textAreaBottom" fmla="*/ 5102280 h 5329440"/>
            </a:gdLst>
            <a:ahLst/>
            <a:rect l="textAreaLeft" t="textAreaTop" r="textAreaRight" b="textAreaBottom"/>
            <a:pathLst>
              <a:path w="21600" h="24706">
                <a:moveTo>
                  <a:pt x="3600" y="0"/>
                </a:moveTo>
                <a:arcTo wR="3600" hR="3600" stAng="16200000" swAng="-5400000"/>
                <a:lnTo>
                  <a:pt x="0" y="21106"/>
                </a:lnTo>
                <a:arcTo wR="3600" hR="3600" stAng="10800000" swAng="-5400000"/>
                <a:lnTo>
                  <a:pt x="18000" y="24706"/>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электрон дарслик аниқ фойдаланувчи заруриятига мослашишга (адантатив) имконияти яратиши керак, яъни ўқувчининг келажакда оладиган мутахассислигига қараб, ўрганаётган материаллар мураккаблик ва чуқурлик даражасини ва амалий йўналишини ҳисобга олиб танлаш ва ўзгартириш имкониятига эга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20" name="Прямая со стрелкой 12"/>
          <p:cNvCxnSpPr/>
          <p:nvPr/>
        </p:nvCxnSpPr>
        <p:spPr>
          <a:xfrm flipH="1">
            <a:off x="2771280" y="3214800"/>
            <a:ext cx="1318320" cy="2160"/>
          </a:xfrm>
          <a:prstGeom prst="straightConnector1">
            <a:avLst/>
          </a:prstGeom>
          <a:ln w="79200">
            <a:solidFill>
              <a:srgbClr val="000000"/>
            </a:solidFill>
            <a:miter/>
            <a:headEnd len="med" type="stealth" w="med"/>
          </a:ln>
        </p:spPr>
      </p:cxnSp>
      <p:sp>
        <p:nvSpPr>
          <p:cNvPr id="921" name="Скругленный прямоугольник 20"/>
          <p:cNvSpPr/>
          <p:nvPr/>
        </p:nvSpPr>
        <p:spPr>
          <a:xfrm>
            <a:off x="4089240" y="549360"/>
            <a:ext cx="4659480" cy="5616360"/>
          </a:xfrm>
          <a:custGeom>
            <a:avLst/>
            <a:gdLst>
              <a:gd name="textAreaLeft" fmla="*/ 227160 w 4659480"/>
              <a:gd name="textAreaRight" fmla="*/ 4432320 w 4659480"/>
              <a:gd name="textAreaTop" fmla="*/ 227160 h 5616360"/>
              <a:gd name="textAreaBottom" fmla="*/ 5389200 h 5616360"/>
            </a:gdLst>
            <a:ahLst/>
            <a:rect l="textAreaLeft" t="textAreaTop" r="textAreaRight" b="textAreaBottom"/>
            <a:pathLst>
              <a:path w="21600" h="26035">
                <a:moveTo>
                  <a:pt x="3600" y="0"/>
                </a:moveTo>
                <a:arcTo wR="3600" hR="3600" stAng="16200000" swAng="-5400000"/>
                <a:lnTo>
                  <a:pt x="0" y="22435"/>
                </a:lnTo>
                <a:arcTo wR="3600" hR="3600" stAng="10800000" swAng="-5400000"/>
                <a:lnTo>
                  <a:pt x="18000" y="26035"/>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Times New Roman"/>
                <a:ea typeface="Microsoft JhengHei"/>
              </a:rPr>
              <a:t>Ўқувчи мустақил равишда кадрларни алмаштиришни бошқаради, экранга ҳохлаган сондаги мисолларни экранга чиқариш ўқитувчи белгилаган ёки ўзи танлаган даражадаги мураккабликка эга бўлган мисолларни ечиш, назорат саволларига жавоб бериб ва берилган мураккабдаги назорат ишини бажариб ўзини текшириши мумкин.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428760" y="2571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00"/>
                </a:solidFill>
                <a:latin typeface="Times New Roman"/>
                <a:ea typeface="Times New Roman"/>
              </a:rPr>
              <a:t>Таянч сўзлар:</a:t>
            </a:r>
            <a:r>
              <a:rPr b="0" lang="uz-Cyrl-UZ" sz="4000" spc="-1" strike="noStrike">
                <a:solidFill>
                  <a:srgbClr val="000000"/>
                </a:solidFill>
                <a:latin typeface="Times New Roman"/>
                <a:ea typeface="Times New Roman"/>
              </a:rPr>
              <a:t> УММ, электрон УММ,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дарслик,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ўқув қўлланма,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методик қўлланма, электрон тестлар, электрон глоссарий, виртуал стенд, виртуал лаборатория, видеомаъруза.</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2876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зорат саволлари</a:t>
            </a:r>
            <a:endParaRPr b="0" lang="en-US" sz="4400" spc="-1" strike="noStrike">
              <a:solidFill>
                <a:srgbClr val="000000"/>
              </a:solidFill>
              <a:latin typeface="Arial"/>
            </a:endParaRPr>
          </a:p>
        </p:txBody>
      </p:sp>
      <p:sp>
        <p:nvSpPr>
          <p:cNvPr id="924" name="PlaceHolder 2"/>
          <p:cNvSpPr>
            <a:spLocks noGrp="1"/>
          </p:cNvSpPr>
          <p:nvPr>
            <p:ph/>
          </p:nvPr>
        </p:nvSpPr>
        <p:spPr>
          <a:xfrm>
            <a:off x="285840" y="785880"/>
            <a:ext cx="8462880" cy="581184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Фаннинг ўқув-методик мажмуасини компонентларини санаб утинг.</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Фаннинг электрон ўқув-методик мажмуаси деганда нимани тушунасиз?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Электрон ўқув-методик мажмуасини ишлаб чиқишга қўйиладиган дидактик талаблари ҳақида гарипиб беринг. </a:t>
            </a:r>
            <a:br>
              <a:rPr sz="2800"/>
            </a:br>
            <a:r>
              <a:rPr b="0" lang="uz-Cyrl-UZ" sz="2800" spc="-1" strike="noStrike">
                <a:solidFill>
                  <a:srgbClr val="000000"/>
                </a:solidFill>
                <a:latin typeface="Times New Roman"/>
                <a:ea typeface="Times New Roman"/>
              </a:rPr>
              <a:t>Электрон ўқув-методик мажмуасини ишлаб чиқишга қўйиладиган методик талаблари ҳақида гарипиб берин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0000"/>
                </a:solidFill>
                <a:latin typeface="Arial"/>
              </a:rPr>
              <a:t>Асосий адабиётлар</a:t>
            </a:r>
            <a:r>
              <a:rPr b="1" lang="ru-RU" sz="3600" spc="-1" strike="noStrike">
                <a:solidFill>
                  <a:srgbClr val="000000"/>
                </a:solidFill>
                <a:latin typeface="Arial"/>
              </a:rPr>
              <a:t>:</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926" name="PlaceHolder 2"/>
          <p:cNvSpPr>
            <a:spLocks noGrp="1"/>
          </p:cNvSpPr>
          <p:nvPr>
            <p:ph/>
          </p:nvPr>
        </p:nvSpPr>
        <p:spPr>
          <a:xfrm>
            <a:off x="500040" y="1712880"/>
            <a:ext cx="8229600" cy="4145040"/>
          </a:xfrm>
          <a:prstGeom prst="rect">
            <a:avLst/>
          </a:prstGeom>
          <a:noFill/>
          <a:ln w="0">
            <a:noFill/>
          </a:ln>
        </p:spPr>
        <p:txBody>
          <a:bodyPr anchor="t">
            <a:normAutofit/>
          </a:bodyPr>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харова, И. Г.</a:t>
            </a:r>
            <a:r>
              <a:rPr b="0" lang="ru-RU" sz="2000" spc="-1" strike="noStrike">
                <a:solidFill>
                  <a:srgbClr val="000000"/>
                </a:solidFill>
                <a:latin typeface="Arial"/>
              </a:rPr>
              <a:t> Информационные технологии в образовании [Текст] : учеб. пособие / И. Г. Захарова. - 2-е изд., стереотип. - М. : Academia, 2005. - 192 с. - (Высш. проф. образование). - 2 экз. - 9339 с.,</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ирова Ф. </a:t>
            </a:r>
            <a:r>
              <a:rPr b="0" lang="ru-RU" sz="2000" spc="-1" strike="noStrike">
                <a:solidFill>
                  <a:srgbClr val="000000"/>
                </a:solidFill>
                <a:latin typeface="Arial"/>
              </a:rPr>
              <a:t>ва бошкалар. </a:t>
            </a:r>
            <a:r>
              <a:rPr b="0" lang="uz-Cyrl-UZ" sz="2000" spc="-1" strike="noStrike">
                <a:solidFill>
                  <a:srgbClr val="000000"/>
                </a:solidFill>
                <a:latin typeface="Arial"/>
              </a:rPr>
              <a:t>Электрон ўқув-методик мажмуаси. – Т. 2010.</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u="sng">
                <a:solidFill>
                  <a:srgbClr val="009999"/>
                </a:solidFill>
                <a:uFillTx/>
                <a:latin typeface="Arial"/>
                <a:hlinkClick r:id="rId1"/>
              </a:rPr>
              <a:t>http://e.tuit.uz</a:t>
            </a:r>
            <a:r>
              <a:rPr b="0" lang="uz-Cyrl-UZ"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u="sng">
                <a:solidFill>
                  <a:srgbClr val="009999"/>
                </a:solidFill>
                <a:uFillTx/>
                <a:latin typeface="Arial"/>
                <a:hlinkClick r:id="rId2"/>
              </a:rPr>
              <a:t>http://tuit.uz</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a:t>
            </a:r>
            <a:r>
              <a:rPr b="0" lang="ru-RU" sz="2000" spc="-1" strike="noStrike" u="sng">
                <a:solidFill>
                  <a:srgbClr val="009999"/>
                </a:solidFill>
                <a:uFillTx/>
                <a:latin typeface="Arial"/>
                <a:hlinkClick r:id="rId4"/>
              </a:rPr>
              <a:t>://</a:t>
            </a:r>
            <a:r>
              <a:rPr b="0" lang="en-US" sz="2000" spc="-1" strike="noStrike" u="sng">
                <a:solidFill>
                  <a:srgbClr val="009999"/>
                </a:solidFill>
                <a:uFillTx/>
                <a:latin typeface="Arial"/>
                <a:hlinkClick r:id="rId5"/>
              </a:rPr>
              <a:t>edu</a:t>
            </a:r>
            <a:r>
              <a:rPr b="0" lang="ru-RU" sz="2000" spc="-1" strike="noStrike" u="sng">
                <a:solidFill>
                  <a:srgbClr val="009999"/>
                </a:solidFill>
                <a:uFillTx/>
                <a:latin typeface="Arial"/>
                <a:hlinkClick r:id="rId6"/>
              </a:rPr>
              <a:t>.</a:t>
            </a:r>
            <a:r>
              <a:rPr b="0" lang="en-US" sz="2000" spc="-1" strike="noStrike" u="sng">
                <a:solidFill>
                  <a:srgbClr val="009999"/>
                </a:solidFill>
                <a:uFillTx/>
                <a:latin typeface="Arial"/>
                <a:hlinkClick r:id="rId7"/>
              </a:rPr>
              <a:t>uz</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6" name="Group 1"/>
          <p:cNvGrpSpPr/>
          <p:nvPr/>
        </p:nvGrpSpPr>
        <p:grpSpPr>
          <a:xfrm>
            <a:off x="0" y="0"/>
            <a:ext cx="8929440" cy="6527880"/>
            <a:chOff x="0" y="0"/>
            <a:chExt cx="8929440" cy="6527880"/>
          </a:xfrm>
        </p:grpSpPr>
        <p:sp>
          <p:nvSpPr>
            <p:cNvPr id="747" name="Rectangle 52"/>
            <p:cNvSpPr/>
            <p:nvPr/>
          </p:nvSpPr>
          <p:spPr>
            <a:xfrm rot="16200000">
              <a:off x="203040" y="1944720"/>
              <a:ext cx="4425840" cy="536400"/>
            </a:xfrm>
            <a:prstGeom prst="rect">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Таянч билим кўникма ва малакаларни</a:t>
              </a:r>
              <a:br>
                <a:rPr sz="1200"/>
              </a:br>
              <a:r>
                <a:rPr b="1" i="1" lang="uz-Cyrl-UZ" sz="1200" spc="-1" strike="noStrike">
                  <a:solidFill>
                    <a:srgbClr val="000000"/>
                  </a:solidFill>
                  <a:latin typeface="Arial"/>
                  <a:ea typeface="Times New Roman"/>
                </a:rPr>
                <a:t>шакллантириш блоки</a:t>
              </a:r>
              <a:endParaRPr b="0" lang="en-US" sz="1200" spc="-1" strike="noStrike">
                <a:solidFill>
                  <a:srgbClr val="000000"/>
                </a:solidFill>
                <a:latin typeface="Arial"/>
              </a:endParaRPr>
            </a:p>
          </p:txBody>
        </p:sp>
        <p:sp>
          <p:nvSpPr>
            <p:cNvPr id="748" name="Rectangle 51"/>
            <p:cNvSpPr/>
            <p:nvPr/>
          </p:nvSpPr>
          <p:spPr>
            <a:xfrm rot="16200000">
              <a:off x="4238640" y="1882800"/>
              <a:ext cx="4425840" cy="660240"/>
            </a:xfrm>
            <a:prstGeom prst="rect">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Назорат қилиш ва компетентлик </a:t>
              </a:r>
              <a:br>
                <a:rPr sz="1200"/>
              </a:br>
              <a:r>
                <a:rPr b="1" i="1" lang="uz-Cyrl-UZ" sz="1200" spc="-1" strike="noStrike">
                  <a:solidFill>
                    <a:srgbClr val="000000"/>
                  </a:solidFill>
                  <a:latin typeface="Arial"/>
                  <a:ea typeface="Times New Roman"/>
                </a:rPr>
                <a:t>даражасини аниқлаш блоки</a:t>
              </a:r>
              <a:endParaRPr b="0" lang="en-US" sz="1200" spc="-1" strike="noStrike">
                <a:solidFill>
                  <a:srgbClr val="000000"/>
                </a:solidFill>
                <a:latin typeface="Arial"/>
              </a:endParaRPr>
            </a:p>
          </p:txBody>
        </p:sp>
        <p:sp>
          <p:nvSpPr>
            <p:cNvPr id="749" name="Rectangle 50"/>
            <p:cNvSpPr/>
            <p:nvPr/>
          </p:nvSpPr>
          <p:spPr>
            <a:xfrm rot="16200000">
              <a:off x="4290480" y="1104840"/>
              <a:ext cx="331920" cy="7196040"/>
            </a:xfrm>
            <a:prstGeom prst="rect">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Ривожлантирувчи ва мустақил билимни эгаллашни таъминлаш блоки </a:t>
              </a:r>
              <a:endParaRPr b="0" lang="en-US" sz="1200" spc="-1" strike="noStrike">
                <a:solidFill>
                  <a:srgbClr val="000000"/>
                </a:solidFill>
                <a:latin typeface="Arial"/>
              </a:endParaRPr>
            </a:p>
          </p:txBody>
        </p:sp>
        <p:sp>
          <p:nvSpPr>
            <p:cNvPr id="750" name="Rectangle 49"/>
            <p:cNvSpPr/>
            <p:nvPr/>
          </p:nvSpPr>
          <p:spPr>
            <a:xfrm>
              <a:off x="0" y="398340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тадқиқот мавзулари тўплами</a:t>
              </a:r>
              <a:endParaRPr b="0" lang="en-US" sz="1200" spc="-1" strike="noStrike">
                <a:solidFill>
                  <a:srgbClr val="000000"/>
                </a:solidFill>
                <a:latin typeface="Arial"/>
              </a:endParaRPr>
            </a:p>
          </p:txBody>
        </p:sp>
        <p:sp>
          <p:nvSpPr>
            <p:cNvPr id="751" name="AutoShape 48"/>
            <p:cNvSpPr/>
            <p:nvPr/>
          </p:nvSpPr>
          <p:spPr>
            <a:xfrm>
              <a:off x="1882800" y="4149720"/>
              <a:ext cx="213840" cy="109080"/>
            </a:xfrm>
            <a:prstGeom prst="rightArrow">
              <a:avLst>
                <a:gd name="adj1" fmla="val 50000"/>
                <a:gd name="adj2" fmla="val 48601"/>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47"/>
            <p:cNvSpPr/>
            <p:nvPr/>
          </p:nvSpPr>
          <p:spPr>
            <a:xfrm>
              <a:off x="0" y="351792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муаммоли вазиятлар тўплами</a:t>
              </a:r>
              <a:endParaRPr b="0" lang="en-US" sz="1200" spc="-1" strike="noStrike">
                <a:solidFill>
                  <a:srgbClr val="000000"/>
                </a:solidFill>
                <a:latin typeface="Arial"/>
              </a:endParaRPr>
            </a:p>
          </p:txBody>
        </p:sp>
        <p:sp>
          <p:nvSpPr>
            <p:cNvPr id="753" name="AutoShape 46"/>
            <p:cNvSpPr/>
            <p:nvPr/>
          </p:nvSpPr>
          <p:spPr>
            <a:xfrm>
              <a:off x="1882800" y="36846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45"/>
            <p:cNvSpPr/>
            <p:nvPr/>
          </p:nvSpPr>
          <p:spPr>
            <a:xfrm>
              <a:off x="0" y="305460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машқ ва масалалар тўплами</a:t>
              </a:r>
              <a:endParaRPr b="0" lang="en-US" sz="1200" spc="-1" strike="noStrike">
                <a:solidFill>
                  <a:srgbClr val="000000"/>
                </a:solidFill>
                <a:latin typeface="Arial"/>
              </a:endParaRPr>
            </a:p>
          </p:txBody>
        </p:sp>
        <p:sp>
          <p:nvSpPr>
            <p:cNvPr id="755" name="AutoShape 44"/>
            <p:cNvSpPr/>
            <p:nvPr/>
          </p:nvSpPr>
          <p:spPr>
            <a:xfrm>
              <a:off x="1882800" y="32191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43"/>
            <p:cNvSpPr/>
            <p:nvPr/>
          </p:nvSpPr>
          <p:spPr>
            <a:xfrm>
              <a:off x="0" y="1881360"/>
              <a:ext cx="1825560" cy="44280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ни ўқитиш технологияси</a:t>
              </a:r>
              <a:endParaRPr b="0" lang="en-US" sz="1200" spc="-1" strike="noStrike">
                <a:solidFill>
                  <a:srgbClr val="000000"/>
                </a:solidFill>
                <a:latin typeface="Arial"/>
              </a:endParaRPr>
            </a:p>
          </p:txBody>
        </p:sp>
        <p:sp>
          <p:nvSpPr>
            <p:cNvPr id="757" name="AutoShape 42"/>
            <p:cNvSpPr/>
            <p:nvPr/>
          </p:nvSpPr>
          <p:spPr>
            <a:xfrm>
              <a:off x="1882800" y="2047680"/>
              <a:ext cx="213840" cy="109080"/>
            </a:xfrm>
            <a:prstGeom prst="rightArrow">
              <a:avLst>
                <a:gd name="adj1" fmla="val 50000"/>
                <a:gd name="adj2" fmla="val 48601"/>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41"/>
            <p:cNvSpPr/>
            <p:nvPr/>
          </p:nvSpPr>
          <p:spPr>
            <a:xfrm>
              <a:off x="0" y="1415880"/>
              <a:ext cx="1825560" cy="44280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Услубий қўлланма ва кўрсатмалар</a:t>
              </a:r>
              <a:endParaRPr b="0" lang="en-US" sz="1200" spc="-1" strike="noStrike">
                <a:solidFill>
                  <a:srgbClr val="000000"/>
                </a:solidFill>
                <a:latin typeface="Arial"/>
              </a:endParaRPr>
            </a:p>
          </p:txBody>
        </p:sp>
        <p:sp>
          <p:nvSpPr>
            <p:cNvPr id="759" name="AutoShape 40"/>
            <p:cNvSpPr/>
            <p:nvPr/>
          </p:nvSpPr>
          <p:spPr>
            <a:xfrm>
              <a:off x="1882800" y="158256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9"/>
            <p:cNvSpPr/>
            <p:nvPr/>
          </p:nvSpPr>
          <p:spPr>
            <a:xfrm>
              <a:off x="0" y="270036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Глоссарий </a:t>
              </a:r>
              <a:endParaRPr b="0" lang="en-US" sz="1200" spc="-1" strike="noStrike">
                <a:solidFill>
                  <a:srgbClr val="000000"/>
                </a:solidFill>
                <a:latin typeface="Arial"/>
              </a:endParaRPr>
            </a:p>
          </p:txBody>
        </p:sp>
        <p:sp>
          <p:nvSpPr>
            <p:cNvPr id="761" name="AutoShape 38"/>
            <p:cNvSpPr/>
            <p:nvPr/>
          </p:nvSpPr>
          <p:spPr>
            <a:xfrm>
              <a:off x="1882800" y="28098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7"/>
            <p:cNvSpPr/>
            <p:nvPr/>
          </p:nvSpPr>
          <p:spPr>
            <a:xfrm>
              <a:off x="0" y="234648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Электрон педагог</a:t>
              </a:r>
              <a:endParaRPr b="0" lang="en-US" sz="1200" spc="-1" strike="noStrike">
                <a:solidFill>
                  <a:srgbClr val="000000"/>
                </a:solidFill>
                <a:latin typeface="Arial"/>
              </a:endParaRPr>
            </a:p>
          </p:txBody>
        </p:sp>
        <p:sp>
          <p:nvSpPr>
            <p:cNvPr id="763" name="AutoShape 36"/>
            <p:cNvSpPr/>
            <p:nvPr/>
          </p:nvSpPr>
          <p:spPr>
            <a:xfrm>
              <a:off x="1882800" y="24559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5"/>
            <p:cNvSpPr/>
            <p:nvPr/>
          </p:nvSpPr>
          <p:spPr>
            <a:xfrm>
              <a:off x="0" y="106200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Лекциялар курси</a:t>
              </a:r>
              <a:endParaRPr b="0" lang="en-US" sz="1200" spc="-1" strike="noStrike">
                <a:solidFill>
                  <a:srgbClr val="000000"/>
                </a:solidFill>
                <a:latin typeface="Arial"/>
              </a:endParaRPr>
            </a:p>
          </p:txBody>
        </p:sp>
        <p:sp>
          <p:nvSpPr>
            <p:cNvPr id="765" name="AutoShape 34"/>
            <p:cNvSpPr/>
            <p:nvPr/>
          </p:nvSpPr>
          <p:spPr>
            <a:xfrm>
              <a:off x="1882800" y="117324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3"/>
            <p:cNvSpPr/>
            <p:nvPr/>
          </p:nvSpPr>
          <p:spPr>
            <a:xfrm>
              <a:off x="0" y="70776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Ўқув қўлланма </a:t>
              </a:r>
              <a:endParaRPr b="0" lang="en-US" sz="1200" spc="-1" strike="noStrike">
                <a:solidFill>
                  <a:srgbClr val="000000"/>
                </a:solidFill>
                <a:latin typeface="Arial"/>
              </a:endParaRPr>
            </a:p>
          </p:txBody>
        </p:sp>
        <p:sp>
          <p:nvSpPr>
            <p:cNvPr id="767" name="AutoShape 32"/>
            <p:cNvSpPr/>
            <p:nvPr/>
          </p:nvSpPr>
          <p:spPr>
            <a:xfrm>
              <a:off x="1882800" y="8190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1"/>
            <p:cNvSpPr/>
            <p:nvPr/>
          </p:nvSpPr>
          <p:spPr>
            <a:xfrm>
              <a:off x="0" y="35388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Дарслик </a:t>
              </a:r>
              <a:endParaRPr b="0" lang="en-US" sz="1200" spc="-1" strike="noStrike">
                <a:solidFill>
                  <a:srgbClr val="000000"/>
                </a:solidFill>
                <a:latin typeface="Arial"/>
              </a:endParaRPr>
            </a:p>
          </p:txBody>
        </p:sp>
        <p:sp>
          <p:nvSpPr>
            <p:cNvPr id="769" name="AutoShape 30"/>
            <p:cNvSpPr/>
            <p:nvPr/>
          </p:nvSpPr>
          <p:spPr>
            <a:xfrm>
              <a:off x="1882800" y="4651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29"/>
            <p:cNvSpPr/>
            <p:nvPr/>
          </p:nvSpPr>
          <p:spPr>
            <a:xfrm>
              <a:off x="0" y="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 дастури</a:t>
              </a:r>
              <a:endParaRPr b="0" lang="en-US" sz="1200" spc="-1" strike="noStrike">
                <a:solidFill>
                  <a:srgbClr val="000000"/>
                </a:solidFill>
                <a:latin typeface="Arial"/>
              </a:endParaRPr>
            </a:p>
          </p:txBody>
        </p:sp>
        <p:sp>
          <p:nvSpPr>
            <p:cNvPr id="771" name="AutoShape 28"/>
            <p:cNvSpPr/>
            <p:nvPr/>
          </p:nvSpPr>
          <p:spPr>
            <a:xfrm>
              <a:off x="1882800" y="11088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27"/>
            <p:cNvSpPr/>
            <p:nvPr/>
          </p:nvSpPr>
          <p:spPr>
            <a:xfrm rot="10800000">
              <a:off x="7103880" y="0"/>
              <a:ext cx="1825560" cy="101880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Рейтинг ишланмаси ва баҳолаш мезонлари</a:t>
              </a:r>
              <a:endParaRPr b="0" lang="en-US" sz="1200" spc="-1" strike="noStrike">
                <a:solidFill>
                  <a:srgbClr val="000000"/>
                </a:solidFill>
                <a:latin typeface="Arial"/>
              </a:endParaRPr>
            </a:p>
          </p:txBody>
        </p:sp>
        <p:sp>
          <p:nvSpPr>
            <p:cNvPr id="773" name="AutoShape 26"/>
            <p:cNvSpPr/>
            <p:nvPr/>
          </p:nvSpPr>
          <p:spPr>
            <a:xfrm rot="10800000">
              <a:off x="6834240" y="442800"/>
              <a:ext cx="215640" cy="110880"/>
            </a:xfrm>
            <a:prstGeom prst="rightArrow">
              <a:avLst>
                <a:gd name="adj1" fmla="val 50000"/>
                <a:gd name="adj2" fmla="val 48620"/>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25"/>
            <p:cNvSpPr/>
            <p:nvPr/>
          </p:nvSpPr>
          <p:spPr>
            <a:xfrm rot="10800000">
              <a:off x="7103880" y="1493640"/>
              <a:ext cx="1825560" cy="101772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Баҳолаш воситалари ва материаллари</a:t>
              </a:r>
              <a:endParaRPr b="0" lang="en-US" sz="1200" spc="-1" strike="noStrike">
                <a:solidFill>
                  <a:srgbClr val="000000"/>
                </a:solidFill>
                <a:latin typeface="Arial"/>
              </a:endParaRPr>
            </a:p>
          </p:txBody>
        </p:sp>
        <p:sp>
          <p:nvSpPr>
            <p:cNvPr id="775" name="AutoShape 24"/>
            <p:cNvSpPr/>
            <p:nvPr/>
          </p:nvSpPr>
          <p:spPr>
            <a:xfrm rot="10800000">
              <a:off x="6834240" y="1942920"/>
              <a:ext cx="215640" cy="109080"/>
            </a:xfrm>
            <a:prstGeom prst="rightArrow">
              <a:avLst>
                <a:gd name="adj1" fmla="val 50000"/>
                <a:gd name="adj2" fmla="val 48599"/>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23"/>
            <p:cNvSpPr/>
            <p:nvPr/>
          </p:nvSpPr>
          <p:spPr>
            <a:xfrm rot="10800000">
              <a:off x="7103880" y="2987640"/>
              <a:ext cx="1825560" cy="143784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 дастури</a:t>
              </a:r>
              <a:endParaRPr b="0" lang="en-US" sz="1200" spc="-1" strike="noStrike">
                <a:solidFill>
                  <a:srgbClr val="000000"/>
                </a:solidFill>
                <a:latin typeface="Arial"/>
              </a:endParaRPr>
            </a:p>
          </p:txBody>
        </p:sp>
        <p:sp>
          <p:nvSpPr>
            <p:cNvPr id="777" name="AutoShape 22"/>
            <p:cNvSpPr/>
            <p:nvPr/>
          </p:nvSpPr>
          <p:spPr>
            <a:xfrm rot="10800000">
              <a:off x="6834240" y="3651480"/>
              <a:ext cx="215640" cy="110880"/>
            </a:xfrm>
            <a:prstGeom prst="rightArrow">
              <a:avLst>
                <a:gd name="adj1" fmla="val 50000"/>
                <a:gd name="adj2" fmla="val 48620"/>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21"/>
            <p:cNvSpPr/>
            <p:nvPr/>
          </p:nvSpPr>
          <p:spPr>
            <a:xfrm rot="16200000">
              <a:off x="571320" y="5488200"/>
              <a:ext cx="1326960" cy="75240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Мустақил иш савол ва топшириқлари</a:t>
              </a:r>
              <a:endParaRPr b="0" lang="en-US" sz="1000" spc="-1" strike="noStrike">
                <a:solidFill>
                  <a:srgbClr val="000000"/>
                </a:solidFill>
                <a:latin typeface="Arial"/>
              </a:endParaRPr>
            </a:p>
          </p:txBody>
        </p:sp>
        <p:sp>
          <p:nvSpPr>
            <p:cNvPr id="779" name="AutoShape 20"/>
            <p:cNvSpPr/>
            <p:nvPr/>
          </p:nvSpPr>
          <p:spPr>
            <a:xfrm rot="16200000">
              <a:off x="112464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9"/>
            <p:cNvSpPr/>
            <p:nvPr/>
          </p:nvSpPr>
          <p:spPr>
            <a:xfrm rot="16200000">
              <a:off x="1368720" y="5488920"/>
              <a:ext cx="1326960" cy="75096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Электрон таьлим ресурслари</a:t>
              </a:r>
              <a:endParaRPr b="0" lang="en-US" sz="1000" spc="-1" strike="noStrike">
                <a:solidFill>
                  <a:srgbClr val="000000"/>
                </a:solidFill>
                <a:latin typeface="Arial"/>
              </a:endParaRPr>
            </a:p>
          </p:txBody>
        </p:sp>
        <p:sp>
          <p:nvSpPr>
            <p:cNvPr id="781" name="AutoShape 18"/>
            <p:cNvSpPr/>
            <p:nvPr/>
          </p:nvSpPr>
          <p:spPr>
            <a:xfrm rot="16200000">
              <a:off x="192276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17"/>
            <p:cNvSpPr/>
            <p:nvPr/>
          </p:nvSpPr>
          <p:spPr>
            <a:xfrm rot="16200000">
              <a:off x="2167200" y="5488200"/>
              <a:ext cx="1326960" cy="75240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Билим олишнинг интелектуал ресурслари</a:t>
              </a:r>
              <a:endParaRPr b="0" lang="en-US" sz="1000" spc="-1" strike="noStrike">
                <a:solidFill>
                  <a:srgbClr val="000000"/>
                </a:solidFill>
                <a:latin typeface="Arial"/>
              </a:endParaRPr>
            </a:p>
          </p:txBody>
        </p:sp>
        <p:sp>
          <p:nvSpPr>
            <p:cNvPr id="783" name="AutoShape 16"/>
            <p:cNvSpPr/>
            <p:nvPr/>
          </p:nvSpPr>
          <p:spPr>
            <a:xfrm rot="16200000">
              <a:off x="272016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15"/>
            <p:cNvSpPr/>
            <p:nvPr/>
          </p:nvSpPr>
          <p:spPr>
            <a:xfrm rot="16200000">
              <a:off x="2964600" y="5488920"/>
              <a:ext cx="1326960" cy="75096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Дидактик материаллар</a:t>
              </a:r>
              <a:endParaRPr b="0" lang="en-US" sz="1000" spc="-1" strike="noStrike">
                <a:solidFill>
                  <a:srgbClr val="000000"/>
                </a:solidFill>
                <a:latin typeface="Arial"/>
              </a:endParaRPr>
            </a:p>
          </p:txBody>
        </p:sp>
        <p:sp>
          <p:nvSpPr>
            <p:cNvPr id="785" name="AutoShape 14"/>
            <p:cNvSpPr/>
            <p:nvPr/>
          </p:nvSpPr>
          <p:spPr>
            <a:xfrm rot="16200000">
              <a:off x="351828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13"/>
            <p:cNvSpPr/>
            <p:nvPr/>
          </p:nvSpPr>
          <p:spPr>
            <a:xfrm rot="16200000">
              <a:off x="386964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Фаннинг сўнгги ютуқлари  (илмий ва оммабоп нашрлар, диссертациялар)</a:t>
              </a:r>
              <a:endParaRPr b="0" lang="en-US" sz="1000" spc="-1" strike="noStrike">
                <a:solidFill>
                  <a:srgbClr val="000000"/>
                </a:solidFill>
                <a:latin typeface="Arial"/>
              </a:endParaRPr>
            </a:p>
          </p:txBody>
        </p:sp>
        <p:sp>
          <p:nvSpPr>
            <p:cNvPr id="787" name="AutoShape 12"/>
            <p:cNvSpPr/>
            <p:nvPr/>
          </p:nvSpPr>
          <p:spPr>
            <a:xfrm rot="16200000">
              <a:off x="442296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11"/>
            <p:cNvSpPr/>
            <p:nvPr/>
          </p:nvSpPr>
          <p:spPr>
            <a:xfrm rot="16200000">
              <a:off x="488268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Техник воситалар рўйхати ва улардан фойдаланиш бўйича йўриқнома ва кўрсатмалар</a:t>
              </a:r>
              <a:endParaRPr b="0" lang="en-US" sz="1000" spc="-1" strike="noStrike">
                <a:solidFill>
                  <a:srgbClr val="000000"/>
                </a:solidFill>
                <a:latin typeface="Arial"/>
              </a:endParaRPr>
            </a:p>
          </p:txBody>
        </p:sp>
        <p:sp>
          <p:nvSpPr>
            <p:cNvPr id="789" name="AutoShape 10"/>
            <p:cNvSpPr/>
            <p:nvPr/>
          </p:nvSpPr>
          <p:spPr>
            <a:xfrm rot="16200000">
              <a:off x="5435280" y="4980600"/>
              <a:ext cx="220320" cy="108000"/>
            </a:xfrm>
            <a:prstGeom prst="rightArrow">
              <a:avLst>
                <a:gd name="adj1" fmla="val 50000"/>
                <a:gd name="adj2" fmla="val 51425"/>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9"/>
            <p:cNvSpPr/>
            <p:nvPr/>
          </p:nvSpPr>
          <p:spPr>
            <a:xfrm rot="16200000">
              <a:off x="589500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Гуруҳда ва индивудиал ишлаш кўникмаларини шакллантириш материаллари</a:t>
              </a:r>
              <a:endParaRPr b="0" lang="en-US" sz="1000" spc="-1" strike="noStrike">
                <a:solidFill>
                  <a:srgbClr val="000000"/>
                </a:solidFill>
                <a:latin typeface="Arial"/>
              </a:endParaRPr>
            </a:p>
          </p:txBody>
        </p:sp>
        <p:sp>
          <p:nvSpPr>
            <p:cNvPr id="791" name="AutoShape 8"/>
            <p:cNvSpPr/>
            <p:nvPr/>
          </p:nvSpPr>
          <p:spPr>
            <a:xfrm rot="16200000">
              <a:off x="644724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7"/>
            <p:cNvSpPr/>
            <p:nvPr/>
          </p:nvSpPr>
          <p:spPr>
            <a:xfrm rot="16200000">
              <a:off x="690804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Қўшимча адабиётлар ва ахборот олиш манбалар  рўйхати</a:t>
              </a:r>
              <a:endParaRPr b="0" lang="en-US" sz="1000" spc="-1" strike="noStrike">
                <a:solidFill>
                  <a:srgbClr val="000000"/>
                </a:solidFill>
                <a:latin typeface="Arial"/>
              </a:endParaRPr>
            </a:p>
          </p:txBody>
        </p:sp>
        <p:sp>
          <p:nvSpPr>
            <p:cNvPr id="793" name="AutoShape 6"/>
            <p:cNvSpPr/>
            <p:nvPr/>
          </p:nvSpPr>
          <p:spPr>
            <a:xfrm rot="16200000">
              <a:off x="7460640" y="4980600"/>
              <a:ext cx="220320" cy="108000"/>
            </a:xfrm>
            <a:prstGeom prst="rightArrow">
              <a:avLst>
                <a:gd name="adj1" fmla="val 50000"/>
                <a:gd name="adj2" fmla="val 51425"/>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Rectangle 5"/>
            <p:cNvSpPr/>
            <p:nvPr/>
          </p:nvSpPr>
          <p:spPr>
            <a:xfrm rot="10800000">
              <a:off x="3329280" y="1770120"/>
              <a:ext cx="2165040" cy="885600"/>
            </a:xfrm>
            <a:prstGeom prst="rect">
              <a:avLst/>
            </a:prstGeom>
            <a:gradFill rotWithShape="0">
              <a:gsLst>
                <a:gs pos="0">
                  <a:srgbClr val="f79646"/>
                </a:gs>
                <a:gs pos="100000">
                  <a:srgbClr val="df6a09"/>
                </a:gs>
              </a:gsLst>
              <a:path path="rect">
                <a:fillToRect l="50000" t="50000" r="50000" b="50000"/>
              </a:path>
            </a:gradFill>
            <a:ln w="0">
              <a:noFill/>
            </a:ln>
            <a:effectLst>
              <a:outerShdw dist="17819" dir="2700000" blurRad="0" rotWithShape="0">
                <a:srgbClr val="974706"/>
              </a:outerShdw>
            </a:effectLst>
          </p:spPr>
          <p:style>
            <a:lnRef idx="0"/>
            <a:fillRef idx="0"/>
            <a:effectRef idx="0"/>
            <a:fontRef idx="minor"/>
          </p:style>
          <p:txBody>
            <a:bodyPr lIns="90000" rIns="90000" tIns="46800" bIns="46800" anchor="ctr"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ffffff"/>
                  </a:solidFill>
                  <a:latin typeface="Tahoma"/>
                  <a:ea typeface="Times New Roman"/>
                </a:rPr>
                <a:t>УММ</a:t>
              </a:r>
              <a:endParaRPr b="0" lang="en-US" sz="1400" spc="-1" strike="noStrike">
                <a:solidFill>
                  <a:srgbClr val="000000"/>
                </a:solidFill>
                <a:latin typeface="Arial"/>
              </a:endParaRPr>
            </a:p>
          </p:txBody>
        </p:sp>
        <p:sp>
          <p:nvSpPr>
            <p:cNvPr id="795" name="AutoShape 4"/>
            <p:cNvSpPr/>
            <p:nvPr/>
          </p:nvSpPr>
          <p:spPr>
            <a:xfrm>
              <a:off x="2792160" y="2124000"/>
              <a:ext cx="428040" cy="199440"/>
            </a:xfrm>
            <a:prstGeom prst="rightArrow">
              <a:avLst>
                <a:gd name="adj1" fmla="val 50000"/>
                <a:gd name="adj2" fmla="val 53973"/>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AutoShape 3"/>
            <p:cNvSpPr/>
            <p:nvPr/>
          </p:nvSpPr>
          <p:spPr>
            <a:xfrm rot="10800000">
              <a:off x="5584680" y="2101320"/>
              <a:ext cx="428040" cy="222120"/>
            </a:xfrm>
            <a:prstGeom prst="rightArrow">
              <a:avLst>
                <a:gd name="adj1" fmla="val 50000"/>
                <a:gd name="adj2" fmla="val 48578"/>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2"/>
            <p:cNvSpPr/>
            <p:nvPr/>
          </p:nvSpPr>
          <p:spPr>
            <a:xfrm rot="16200000">
              <a:off x="3573000" y="3489480"/>
              <a:ext cx="1658880" cy="213840"/>
            </a:xfrm>
            <a:prstGeom prst="rightArrow">
              <a:avLst>
                <a:gd name="adj1" fmla="val 49454"/>
                <a:gd name="adj2" fmla="val 77719"/>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14240" y="4996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00"/>
                </a:solidFill>
                <a:latin typeface="Arial"/>
              </a:rPr>
              <a:t>Фаннинг мультимедиали ўқув-методик мажмуасини яратиш бўйича талаблар</a:t>
            </a:r>
            <a:br>
              <a:rPr sz="4000"/>
            </a:br>
            <a:endParaRPr b="0" lang="en-US" sz="4000" spc="-1" strike="noStrike">
              <a:solidFill>
                <a:srgbClr val="000000"/>
              </a:solidFill>
              <a:latin typeface="Arial"/>
            </a:endParaRPr>
          </a:p>
        </p:txBody>
      </p:sp>
      <p:sp>
        <p:nvSpPr>
          <p:cNvPr id="799" name="Rectangle 1"/>
          <p:cNvSpPr/>
          <p:nvPr/>
        </p:nvSpPr>
        <p:spPr>
          <a:xfrm>
            <a:off x="642960" y="2159640"/>
            <a:ext cx="8229600" cy="3506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 </a:t>
            </a:r>
            <a:r>
              <a:rPr b="0" i="1" lang="uz-Cyrl-UZ" sz="2800" spc="-1" strike="noStrike">
                <a:solidFill>
                  <a:srgbClr val="000000"/>
                </a:solidFill>
                <a:latin typeface="Arial"/>
                <a:ea typeface="Times New Roman"/>
              </a:rPr>
              <a:t>ишлаб чиқишга қўйиладиган дидактик талаблар.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a:t>
            </a:r>
            <a:r>
              <a:rPr b="0" i="1" lang="uz-Cyrl-UZ" sz="2800" spc="-1" strike="noStrike">
                <a:solidFill>
                  <a:srgbClr val="000000"/>
                </a:solidFill>
                <a:latin typeface="Arial"/>
                <a:ea typeface="Times New Roman"/>
              </a:rPr>
              <a:t> ишлаб чиқишга қўйиладиган методик талаблар.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a:t>
            </a:r>
            <a:r>
              <a:rPr b="0" i="1" lang="uz-Cyrl-UZ" sz="2800" spc="-1" strike="noStrike">
                <a:solidFill>
                  <a:srgbClr val="000000"/>
                </a:solidFill>
                <a:latin typeface="Arial"/>
                <a:ea typeface="Times New Roman"/>
              </a:rPr>
              <a:t> ишлаб чиқишга қўйиладиган техник талабл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02"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1</a:t>
            </a:r>
            <a:endParaRPr b="0" lang="en-US" sz="9600" spc="-1" strike="noStrike">
              <a:solidFill>
                <a:srgbClr val="000000"/>
              </a:solidFill>
              <a:latin typeface="Arial"/>
            </a:endParaRPr>
          </a:p>
        </p:txBody>
      </p:sp>
      <p:grpSp>
        <p:nvGrpSpPr>
          <p:cNvPr id="804" name="Группа 7"/>
          <p:cNvGrpSpPr/>
          <p:nvPr/>
        </p:nvGrpSpPr>
        <p:grpSpPr>
          <a:xfrm>
            <a:off x="3071880" y="1773360"/>
            <a:ext cx="5715000" cy="4895640"/>
            <a:chOff x="3071880" y="1773360"/>
            <a:chExt cx="5715000" cy="4895640"/>
          </a:xfrm>
        </p:grpSpPr>
        <p:sp>
          <p:nvSpPr>
            <p:cNvPr id="805" name="Скругленный прямоугольник 5"/>
            <p:cNvSpPr/>
            <p:nvPr/>
          </p:nvSpPr>
          <p:spPr>
            <a:xfrm>
              <a:off x="3071880" y="1773360"/>
              <a:ext cx="5715000" cy="489564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6"/>
            <p:cNvSpPr/>
            <p:nvPr/>
          </p:nvSpPr>
          <p:spPr>
            <a:xfrm>
              <a:off x="3500280" y="2099520"/>
              <a:ext cx="50007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600" spc="-1" strike="noStrike">
                  <a:solidFill>
                    <a:srgbClr val="000000"/>
                  </a:solidFill>
                  <a:latin typeface="Arial"/>
                </a:rPr>
                <a:t>Таълимда илмийликни, фан, техника ва технологияларни сўнгги  ютуқларни ҳисобга олиниш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804"/>
                                        </p:tgtEl>
                                        <p:attrNameLst>
                                          <p:attrName>style.visibility</p:attrName>
                                        </p:attrNameLst>
                                      </p:cBhvr>
                                      <p:to>
                                        <p:strVal val="visible"/>
                                      </p:to>
                                    </p:set>
                                    <p:anim calcmode="lin" valueType="num">
                                      <p:cBhvr additive="repl">
                                        <p:cTn id="7" dur="2000" fill="hold"/>
                                        <p:tgtEl>
                                          <p:spTgt spid="804"/>
                                        </p:tgtEl>
                                        <p:attrNameLst>
                                          <p:attrName>ppt_w</p:attrName>
                                        </p:attrNameLst>
                                      </p:cBhvr>
                                      <p:tavLst>
                                        <p:tav tm="0">
                                          <p:val>
                                            <p:fltVal val="0"/>
                                          </p:val>
                                        </p:tav>
                                        <p:tav tm="100000">
                                          <p:val>
                                            <p:strVal val="#ppt_w"/>
                                          </p:val>
                                        </p:tav>
                                      </p:tavLst>
                                    </p:anim>
                                    <p:anim calcmode="lin" valueType="num">
                                      <p:cBhvr additive="repl">
                                        <p:cTn id="8" dur="2000" fill="hold"/>
                                        <p:tgtEl>
                                          <p:spTgt spid="804"/>
                                        </p:tgtEl>
                                        <p:attrNameLst>
                                          <p:attrName>ppt_h</p:attrName>
                                        </p:attrNameLst>
                                      </p:cBhvr>
                                      <p:tavLst>
                                        <p:tav tm="0">
                                          <p:val>
                                            <p:fltVal val="0"/>
                                          </p:val>
                                        </p:tav>
                                        <p:tav tm="100000">
                                          <p:val>
                                            <p:strVal val="#ppt_h"/>
                                          </p:val>
                                        </p:tav>
                                      </p:tavLst>
                                    </p:anim>
                                    <p:animEffect filter="fade" transition="in">
                                      <p:cBhvr additive="repl">
                                        <p:cTn id="9" dur="20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09"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2</a:t>
            </a:r>
            <a:endParaRPr b="0" lang="en-US" sz="9600" spc="-1" strike="noStrike">
              <a:solidFill>
                <a:srgbClr val="000000"/>
              </a:solidFill>
              <a:latin typeface="Arial"/>
            </a:endParaRPr>
          </a:p>
        </p:txBody>
      </p:sp>
      <p:grpSp>
        <p:nvGrpSpPr>
          <p:cNvPr id="811" name="Группа 7"/>
          <p:cNvGrpSpPr/>
          <p:nvPr/>
        </p:nvGrpSpPr>
        <p:grpSpPr>
          <a:xfrm>
            <a:off x="3071880" y="2000160"/>
            <a:ext cx="5715000" cy="4286520"/>
            <a:chOff x="3071880" y="2000160"/>
            <a:chExt cx="5715000" cy="4286520"/>
          </a:xfrm>
        </p:grpSpPr>
        <p:sp>
          <p:nvSpPr>
            <p:cNvPr id="812"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Box 6"/>
            <p:cNvSpPr/>
            <p:nvPr/>
          </p:nvSpPr>
          <p:spPr>
            <a:xfrm>
              <a:off x="3500280" y="3143160"/>
              <a:ext cx="500076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эришувчанлик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3">
                                  <p:stCondLst>
                                    <p:cond delay="0"/>
                                  </p:stCondLst>
                                  <p:childTnLst>
                                    <p:set>
                                      <p:cBhvr>
                                        <p:cTn id="15" dur="1" fill="hold">
                                          <p:stCondLst>
                                            <p:cond delay="0"/>
                                          </p:stCondLst>
                                        </p:cTn>
                                        <p:tgtEl>
                                          <p:spTgt spid="811"/>
                                        </p:tgtEl>
                                        <p:attrNameLst>
                                          <p:attrName>style.visibility</p:attrName>
                                        </p:attrNameLst>
                                      </p:cBhvr>
                                      <p:to>
                                        <p:strVal val="visible"/>
                                      </p:to>
                                    </p:set>
                                    <p:anim calcmode="lin" valueType="num">
                                      <p:cBhvr additive="repl">
                                        <p:cTn id="16" dur="2000" fill="hold"/>
                                        <p:tgtEl>
                                          <p:spTgt spid="811"/>
                                        </p:tgtEl>
                                        <p:attrNameLst>
                                          <p:attrName>ppt_w</p:attrName>
                                        </p:attrNameLst>
                                      </p:cBhvr>
                                      <p:tavLst>
                                        <p:tav tm="0">
                                          <p:val>
                                            <p:fltVal val="0"/>
                                          </p:val>
                                        </p:tav>
                                        <p:tav tm="100000">
                                          <p:val>
                                            <p:strVal val="#ppt_w"/>
                                          </p:val>
                                        </p:tav>
                                      </p:tavLst>
                                    </p:anim>
                                    <p:anim calcmode="lin" valueType="num">
                                      <p:cBhvr additive="repl">
                                        <p:cTn id="17" dur="2000" fill="hold"/>
                                        <p:tgtEl>
                                          <p:spTgt spid="811"/>
                                        </p:tgtEl>
                                        <p:attrNameLst>
                                          <p:attrName>ppt_h</p:attrName>
                                        </p:attrNameLst>
                                      </p:cBhvr>
                                      <p:tavLst>
                                        <p:tav tm="0">
                                          <p:val>
                                            <p:fltVal val="0"/>
                                          </p:val>
                                        </p:tav>
                                        <p:tav tm="100000">
                                          <p:val>
                                            <p:strVal val="#ppt_h"/>
                                          </p:val>
                                        </p:tav>
                                      </p:tavLst>
                                    </p:anim>
                                    <p:animEffect filter="fade" transition="in">
                                      <p:cBhvr additive="repl">
                                        <p:cTn id="18" dur="20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16"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3</a:t>
            </a:r>
            <a:endParaRPr b="0" lang="en-US" sz="9600" spc="-1" strike="noStrike">
              <a:solidFill>
                <a:srgbClr val="000000"/>
              </a:solidFill>
              <a:latin typeface="Arial"/>
            </a:endParaRPr>
          </a:p>
        </p:txBody>
      </p:sp>
      <p:grpSp>
        <p:nvGrpSpPr>
          <p:cNvPr id="818" name="Группа 7"/>
          <p:cNvGrpSpPr/>
          <p:nvPr/>
        </p:nvGrpSpPr>
        <p:grpSpPr>
          <a:xfrm>
            <a:off x="3071880" y="2000160"/>
            <a:ext cx="5715000" cy="4286520"/>
            <a:chOff x="3071880" y="2000160"/>
            <a:chExt cx="5715000" cy="4286520"/>
          </a:xfrm>
        </p:grpSpPr>
        <p:sp>
          <p:nvSpPr>
            <p:cNvPr id="819"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Box 6"/>
            <p:cNvSpPr/>
            <p:nvPr/>
          </p:nvSpPr>
          <p:spPr>
            <a:xfrm>
              <a:off x="3429000" y="2857320"/>
              <a:ext cx="50007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муаммовийлинини таъминлаш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53">
                                  <p:stCondLst>
                                    <p:cond delay="0"/>
                                  </p:stCondLst>
                                  <p:childTnLst>
                                    <p:set>
                                      <p:cBhvr>
                                        <p:cTn id="24" dur="1" fill="hold">
                                          <p:stCondLst>
                                            <p:cond delay="0"/>
                                          </p:stCondLst>
                                        </p:cTn>
                                        <p:tgtEl>
                                          <p:spTgt spid="818"/>
                                        </p:tgtEl>
                                        <p:attrNameLst>
                                          <p:attrName>style.visibility</p:attrName>
                                        </p:attrNameLst>
                                      </p:cBhvr>
                                      <p:to>
                                        <p:strVal val="visible"/>
                                      </p:to>
                                    </p:set>
                                    <p:anim calcmode="lin" valueType="num">
                                      <p:cBhvr additive="repl">
                                        <p:cTn id="25" dur="2000" fill="hold"/>
                                        <p:tgtEl>
                                          <p:spTgt spid="818"/>
                                        </p:tgtEl>
                                        <p:attrNameLst>
                                          <p:attrName>ppt_w</p:attrName>
                                        </p:attrNameLst>
                                      </p:cBhvr>
                                      <p:tavLst>
                                        <p:tav tm="0">
                                          <p:val>
                                            <p:fltVal val="0"/>
                                          </p:val>
                                        </p:tav>
                                        <p:tav tm="100000">
                                          <p:val>
                                            <p:strVal val="#ppt_w"/>
                                          </p:val>
                                        </p:tav>
                                      </p:tavLst>
                                    </p:anim>
                                    <p:anim calcmode="lin" valueType="num">
                                      <p:cBhvr additive="repl">
                                        <p:cTn id="26" dur="2000" fill="hold"/>
                                        <p:tgtEl>
                                          <p:spTgt spid="818"/>
                                        </p:tgtEl>
                                        <p:attrNameLst>
                                          <p:attrName>ppt_h</p:attrName>
                                        </p:attrNameLst>
                                      </p:cBhvr>
                                      <p:tavLst>
                                        <p:tav tm="0">
                                          <p:val>
                                            <p:fltVal val="0"/>
                                          </p:val>
                                        </p:tav>
                                        <p:tav tm="100000">
                                          <p:val>
                                            <p:strVal val="#ppt_h"/>
                                          </p:val>
                                        </p:tav>
                                      </p:tavLst>
                                    </p:anim>
                                    <p:animEffect filter="fade" transition="in">
                                      <p:cBhvr additive="repl">
                                        <p:cTn id="27" dur="20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23"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4</a:t>
            </a:r>
            <a:endParaRPr b="0" lang="en-US" sz="9600" spc="-1" strike="noStrike">
              <a:solidFill>
                <a:srgbClr val="000000"/>
              </a:solidFill>
              <a:latin typeface="Arial"/>
            </a:endParaRPr>
          </a:p>
        </p:txBody>
      </p:sp>
      <p:grpSp>
        <p:nvGrpSpPr>
          <p:cNvPr id="825" name="Группа 7"/>
          <p:cNvGrpSpPr/>
          <p:nvPr/>
        </p:nvGrpSpPr>
        <p:grpSpPr>
          <a:xfrm>
            <a:off x="3071880" y="2000160"/>
            <a:ext cx="5715000" cy="4286520"/>
            <a:chOff x="3071880" y="2000160"/>
            <a:chExt cx="5715000" cy="4286520"/>
          </a:xfrm>
        </p:grpSpPr>
        <p:sp>
          <p:nvSpPr>
            <p:cNvPr id="826"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6"/>
            <p:cNvSpPr/>
            <p:nvPr/>
          </p:nvSpPr>
          <p:spPr>
            <a:xfrm>
              <a:off x="3429000" y="2857320"/>
              <a:ext cx="50007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кўргазмалилигини таъминлаш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53">
                                  <p:stCondLst>
                                    <p:cond delay="0"/>
                                  </p:stCondLst>
                                  <p:childTnLst>
                                    <p:set>
                                      <p:cBhvr>
                                        <p:cTn id="33" dur="1" fill="hold">
                                          <p:stCondLst>
                                            <p:cond delay="0"/>
                                          </p:stCondLst>
                                        </p:cTn>
                                        <p:tgtEl>
                                          <p:spTgt spid="825"/>
                                        </p:tgtEl>
                                        <p:attrNameLst>
                                          <p:attrName>style.visibility</p:attrName>
                                        </p:attrNameLst>
                                      </p:cBhvr>
                                      <p:to>
                                        <p:strVal val="visible"/>
                                      </p:to>
                                    </p:set>
                                    <p:anim calcmode="lin" valueType="num">
                                      <p:cBhvr additive="repl">
                                        <p:cTn id="34" dur="2000" fill="hold"/>
                                        <p:tgtEl>
                                          <p:spTgt spid="825"/>
                                        </p:tgtEl>
                                        <p:attrNameLst>
                                          <p:attrName>ppt_w</p:attrName>
                                        </p:attrNameLst>
                                      </p:cBhvr>
                                      <p:tavLst>
                                        <p:tav tm="0">
                                          <p:val>
                                            <p:fltVal val="0"/>
                                          </p:val>
                                        </p:tav>
                                        <p:tav tm="100000">
                                          <p:val>
                                            <p:strVal val="#ppt_w"/>
                                          </p:val>
                                        </p:tav>
                                      </p:tavLst>
                                    </p:anim>
                                    <p:anim calcmode="lin" valueType="num">
                                      <p:cBhvr additive="repl">
                                        <p:cTn id="35" dur="2000" fill="hold"/>
                                        <p:tgtEl>
                                          <p:spTgt spid="825"/>
                                        </p:tgtEl>
                                        <p:attrNameLst>
                                          <p:attrName>ppt_h</p:attrName>
                                        </p:attrNameLst>
                                      </p:cBhvr>
                                      <p:tavLst>
                                        <p:tav tm="0">
                                          <p:val>
                                            <p:fltVal val="0"/>
                                          </p:val>
                                        </p:tav>
                                        <p:tav tm="100000">
                                          <p:val>
                                            <p:strVal val="#ppt_h"/>
                                          </p:val>
                                        </p:tav>
                                      </p:tavLst>
                                    </p:anim>
                                    <p:animEffect filter="fade" transition="in">
                                      <p:cBhvr additive="repl">
                                        <p:cTn id="36"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30"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5</a:t>
            </a:r>
            <a:endParaRPr b="0" lang="en-US" sz="9600" spc="-1" strike="noStrike">
              <a:solidFill>
                <a:srgbClr val="000000"/>
              </a:solidFill>
              <a:latin typeface="Arial"/>
            </a:endParaRPr>
          </a:p>
        </p:txBody>
      </p:sp>
      <p:grpSp>
        <p:nvGrpSpPr>
          <p:cNvPr id="832" name="Группа 7"/>
          <p:cNvGrpSpPr/>
          <p:nvPr/>
        </p:nvGrpSpPr>
        <p:grpSpPr>
          <a:xfrm>
            <a:off x="3071880" y="2000160"/>
            <a:ext cx="5715000" cy="4286520"/>
            <a:chOff x="3071880" y="2000160"/>
            <a:chExt cx="5715000" cy="4286520"/>
          </a:xfrm>
        </p:grpSpPr>
        <p:sp>
          <p:nvSpPr>
            <p:cNvPr id="833"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Box 6"/>
            <p:cNvSpPr/>
            <p:nvPr/>
          </p:nvSpPr>
          <p:spPr>
            <a:xfrm>
              <a:off x="3429000" y="2000160"/>
              <a:ext cx="50007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600" spc="-1" strike="noStrike">
                  <a:solidFill>
                    <a:srgbClr val="000000"/>
                  </a:solidFill>
                  <a:latin typeface="Arial"/>
                </a:rPr>
                <a:t>Ўқитишни онглилигини, таълим олувчининг мустақиллиги ва фаоллигини  таъминлаш талаблар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53">
                                  <p:stCondLst>
                                    <p:cond delay="0"/>
                                  </p:stCondLst>
                                  <p:childTnLst>
                                    <p:set>
                                      <p:cBhvr>
                                        <p:cTn id="42" dur="1" fill="hold">
                                          <p:stCondLst>
                                            <p:cond delay="0"/>
                                          </p:stCondLst>
                                        </p:cTn>
                                        <p:tgtEl>
                                          <p:spTgt spid="832"/>
                                        </p:tgtEl>
                                        <p:attrNameLst>
                                          <p:attrName>style.visibility</p:attrName>
                                        </p:attrNameLst>
                                      </p:cBhvr>
                                      <p:to>
                                        <p:strVal val="visible"/>
                                      </p:to>
                                    </p:set>
                                    <p:anim calcmode="lin" valueType="num">
                                      <p:cBhvr additive="repl">
                                        <p:cTn id="43" dur="2000" fill="hold"/>
                                        <p:tgtEl>
                                          <p:spTgt spid="832"/>
                                        </p:tgtEl>
                                        <p:attrNameLst>
                                          <p:attrName>ppt_w</p:attrName>
                                        </p:attrNameLst>
                                      </p:cBhvr>
                                      <p:tavLst>
                                        <p:tav tm="0">
                                          <p:val>
                                            <p:fltVal val="0"/>
                                          </p:val>
                                        </p:tav>
                                        <p:tav tm="100000">
                                          <p:val>
                                            <p:strVal val="#ppt_w"/>
                                          </p:val>
                                        </p:tav>
                                      </p:tavLst>
                                    </p:anim>
                                    <p:anim calcmode="lin" valueType="num">
                                      <p:cBhvr additive="repl">
                                        <p:cTn id="44" dur="2000" fill="hold"/>
                                        <p:tgtEl>
                                          <p:spTgt spid="832"/>
                                        </p:tgtEl>
                                        <p:attrNameLst>
                                          <p:attrName>ppt_h</p:attrName>
                                        </p:attrNameLst>
                                      </p:cBhvr>
                                      <p:tavLst>
                                        <p:tav tm="0">
                                          <p:val>
                                            <p:fltVal val="0"/>
                                          </p:val>
                                        </p:tav>
                                        <p:tav tm="100000">
                                          <p:val>
                                            <p:strVal val="#ppt_h"/>
                                          </p:val>
                                        </p:tav>
                                      </p:tavLst>
                                    </p:anim>
                                    <p:animEffect filter="fade" transition="in">
                                      <p:cBhvr additive="repl">
                                        <p:cTn id="45" dur="20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6:49:42Z</dcterms:created>
  <dc:creator>User</dc:creator>
  <dc:description/>
  <dc:language>en-US</dc:language>
  <cp:lastModifiedBy>Muhabbat opa</cp:lastModifiedBy>
  <dcterms:modified xsi:type="dcterms:W3CDTF">2015-08-27T07:03:31Z</dcterms:modified>
  <cp:revision>27</cp:revision>
  <dc:subject/>
  <dc:title>3 ­ маъруза. Таълимда ахборот технологиялари. Умумий маълумотлар</dc:title>
</cp:coreProperties>
</file>